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E03-94AF-44B5-A6DD-22EB2690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8BD-9D65-4557-A568-2655764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226-7AAB-4B79-A3DB-B616246C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3E9-C5D8-4F52-BFD6-6B35175C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E1E0-3BB0-4FFB-8838-D3CEB025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6847-418D-4B1B-8C9C-902EF356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85F2-8A4A-47C0-A68F-F75723BC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2130-50E8-4454-95C3-D53194EA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10D2-C4C1-4FCB-A3E1-F2EBB6B7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E604-4E2A-4742-9EA2-873B4B60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5C02-389A-489B-BA09-3E6E2DC7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009-7641-4542-86DC-10A11D21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DCF7-FB11-47ED-A37A-5A69C329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CBE8-34F4-4775-8168-27E6C576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B104-B971-46F9-AADB-90BE1219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9442-8238-49BE-963E-C7A65625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4AFF-C05E-4849-8C55-0A5D058E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E56-1167-4E83-96AF-4FFFCD5A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10E-DC37-49A2-B8C1-0ABE48FC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C9E-F648-4E9E-A697-47E6A2B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2C8-4724-4A26-8F5C-88A1BA4B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E14-8364-4364-99F2-79D5873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A74-425A-4E33-AA48-C30BECD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470-1349-458A-AA98-617F901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1F5F-07BB-4FD6-8403-AC305B821DB9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1442-0C76-49A4-A71D-3DED7E910ED1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45260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4360" y="53038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ЛЕНСТВО УКРАИНЫ ВО ВСЕМИРНОЙ ТОРГОВОЙ ОРГАНИЗАЦИИ: ВЫЗОВЫ СОВРЕМ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84360" y="1557360"/>
            <a:ext cx="845964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Ю. В. МАКОГ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ведующий кафедрой  «Международная экономика» ДонН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иректор Регионального филиала  Национального институ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х исследований в городе Донецк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служенный деятель науки и техники Украины, д.э.н., професс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И.В.ХАДЖИ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кторант Национального института стратегических исследований, ведущий научный  сотрудник  Регионального филиала  Национального института стратегических исследований в городе Донецк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.э.н., доц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547640" y="189000"/>
          <a:ext cx="2592720" cy="10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89000"/>
                    <a:ext cx="2592720" cy="1055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93" name="Object 4"/>
          <p:cNvGraphicFramePr/>
          <p:nvPr/>
        </p:nvGraphicFramePr>
        <p:xfrm>
          <a:off x="5867280" y="0"/>
          <a:ext cx="2664000" cy="151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0"/>
                    <a:ext cx="2664000" cy="1517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84360" y="11592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ны, против которых члены ВТО применили наибольшее количество антидемпинговых мер в период с 1995 по 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90720" y="1295280"/>
          <a:ext cx="7924680" cy="5151600"/>
        </p:xfrm>
        <a:graphic>
          <a:graphicData uri="http://schemas.openxmlformats.org/drawingml/2006/table">
            <a:tbl>
              <a:tblPr/>
              <a:tblGrid>
                <a:gridCol w="3963960"/>
                <a:gridCol w="396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ил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684360" y="0"/>
            <a:ext cx="8459640" cy="60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тенциальные рис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Вытеснение украинских товаров дешевым импорт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е таможенных тарифов влияет только на «эластичный» импорт, который составляет менее 30% всего объема импорта в денежном эквивален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вень таможенной защиты в Украине сравнительно низкий, большинство таможенных тарифов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%) на 1 январ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не превышает уровень, который имеют новые страны-члены ВТО (Албания, Эстония, Латвия, Литва, Молдова, Китай, Тайвань, Хорват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601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окращение прямой поддержки со стороны 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грожает дотационным отраслям сокращением производства и банкротством отдельных предпри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000080" y="55720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ующие ставки импортных пошлин в адвалорному эквиваленте в Украине на отдельные сельскохозяйственные товары, 2003-2008 г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684360" y="0"/>
            <a:ext cx="8459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84360" y="0"/>
            <a:ext cx="8459640" cy="65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тенциальные риски для промышленност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приятия ГМК Украины, как одного из базовых отраслей промышленности, деятельность которого в большей степени ориентирована на производство экспортноориентированной продукции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7% дохода бюджета, 9 место в мир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бъемам выплавленной стали и 7 место в мире – по экспорту металлопродук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тидемпинговые санкции к украинским производителям металла существенно ограничили географию экспорта и не позволили улучшить его структуру за счет поставок проката более высокой степени обработки, а не экологически  “грязных” и энергоемких в  производстве полуфабрикатов. По сравнению с 1995 г. производство готового прока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величивалось до 2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г. (н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)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2010 г. снизилось н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,4%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сравнению с базисным годом, 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заготовки для проката увеличилось поч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2 раз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 по сравнения с базисным показателе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им образом, наши металлургические предприятия продолжают обеспечивать сырьем собственных конкурентов за пределами Украин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755640" y="189000"/>
            <a:ext cx="820908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исоединении Украины к ВТО, для предприятий сферы услуг, на основании нашего анализа, появятся новые возможности для роста, поскольку значительная часть услуг предоставляемых на экспорт Украиной являются транспортными, которые сосредоточены в руках государственных компаний, например морские порты, железная дорога, трубопроводный транспорт, а мелкие компании начнут активнее создаваться в связи с либерализацией условий ведения бизнеса, открытия доступа к зарубежным ры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тношении, предприятий малого бизнеса либерализация как внутреннего так внешнего рынка тоже положительно скажется на динамике их разви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684360" y="0"/>
          <a:ext cx="8459640" cy="465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0"/>
                    <a:ext cx="845964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755640" y="472428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Динамика основных показателей внешней торговли товарами Украины за 2000-2011 гг., млрд. долл.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84360" y="5429160"/>
            <a:ext cx="8459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намика экспорта продукции главных экспортных отрас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611280" y="0"/>
            <a:ext cx="85327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684360" y="5786280"/>
            <a:ext cx="8173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 Динамика импорта легк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без учета импорта из стран СНГ) в 2008 г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учетом имеющихся 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 между Украиной и Россией, Беларусью и Казахстаном и узкой сосредоточенности Таможенного союза на вопросах торговли товарами, потенциальные выгоды от членства в Таможенном союзе для Украины - довольно ограничены. Среди основных преимуществ могли бы быть так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ьготные цены на га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ьготные цены на неф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соединение Украины к Таможенному союзу с Россией, Беларусью и Казахстаном возможно без серьезных осложнений при следующи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осле вступления России , Беларуси и Казахстана в В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ринятие Россией, Беларусью и Казахстаном торговых барьеров к третьим странам на уровне не выше, чем приняла Украина при вступлении в ВТ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Присоединение России, Беларуси и Казахстана уже в качестве членов ВТО к переговорам Украины относительно зоны свободной торговли (ЗСТ) с ЕС. Если Украина на этот момент уже будет иметь ЗСТ с ЕС, то ЗСТ будет образована на условиях, согласованных между  ЕС и четырьмя стра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Этапы присоединения и членства Украины в ВТО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93-2008 гг. – переговорный и подготовительный эта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8-2009 гг. – этап вступления, начало действия переходных положений, мировой кризи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9-2013 гг. – переходн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ленство в зоне свободной торговли или в таможенном союз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ками вступления Украины в Таможенный союз с Россией, Беларусью и Казахстаном без вышеуказанных условий буду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ыв существующего договора Украины с ВТО и начало переговоров с ВТО на новых услов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кращение переговоров с ЕС относительно зоны свободной торговли и отсрочка их к моменту вступления России, Беларуси и Казахстана в В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захстан, Российская Федерация и Беларусь не являются членами ВТО на их долю приходится больше 42% импорта Украины в 2011 году, все другие наибольшие страны-импортеры являются участниками ВТО и на них приходится почти 30% украинского импорта в 2011 г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Страны, экспорт товаров в Украину которых превышал </a:t>
            </a:r>
            <a:br>
              <a:rPr sz="24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1 млрд. долл. США за 11 месяцев 2011 г., млрд. долл. США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16000" y="1197000"/>
          <a:ext cx="7769160" cy="5029200"/>
        </p:xfrm>
        <a:graphic>
          <a:graphicData uri="http://schemas.openxmlformats.org/drawingml/2006/table">
            <a:tbl>
              <a:tblPr/>
              <a:tblGrid>
                <a:gridCol w="3884760"/>
                <a:gridCol w="388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экспорта в Украи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55640" y="188640"/>
            <a:ext cx="80755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раина не нарушит своих тарифных обязательств если  будет использоваться связанный тариф Украины при присоединении к Таможенному союзу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действующем тарифе Таможенного союза, Украине придется согласовывать эти изменения со всеми заинтересованными членами ВТО и выплачивать компенсации, поскольку импортные тарифы Таможенного союза часто превышают соответствующие ставки связанного тарифа в Украин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84596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расчете средней действующей пошлины в Украине были использованы такие предполож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вары с  2009 года существенным образом не изменялись (включая цены на импортированные энергоносител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лась общая ставка пошлины, а не льгот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расчета по группе 27 классификатора товаров  внешнеэкономической деятельности (энергетические материалы; нефть и продукты ее перегонки) были исключены объемы импорта из стран Таможенного сою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счет включены группы товаров, доля которых превышала 1% от общего объема импорта Украины. Исключение составляют группы 61 (одежда трикотажная) и 62 (одежда текстильная), различающиеся способом  изготовления тов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моженный тариф Таможенного союза -  это  в основном  адвалорные пошлины, а  Единый таможенный тариф Украины  - большинство пошлин специфические или комбинирован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55640" y="0"/>
            <a:ext cx="807552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чет сумм потерь или выигрышей от изменения торгового режима был проведен по формуле средней взвешенн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торгового режима влеч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оступлений в бюджет страны от импортных тариф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игрыш/проигрыш для потребителей, выигрыш потребителей обозначает потери бюджета и наоборо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ая сумма потерь для бюджета составит окол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,2 млрд. дол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мма потерь возрастет минимум на 20% от недополучения НДС от импортных тов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1640" y="188640"/>
            <a:ext cx="77691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ойдет изменение инвестиционных потоков (отток от 5 до 10 млрд. долл. США), большинство иностранных, в первую очередь европейских  инвесторов, потеряют интерес к украинской экономике, что  станет фактором деградации отечественного производства и свертывание экспорта, особенно в ЕС, стремительно будет возрастать  дефицит платежного баланса и как следствие дальнейшая  девальвация гри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Выводы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475920"/>
            <a:ext cx="8459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илия правительства и бизнеса  Украины должны быть сосредоточены на реализации следующих перспективных направл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изацию дальнейших мероприятий по поддержке экспорта отечественной продукции на внешние рынки: разработка закона о финансовой поддержки экспорта (страхование и кредитование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ширение номенклатуры товаров украинского экспорта за счет увеличения поставок высокотехнологической продук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широкой информационной системы внешней торговли и стимулирование малого и среднего бизне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стие в переговорах раунда Доха-развитие, с целью защиты национальных интересов и получения для страны преференций относительно обязательств  при вступлении новых член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1640" y="0"/>
            <a:ext cx="7769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ого мониторинга мировых цен на определенных товарных рынках, и прогнозирования конъюнктуры внутреннего и внешнего рынков промышленной и сельскохозяйственной продукции и информирование предприят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прозрачной среды для возможности предоставления услуг через Интернет для таких видов предпринимательской деятельности как  программирование, письменный перевод, дизайнерская деятельность; содействие развитию электронной торгов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формирования национальной системы технического регулирования  в соответствии с требованиями ВТО и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26920" y="404640"/>
            <a:ext cx="8137800" cy="46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льным началом процесса присоединения можно считать создание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17 декабря 1993 го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бочей группы по присоединению Украины к ГАТТ. В состав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абочей групп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краины входили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42 членов В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седания Рабочей группы являются одним из основных элементов процесса вступления в ВТО, на них подводятся промежуточные итоги и определяется степень готовности кандидата. </a:t>
            </a: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За пятнадцать л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оизошло </a:t>
            </a: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17 формальных заседа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бочей группы по рассмотрению заявки Украины о вступлении в В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 мая  2008 года Украина стала 152-м членом В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0"/>
          <p:cNvSpPr/>
          <p:nvPr/>
        </p:nvSpPr>
        <p:spPr>
          <a:xfrm>
            <a:off x="762120" y="201600"/>
            <a:ext cx="83818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ами Амошей А.И., Макогоном Ю.В., Хаджинов И.В. и др. в 2004 году была разработа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ика оценивания  народнохозяйственных  последствий присоединения Украины к В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ая  предназначена для анализа положительных и отрицательных  экономических эффектов, которые возникают вследствие  изменения режимов внешнеэкономической деятельности при присоединении  Украины к ВТО с точки зрения ее отраслевых особенностей в макроэкономическом и региональных аспект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62120" y="201600"/>
            <a:ext cx="83818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ика основывается  на особенностях регулирования внешнеэкономической деятельности, которые  закреплены действующим законодательством Украины и  нормами ВТО. Результаты по анализу экспортоориентированных отраслей промышленности Украины и сельского хозяйства Украины были изложены  в монографии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оединение Украины к Всемирной торговой организации: экономико-правовые аспекты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второв Макогона Ю.В., Хаджинова И.В. и др. в 2006 го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838080" y="609480"/>
            <a:ext cx="8153640" cy="4800240"/>
            <a:chOff x="838080" y="609480"/>
            <a:chExt cx="8153640" cy="4800240"/>
          </a:xfrm>
        </p:grpSpPr>
        <p:sp>
          <p:nvSpPr>
            <p:cNvPr id="101" name="Rectangle 3"/>
            <p:cNvSpPr/>
            <p:nvPr/>
          </p:nvSpPr>
          <p:spPr>
            <a:xfrm>
              <a:off x="4412160" y="609480"/>
              <a:ext cx="3686040" cy="711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озможные последствия вступления Украины в ВТ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3407040" y="1676160"/>
              <a:ext cx="2345400" cy="7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</a:rPr>
                <a:t>Потенциальные преимуществ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6646320" y="1676160"/>
              <a:ext cx="2345400" cy="7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Потенциальные рис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4412160" y="1498320"/>
              <a:ext cx="368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7"/>
            <p:cNvSpPr/>
            <p:nvPr/>
          </p:nvSpPr>
          <p:spPr>
            <a:xfrm>
              <a:off x="4412160" y="149832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6310800" y="1320480"/>
              <a:ext cx="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098200" y="149832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838080" y="2565000"/>
              <a:ext cx="2457360" cy="711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акроэкономический аспек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838080" y="3631680"/>
              <a:ext cx="2457360" cy="711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оизводите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838080" y="4698720"/>
              <a:ext cx="2457360" cy="711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требите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>
              <a:off x="3295440" y="2920680"/>
              <a:ext cx="48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3295440" y="3987720"/>
              <a:ext cx="48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3295440" y="5054400"/>
              <a:ext cx="48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4412160" y="238716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8098200" y="238716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8"/>
            <p:cNvSpPr/>
            <p:nvPr/>
          </p:nvSpPr>
          <p:spPr>
            <a:xfrm>
              <a:off x="4244760" y="2742840"/>
              <a:ext cx="334800" cy="355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9"/>
            <p:cNvSpPr/>
            <p:nvPr/>
          </p:nvSpPr>
          <p:spPr>
            <a:xfrm>
              <a:off x="4244760" y="3809880"/>
              <a:ext cx="334800" cy="3556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4244760" y="4876560"/>
              <a:ext cx="334800" cy="355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1"/>
            <p:cNvSpPr/>
            <p:nvPr/>
          </p:nvSpPr>
          <p:spPr>
            <a:xfrm>
              <a:off x="7930440" y="2742840"/>
              <a:ext cx="335160" cy="355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22"/>
            <p:cNvSpPr/>
            <p:nvPr/>
          </p:nvSpPr>
          <p:spPr>
            <a:xfrm>
              <a:off x="7930440" y="3809880"/>
              <a:ext cx="335160" cy="355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23"/>
            <p:cNvSpPr/>
            <p:nvPr/>
          </p:nvSpPr>
          <p:spPr>
            <a:xfrm>
              <a:off x="7930440" y="4876560"/>
              <a:ext cx="335160" cy="355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Text Box 24"/>
          <p:cNvSpPr/>
          <p:nvPr/>
        </p:nvSpPr>
        <p:spPr>
          <a:xfrm>
            <a:off x="684360" y="573408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рица последствий вступления Украины в В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0"/>
            <a:ext cx="8459640" cy="65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504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акроэкономические преимуще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504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корение структурной реформы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недрение рыночных механизмов регулирования экономики и создания стимула для увеличения конкурентоспособ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504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репление международных экономических позиций Украины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частности, в отношениях с партнерами по СНГ; увеличение политического авторитета, выполнение условий создания зоны свободной торговли с 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504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можность полноправного и обоснованного применения методов защиты внутреннего рын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оответствии с соглашениями ВТО, в частности, статьи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ХІ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АТТ об ограничении для сохранения равновесия платежного баланса, соглашения о защитных мерах, о сельском хозяйстве, о субсидиях, а также стать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ТТ об антидемпинговых и компенсационных мер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504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еличение поступления в госбюдж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 благодаря увеличению экспорта отечественной продукции, так и благодаря увеличению легального экспорта, детенизации, которого будет способствовать общая либерализа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504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учшение инвестиционного клима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504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е новых высоки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усиление стимула для инновационной деятельности благодаря улучшению защиты интеллектуальной собств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84360" y="0"/>
            <a:ext cx="8459640" cy="63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9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 для производител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93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ощение доступа на мировые рын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раинских товаров не только автоматически, благодаря статусу члена ВТО, но и вследствие применения общепризнанных международных стандартов, санитарных и фитосанитарных нор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93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ьшение затрат экспортеров от применения дискриминационных антидемпинговых механизм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93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ьшение стоимости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 соответственно, повышение конкурентоспособности украинских товаров благодаря таким факторам к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1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ьшение коммерческих рис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следствие существования более стабильного режима торгов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1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ьшение затр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следствие отказа от различных стандартов для внутреннего рынка и экспорта (например, благодаря обоюдному признанию процедур оценки соответствия продукции затраты на сертификацию и проверку соответствия могут уменьшится на 3-5% в зависимости от вида продукци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1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ьшение транспортных затр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лагодаря гарантированному свободному транзиту товаров по территории стран-членов ВТ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1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ешевление кредитных ресур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лагодаря либерализации рынка финансовых и банковских услуг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84360" y="0"/>
            <a:ext cx="845964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4572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 для производител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457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можность применения механизмов урегулирования торговых спо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457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нение общих правил ВТ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ленных против протекционизма и дискриминации в торговле, создаст прозрачную и прогнозируемую среду для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4360" y="3429000"/>
            <a:ext cx="84596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 для потребител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ение ассортимен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качества товаров и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нижение цены на товары и услуг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то в итоге приведет к росту уровня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20:14:42Z</dcterms:created>
  <dc:creator>IELaptop</dc:creator>
  <dc:description/>
  <dc:language>en-US</dc:language>
  <cp:lastModifiedBy>SHUBA</cp:lastModifiedBy>
  <dcterms:modified xsi:type="dcterms:W3CDTF">2012-02-16T08:39:13Z</dcterms:modified>
  <cp:revision>188</cp:revision>
  <dc:subject/>
  <dc:title>Презентация PowerPoint</dc:title>
</cp:coreProperties>
</file>