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09797-861D-4DB1-9F62-D7AE4D67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12EB-9D8E-4B2E-8D15-077FD6CE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35757-454F-4A87-A493-F0BA53DE1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E72EF-D7F5-4C49-A84F-E16E1FB1D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57F2B-6493-4D2F-9582-27A7A3FC9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5279C-D062-4A6C-8F49-F2B1B4C8E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E1C46-758D-4C7F-8E2E-DBB5904D2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10782-7E70-417B-9B49-410B25B22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AEC13-7801-4EAB-8585-1386C175E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911AD-84CC-425B-AC07-019B97E24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8690D-7157-458B-9C1F-4E76958E8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F6C23-73C1-47A8-BBD1-18764FB2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7990E-D4E4-4BCB-8980-A46960DC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8AA3A-010E-4FBB-ABC8-2618B97F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0427F-F56F-43A7-9D57-DF5F04B9F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E3B10-BEDD-4B84-8D0B-EB0AC69B5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12ED3-3B24-409F-BF5D-771170B2F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29EF-0700-4DCC-9008-97F20266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FF65-D325-4872-8D61-3A9A3BCE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F352D-0072-49BA-9EEF-0225D693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C2805-5EE4-4A29-BAC3-072CFBD0D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36CD-216C-41BD-AD3D-2C13FAE6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55B0-D1BD-4136-8805-51088FB0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5175-AADA-4C2F-875E-5DB53AD33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5B25-A32A-4AEA-B9B3-0431AB7E3AA1}"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B596-2268-40FF-AC09-39F47190350F}"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6666"/>
                </a:solidFill>
                <a:latin typeface="Arial"/>
              </a:rPr>
              <a:t>WTO Dispute Settlement Practice</a:t>
            </a:r>
            <a:endParaRPr b="0" lang="en-US" sz="4000" spc="-1" strike="noStrike">
              <a:solidFill>
                <a:srgbClr val="006666"/>
              </a:solidFill>
              <a:latin typeface="Arial"/>
            </a:endParaRPr>
          </a:p>
        </p:txBody>
      </p:sp>
      <p:sp>
        <p:nvSpPr>
          <p:cNvPr id="91" name="PlaceHolder 2"/>
          <p:cNvSpPr>
            <a:spLocks noGrp="1"/>
          </p:cNvSpPr>
          <p:nvPr>
            <p:ph type="subTitle"/>
          </p:nvPr>
        </p:nvSpPr>
        <p:spPr>
          <a:xfrm>
            <a:off x="1402920" y="2852280"/>
            <a:ext cx="7239240" cy="175284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Donetsk, International Expert Seminar </a:t>
            </a:r>
            <a:endParaRPr b="0" lang="en-US" sz="2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bruary</a:t>
            </a:r>
            <a:r>
              <a:rPr b="0" lang="de-DE" sz="2000" spc="-1" strike="noStrike">
                <a:solidFill>
                  <a:srgbClr val="000000"/>
                </a:solidFill>
                <a:latin typeface="Verdana"/>
              </a:rPr>
              <a:t> 10-11, 2012</a:t>
            </a:r>
            <a:endParaRPr b="0" lang="en-US" sz="20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Prof. Dr. Friedl Weiss</a:t>
            </a:r>
            <a:endParaRPr b="0" lang="en-US" sz="28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Institute for European, International and Comparative Law - University of Vienn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981000"/>
            <a:ext cx="7239240" cy="165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lombia – Indicative Prices and Restrictions </a:t>
            </a:r>
            <a:br>
              <a:rPr sz="3600"/>
            </a:br>
            <a:r>
              <a:rPr b="0" lang="en-US" sz="3600" spc="-1" strike="noStrike">
                <a:solidFill>
                  <a:srgbClr val="006666"/>
                </a:solidFill>
                <a:latin typeface="Arial"/>
              </a:rPr>
              <a:t>on Ports of Entry</a:t>
            </a:r>
            <a:endParaRPr b="0" lang="en-US" sz="3600" spc="-1" strike="noStrike">
              <a:solidFill>
                <a:srgbClr val="006666"/>
              </a:solidFill>
              <a:latin typeface="Arial"/>
            </a:endParaRPr>
          </a:p>
        </p:txBody>
      </p:sp>
      <p:sp>
        <p:nvSpPr>
          <p:cNvPr id="116"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Dispute DS366</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5D4A-E19F-485F-89A5-4DEF63CC8A90}"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Complainant: Panam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Respondent: Colombi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22 October 2007</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27 April 2009</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of AB Report: 20 May 2009</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B6EF-B8E1-4CA9-A9B4-9A7731FE68D3}"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s and products at issue</a:t>
            </a:r>
            <a:endParaRPr b="0" lang="en-US" sz="3600" spc="-1" strike="noStrike">
              <a:solidFill>
                <a:srgbClr val="006666"/>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Measures at issue</a:t>
            </a:r>
            <a:r>
              <a:rPr b="0" lang="de-AT" sz="2500" spc="-1" strike="noStrike">
                <a:solidFill>
                  <a:srgbClr val="000000"/>
                </a:solidFill>
                <a:latin typeface="Verdana"/>
              </a:rPr>
              <a:t>: Colombian customs regulations establishing the use of indicative prices and restrictions on ports of entr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Products at issue</a:t>
            </a:r>
            <a:r>
              <a:rPr b="0" lang="de-AT" sz="2500" spc="-1" strike="noStrike">
                <a:solidFill>
                  <a:srgbClr val="000000"/>
                </a:solidFill>
                <a:latin typeface="Verdana"/>
              </a:rPr>
              <a:t>: Certain textiles, apparel and footwear classifiable under HS Chapters 50-64 of Colombia's Tariff Schedule, which were exported and re- exported from the Colon Free Zone ("CFZ") and Panama to Colombi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F3B2-C993-4CA3-BFB9-7967FC3A7A04}"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Customs Valuation Agreement Arts. 1, 2, 3, 5, 6, and 7.2(b) and (f)</a:t>
            </a:r>
            <a:r>
              <a:rPr b="0" lang="de-AT" sz="2100" spc="-1" strike="noStrike">
                <a:solidFill>
                  <a:srgbClr val="000000"/>
                </a:solidFill>
                <a:latin typeface="Verdana"/>
              </a:rPr>
              <a:t> (Indicative Price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Panel found that:</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Colombia's use of indicative prices constituted customs valuation and that the measures establishing indicative prices, by mandating their use for customs valuation purposes, were inconsistent "as such" with the obligation established in the Customs Valuation Agreement to apply, in a sequential manner, the methods of valuation provided in Arts. 1, 2, 3, 5 and 6 of the Agreement. </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by mandating the use of the higher of two values, or a minimum price as the customs value of subject goods, the measures were inconsistent "as such" with Art. 7.2(b) and (f).</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F28D-BE8C-4FCE-9878-4017C63B80B1}"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GATT Art. XI:1:</a:t>
            </a:r>
            <a:r>
              <a:rPr b="0" lang="de-AT" sz="2500" spc="-1" strike="noStrike">
                <a:solidFill>
                  <a:srgbClr val="000000"/>
                </a:solidFill>
                <a:latin typeface="Verdana"/>
              </a:rPr>
              <a:t> Import restrictions (Ports of entry measur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Panel found that Colombia's prohibition of the importation of textiles, footwear and apparel from Panama or the CFZ except at the ports of Bogota and Barranquilla, was a prohibited restriction on importation within the meaning of Art. XI:1 of the GATT 1994.</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1801-047F-49CD-8195-0C99C262886D}"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GATT Art. I:1:</a:t>
            </a:r>
            <a:r>
              <a:rPr b="0" lang="de-AT" sz="2100" spc="-1" strike="noStrike">
                <a:solidFill>
                  <a:srgbClr val="000000"/>
                </a:solidFill>
                <a:latin typeface="Verdana"/>
              </a:rPr>
              <a:t> MFN (Advance declaration and legalization requirement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Panel found that, by subjecting textile, apparel and footwear imports arriving from Panama and the CFZ to an advance import declaration requirement, which thereby requires payment of customs duties and sales tax in advance and prevents importers from inspecting goods on site upon arrival in order to verify the accuracy of the declaration, Colombia confers advantages upon like products from all other WTO Members that are not extended immediately and unconditionally to textile, apparel and footwear imports from Panama and the CFZ in violation of GATT Art. I.1.</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1B4B-FF6B-45B5-8FC3-43DDDB122AD8}"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GATT Art. V:2:</a:t>
            </a:r>
            <a:r>
              <a:rPr b="0" lang="de-AT" sz="2100" spc="-1" strike="noStrike">
                <a:solidFill>
                  <a:srgbClr val="000000"/>
                </a:solidFill>
                <a:latin typeface="Verdana"/>
              </a:rPr>
              <a:t> "Freedom of transit" for "traffic in transit" (Ports of entry measur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By requiring that goods undergo trans-shipment in order to proceed in international transit, the Panel found that Colombia failed to extend freedom of transit via the most convenient routes to goods arriving from Panama in international transit within the meaning of GATT Art. V:2, first sentence, as informed by Art. V:1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Panel also found that Colombia made distinctions based on the place of origin or departure of textiles, apparel and footwear arriving from Panama or the CFZ, in violation of Art. V:2, second senten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8957-D6CF-4F45-A8F9-22DF7FEBE215}"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GATT Art. XX(d):</a:t>
            </a:r>
            <a:r>
              <a:rPr b="0" lang="de-AT" sz="2900" spc="-1" strike="noStrike">
                <a:solidFill>
                  <a:srgbClr val="000000"/>
                </a:solidFill>
                <a:latin typeface="Verdana"/>
              </a:rPr>
              <a:t> Necessary to secure compliance (Ports of entry measure):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The Panel found that Colombia failed to establish that the ports of entry measure is necessary to ensure compliance with Colombian customs laws and regulations under GATT Art. XX(d).</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2520" y="985320"/>
            <a:ext cx="7239240" cy="172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uropean Communities – Measures Affecting Asbestos and Asbestos-Containing Products</a:t>
            </a:r>
            <a:endParaRPr b="0" lang="en-US" sz="3600" spc="-1" strike="noStrike">
              <a:solidFill>
                <a:srgbClr val="006666"/>
              </a:solidFill>
              <a:latin typeface="Arial"/>
            </a:endParaRPr>
          </a:p>
        </p:txBody>
      </p:sp>
      <p:sp>
        <p:nvSpPr>
          <p:cNvPr id="139"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13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0D09-6707-4F98-BE80-F896E672B571}"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Complainant: Canad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Respondent: European Communit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25 November 1998</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18 September 200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of AB Report: 5 April 200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2520" y="1484280"/>
            <a:ext cx="723924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6666"/>
                </a:solidFill>
                <a:latin typeface="Arial"/>
              </a:rPr>
              <a:t>Thailand — Customs and Fiscal Measures on Cigarettes from the Philippines</a:t>
            </a:r>
            <a:endParaRPr b="0" lang="en-US" sz="3600" spc="-1" strike="noStrike">
              <a:solidFill>
                <a:srgbClr val="006666"/>
              </a:solidFill>
              <a:latin typeface="Arial"/>
            </a:endParaRPr>
          </a:p>
        </p:txBody>
      </p:sp>
      <p:sp>
        <p:nvSpPr>
          <p:cNvPr id="93" name="PlaceHolder 2"/>
          <p:cNvSpPr>
            <a:spLocks noGrp="1"/>
          </p:cNvSpPr>
          <p:nvPr>
            <p:ph type="subTitle"/>
          </p:nvPr>
        </p:nvSpPr>
        <p:spPr>
          <a:xfrm>
            <a:off x="1476360" y="3499920"/>
            <a:ext cx="7238880" cy="175284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37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DE50-5567-43D3-82CF-94E7F6C76D34}"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 and products at issue</a:t>
            </a:r>
            <a:endParaRPr b="0" lang="en-US"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Measure at issue</a:t>
            </a:r>
            <a:r>
              <a:rPr b="0" lang="de-AT" sz="2900" spc="-1" strike="noStrike">
                <a:solidFill>
                  <a:srgbClr val="000000"/>
                </a:solidFill>
                <a:latin typeface="Verdana"/>
              </a:rPr>
              <a:t>: France's ban on asbestos (Decree No. 96-1133).</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Products at issue</a:t>
            </a:r>
            <a:r>
              <a:rPr b="0" lang="de-AT" sz="2900" spc="-1" strike="noStrike">
                <a:solidFill>
                  <a:srgbClr val="000000"/>
                </a:solidFill>
                <a:latin typeface="Verdana"/>
              </a:rPr>
              <a:t>: Imported asbestos (and products containing asbestos) </a:t>
            </a:r>
            <a:r>
              <a:rPr b="0" i="1" lang="de-AT" sz="2900" spc="-1" strike="noStrike">
                <a:solidFill>
                  <a:srgbClr val="000000"/>
                </a:solidFill>
                <a:latin typeface="Verdana"/>
              </a:rPr>
              <a:t>vs. </a:t>
            </a:r>
            <a:r>
              <a:rPr b="0" lang="de-AT" sz="2900" spc="-1" strike="noStrike">
                <a:solidFill>
                  <a:srgbClr val="000000"/>
                </a:solidFill>
                <a:latin typeface="Verdana"/>
              </a:rPr>
              <a:t>certain domestic substitutes such as PVA, cellulose and glass ("PCG") fibres (and products containing such substitut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92D9-867A-4679-BF08-9482A892FE81}"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TBT Annex 1.1</a:t>
            </a:r>
            <a:r>
              <a:rPr b="0" lang="de-AT" sz="2100" spc="-1" strike="noStrike">
                <a:solidFill>
                  <a:srgbClr val="000000"/>
                </a:solidFill>
                <a:latin typeface="Verdana"/>
              </a:rPr>
              <a:t> ("technical regulat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ppellate Body, having rejected the Panel's approach of separating the measure into the ban and the exceptions, reversed the Panel and concluded that the ban as an "integrated whole" was a "technical regulation" as defined in Annex 1.1 and thus covered by the TBT Agreement, as (i) the products subject to the ban were identifiable by reference to their characteristics (i.e. any products containing asbestos) and (ii) compliance with the ban was mandatory.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However, the AB did not complete the legal analysis of Canada's TBT claims as it did not have an "adequate basis" upon which to examine the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DA2B-1FF8-49CB-9169-CBBE5A7DDE3D}"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900" spc="-1" strike="noStrike">
                <a:solidFill>
                  <a:srgbClr val="000000"/>
                </a:solidFill>
                <a:latin typeface="Verdana"/>
              </a:rPr>
              <a:t>GATT Art. III:4</a:t>
            </a:r>
            <a:r>
              <a:rPr b="0" lang="de-AT" sz="1900" spc="-1" strike="noStrike">
                <a:solidFill>
                  <a:srgbClr val="000000"/>
                </a:solidFill>
                <a:latin typeface="Verdana"/>
              </a:rPr>
              <a:t> (national treatmen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Having found insufficient the Panel's likeness analysis between asbestos and PCG fibres and between cement-based products containing asbestos and those containing PCG fibres, the Appellate Body reversed the Panel's findings that the products at issue were like and that the measure was inconsistent with Art. III:4.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 AB emphasized a competitive relationship between products as an important factor in determining likeness in the context of Art. III:4.</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n the AB concluded that Canada had failed to demonstrate the likeness between either set of products, and, thus, to prove that the measure was inconsistent with Art. III:4.</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6F1A-CBE5-4B8F-99B9-35639121F536}"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GATT Art. XX(b)</a:t>
            </a:r>
            <a:r>
              <a:rPr b="0" lang="de-AT" sz="2100" spc="-1" strike="noStrike">
                <a:solidFill>
                  <a:srgbClr val="000000"/>
                </a:solidFill>
                <a:latin typeface="Verdana"/>
              </a:rPr>
              <a:t> (exception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Having agreed with the Panel that the measure "protects human life or health" and that "no reasonably available alternative measure" existed, the Appellate Body upheld the Panel's finding that the ban was justified as an exception under Art. XX(b).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Panel also found that the measure satisfied the conditions of the Art. XX chapeau, as the measure neither led to arbitrary or unjustifiable discrimination, nor constituted a disguised restriction on international trad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European Communities – Trade Description of Sardines</a:t>
            </a:r>
            <a:endParaRPr b="0" lang="en-US" sz="4000" spc="-1" strike="noStrike">
              <a:solidFill>
                <a:srgbClr val="006666"/>
              </a:solidFill>
              <a:latin typeface="Arial"/>
            </a:endParaRPr>
          </a:p>
        </p:txBody>
      </p:sp>
      <p:sp>
        <p:nvSpPr>
          <p:cNvPr id="156"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32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7A32-32B4-43E6-8C01-F45D9D40B32C}"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Complainant: Peru</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Respondent: European Communitie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24 July 2001</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29 May 2002</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AB Report: 26 September 2002</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23 October 2002</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3D69-201A-4EAA-AB94-FE532A49396C}"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 and product at issue</a:t>
            </a: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Measure at issue</a:t>
            </a:r>
            <a:r>
              <a:rPr b="0" lang="de-AT" sz="2100" spc="-1" strike="noStrike">
                <a:solidFill>
                  <a:srgbClr val="000000"/>
                </a:solidFill>
                <a:latin typeface="Verdana"/>
              </a:rPr>
              <a:t>: EC Regulation establishing common marketing standards for preserved sardines, including a specification that only products prepared from </a:t>
            </a:r>
            <a:r>
              <a:rPr b="0" i="1" lang="de-AT" sz="2100" spc="-1" strike="noStrike">
                <a:solidFill>
                  <a:srgbClr val="000000"/>
                </a:solidFill>
                <a:latin typeface="Verdana"/>
              </a:rPr>
              <a:t>Sardina pilchardus </a:t>
            </a:r>
            <a:r>
              <a:rPr b="0" lang="de-AT" sz="2100" spc="-1" strike="noStrike">
                <a:solidFill>
                  <a:srgbClr val="000000"/>
                </a:solidFill>
                <a:latin typeface="Verdana"/>
              </a:rPr>
              <a:t>could be marketed/labelled as preserved sardin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Product at issue</a:t>
            </a:r>
            <a:r>
              <a:rPr b="0" lang="de-AT" sz="2100" spc="-1" strike="noStrike">
                <a:solidFill>
                  <a:srgbClr val="000000"/>
                </a:solidFill>
                <a:latin typeface="Verdana"/>
              </a:rPr>
              <a:t>: Two species of sardines found in different waters – </a:t>
            </a:r>
            <a:r>
              <a:rPr b="0" i="1" lang="de-AT" sz="2100" spc="-1" strike="noStrike">
                <a:solidFill>
                  <a:srgbClr val="000000"/>
                </a:solidFill>
                <a:latin typeface="Verdana"/>
              </a:rPr>
              <a:t>Sardina pilchardus Walbaum </a:t>
            </a:r>
            <a:r>
              <a:rPr b="0" lang="de-AT" sz="2100" spc="-1" strike="noStrike">
                <a:solidFill>
                  <a:srgbClr val="000000"/>
                </a:solidFill>
                <a:latin typeface="Verdana"/>
              </a:rPr>
              <a:t>(mainly in Eastern North Atlantic, in the Mediterranean Sea and the Black Sea) and </a:t>
            </a:r>
            <a:r>
              <a:rPr b="0" i="1" lang="de-AT" sz="2100" spc="-1" strike="noStrike">
                <a:solidFill>
                  <a:srgbClr val="000000"/>
                </a:solidFill>
                <a:latin typeface="Verdana"/>
              </a:rPr>
              <a:t>Sardinops sagax sagax </a:t>
            </a:r>
            <a:r>
              <a:rPr b="0" lang="de-AT" sz="2100" spc="-1" strike="noStrike">
                <a:solidFill>
                  <a:srgbClr val="000000"/>
                </a:solidFill>
                <a:latin typeface="Verdana"/>
              </a:rPr>
              <a:t>(mainly in the Eastern Pacific along coasts of Peru and Chil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1265-753E-40DB-917B-F87615AD40A0}"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TBT Agreement Annex 1.1</a:t>
            </a:r>
            <a:r>
              <a:rPr b="0" lang="de-AT" sz="2100" spc="-1" strike="noStrike">
                <a:solidFill>
                  <a:srgbClr val="000000"/>
                </a:solidFill>
                <a:latin typeface="Verdana"/>
              </a:rPr>
              <a:t> (technical regulation):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ppellate Body upheld the Panel's finding that the EC Regulation </a:t>
            </a:r>
            <a:r>
              <a:rPr b="0" i="1" lang="de-AT" sz="2100" spc="-1" strike="noStrike">
                <a:solidFill>
                  <a:srgbClr val="000000"/>
                </a:solidFill>
                <a:latin typeface="Verdana"/>
              </a:rPr>
              <a:t>was </a:t>
            </a:r>
            <a:r>
              <a:rPr b="0" lang="de-AT" sz="2100" spc="-1" strike="noStrike">
                <a:solidFill>
                  <a:srgbClr val="000000"/>
                </a:solidFill>
                <a:latin typeface="Verdana"/>
              </a:rPr>
              <a:t>a "technical regulation" within the meaning of Annex 1.1 as it fulfilled the three criteria laid down in the AB report in </a:t>
            </a:r>
            <a:r>
              <a:rPr b="0" i="1" lang="de-AT" sz="2100" spc="-1" strike="noStrike">
                <a:solidFill>
                  <a:srgbClr val="000000"/>
                </a:solidFill>
                <a:latin typeface="Verdana"/>
              </a:rPr>
              <a:t>EC – Asbestos: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 the document applied to an identifiable product or group of products;</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 </a:t>
            </a:r>
            <a:r>
              <a:rPr b="0" lang="de-AT" sz="1900" spc="-1" strike="noStrike">
                <a:solidFill>
                  <a:srgbClr val="000000"/>
                </a:solidFill>
                <a:latin typeface="Verdana"/>
              </a:rPr>
              <a:t>(ii) it lays down one or more product characteristics; and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ii) compliance with the product characteristics was mandatory.</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3204-7767-4A84-A127-86864BFFB876}"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TBT Agreement Art. 2.4</a:t>
            </a:r>
            <a:r>
              <a:rPr b="0" lang="de-AT" sz="2500" spc="-1" strike="noStrike">
                <a:solidFill>
                  <a:srgbClr val="000000"/>
                </a:solidFill>
                <a:latin typeface="Verdana"/>
              </a:rPr>
              <a:t> (relevant international standar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ppellate Body upheld the Panel's finding that the definition of "standard" does not require that a standard adopted by a "recognized body" be approved by consensu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refore, the standard in question, Codex Stan 94, fell within the scope of Art. 2.4 as well.</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D774-78D6-4767-846D-C1F1AF6740AF}"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Verdana"/>
              </a:rPr>
              <a:t>TBT Agreement Art. 2.4</a:t>
            </a:r>
            <a:r>
              <a:rPr b="0" lang="de-AT" sz="2200" spc="-1" strike="noStrike">
                <a:solidFill>
                  <a:srgbClr val="000000"/>
                </a:solidFill>
                <a:latin typeface="Verdana"/>
              </a:rPr>
              <a:t> (burden of proof): </a:t>
            </a:r>
            <a:endParaRPr b="0" lang="en-US" sz="2200" spc="-1" strike="noStrike">
              <a:solidFill>
                <a:srgbClr val="000000"/>
              </a:solidFill>
              <a:latin typeface="Verdana"/>
            </a:endParaRPr>
          </a:p>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The AB reversed the Panel's finding that the EC had the burden of proving that the relevant international standard was ineffective and inappropriate under Art. 2.4 and found, instead, that the burden rested on Peru to prove that the standard was effective and appropriate to fulfil the legitimate objectives pursued by the European Communities through the EC Regul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1485-3AAB-4A74-BDF3-6FCA5DA763CB}"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omplainant: Philippines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Respondent: Thailand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17 November 2008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15 November 2010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of AB Report: 15 July 2011</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55F8-DE6A-4349-84DF-958317EA4E08}"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7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B upheld the Panel's alternative finding that Peru had adduced sufficient evidence and legal arguments to demonstrate that the international standard was not ineffective or inappropriate to fulfil the legitimate objectives pursued by the EC (of market transparency, consumer protection and fair competition), since it had not been established that most consumers in most member states of the European Communities have always associated the common name "sardines" only with </a:t>
            </a:r>
            <a:r>
              <a:rPr b="0" i="1" lang="de-AT" sz="2100" spc="-1" strike="noStrike">
                <a:solidFill>
                  <a:srgbClr val="000000"/>
                </a:solidFill>
                <a:latin typeface="Verdana"/>
              </a:rPr>
              <a:t>Sardina pilchardus Walbaum.</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6666"/>
                </a:solidFill>
                <a:latin typeface="Arial"/>
              </a:rPr>
              <a:t> </a:t>
            </a:r>
            <a:br>
              <a:rPr sz="3600"/>
            </a:br>
            <a:r>
              <a:rPr b="0" lang="en-US" sz="3600" spc="-1" strike="noStrike">
                <a:solidFill>
                  <a:srgbClr val="006666"/>
                </a:solidFill>
                <a:latin typeface="Arial"/>
              </a:rPr>
              <a:t> </a:t>
            </a:r>
            <a:r>
              <a:rPr b="0" lang="en-US" sz="3600" spc="-1" strike="noStrike">
                <a:solidFill>
                  <a:srgbClr val="006666"/>
                </a:solidFill>
                <a:latin typeface="Arial"/>
              </a:rPr>
              <a:t>United States — Certain Country of Origin Labelling Requirements</a:t>
            </a:r>
            <a:endParaRPr b="0" lang="en-US" sz="3600" spc="-1" strike="noStrike">
              <a:solidFill>
                <a:srgbClr val="006666"/>
              </a:solidFill>
              <a:latin typeface="Arial"/>
            </a:endParaRPr>
          </a:p>
        </p:txBody>
      </p:sp>
      <p:sp>
        <p:nvSpPr>
          <p:cNvPr id="176"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384</a:t>
            </a: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Short title: US - COO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D4D2-09FE-45E0-8FD5-098CB4AC1A89}"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17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lainant: Canad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pondent: United Stat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19 November 2009 (single panel established to examine this dispute and dispute DS386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18 November 2011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7FD9-EEE1-421A-A1DD-B404F6DA641D}"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s at issue</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Measures at issue</a:t>
            </a:r>
            <a:r>
              <a:rPr b="0" lang="de-AT"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i) statutory provisions and implementing regulations setting out the United States' mandatory country of origin labelling regime for beef and pork (“COOL measur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ii) a letter issued by the US Secretary of Agriculture Vilsack on the implementation of the COOL measure (“Vilsack letter”) </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66EA-6077-4B24-9617-1466607ADB98}"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a:t>
            </a:r>
            <a:endParaRPr b="0" lang="en-US" sz="3600" spc="-1" strike="noStrike">
              <a:solidFill>
                <a:srgbClr val="006666"/>
              </a:solidFill>
              <a:latin typeface="Arial"/>
            </a:endParaRPr>
          </a:p>
        </p:txBody>
      </p:sp>
      <p:sp>
        <p:nvSpPr>
          <p:cNvPr id="18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OL measure: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he Panel determined that the COOL measure is a technical regulation under the TBT Agreement, and that it is inconsistent with the United States' WTO obligations.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In particular, the Panel found that the COOL measure violates Article 2.1 of the TBT Agreement by according less favourable treatment to imported Canadian cattle and hogs than to like domestic products.  </a:t>
            </a:r>
            <a:endParaRPr b="0" lang="en-US" sz="20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he Panel also found that the COOL measure does not fulfil its legitimate objective of providing consumers with information on origin, and therefore violates Article 2.2 of the TBT Agreement.</a:t>
            </a:r>
            <a:br>
              <a:rPr sz="2000"/>
            </a:br>
            <a:r>
              <a:rPr b="0" lang="de-AT" sz="1900" spc="-1" strike="noStrike">
                <a:solidFill>
                  <a:srgbClr val="000000"/>
                </a:solidFill>
                <a:latin typeface="Verdana"/>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4871-A9CD-4F8E-B944-28A7DBA9EC38}"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8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Verdana"/>
              </a:rPr>
              <a:t>Vilsack letter</a:t>
            </a:r>
            <a:r>
              <a:rPr b="0" lang="de-DE" sz="2100" spc="-1" strike="noStrike">
                <a:solidFill>
                  <a:srgbClr val="000000"/>
                </a:solidFill>
                <a:latin typeface="Verdana"/>
              </a:rPr>
              <a: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As regards the Vilsack letter, the Panel found that the letter's “suggestions for voluntary action” went beyond certain obligations under the COOL measure, and that the letter therefore constitutes unreasonable administration of the COOL measure in violation of Article X:3(a) of the GATT 1994.  The Panel refrained from reviewing the Vilsack letter under the TBT Agreement, as it found that this letter is not a technical regulation under that agreement.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E6DB-90A0-40EE-B917-C3236EE87D30}"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In light of the above findings of violation, the Panel did not consider it necessary to rule on the claims under Article III:4 of the GATT 1994 (national treatment) or on the non‑violation claims under Article XXIII:1(b) of the GATT 1994.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985320"/>
            <a:ext cx="7239240" cy="165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uropean Communities – Measures Concerning Meat and Meat Products</a:t>
            </a:r>
            <a:endParaRPr b="0" lang="en-US" sz="3600" spc="-1" strike="noStrike">
              <a:solidFill>
                <a:srgbClr val="006666"/>
              </a:solidFill>
              <a:latin typeface="Arial"/>
            </a:endParaRPr>
          </a:p>
        </p:txBody>
      </p:sp>
      <p:sp>
        <p:nvSpPr>
          <p:cNvPr id="193"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s DS26, DS4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0DEF-86BA-42D6-BA1B-E99F725B16BF}"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1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mplainants: United States, Canada</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spondent: European Communiti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Establishment of Panel: 20 May 1996 (United States), 16 October 1996 (Canada)</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Circulation of Panel Report: 18 August 1997</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Circulation of AB Report: 16 January 1998</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Adoption: 13 February 1998</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E8E4-7A4F-4CCC-854F-62F77AD2F5D0}"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 and products at issue</a:t>
            </a: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Measure at issue</a:t>
            </a:r>
            <a:r>
              <a:rPr b="0" lang="en-US" sz="2900" spc="-1" strike="noStrike">
                <a:solidFill>
                  <a:srgbClr val="000000"/>
                </a:solidFill>
                <a:latin typeface="Verdana"/>
              </a:rPr>
              <a:t>: EC prohibition on the placing on the market and the importation of meat and meat products treated with certain hormone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oducts at issue</a:t>
            </a:r>
            <a:r>
              <a:rPr b="0" lang="en-US" sz="2900" spc="-1" strike="noStrike">
                <a:solidFill>
                  <a:srgbClr val="000000"/>
                </a:solidFill>
                <a:latin typeface="Verdana"/>
              </a:rPr>
              <a:t>: Meat and meat products treated with hormones for growth purpos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4E27-F2B5-4958-BC73-62A96DCA2D22}"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s and product at issue</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Measures at issue</a:t>
            </a:r>
            <a:r>
              <a:rPr b="0" lang="de-AT" sz="2500" spc="-1" strike="noStrike">
                <a:solidFill>
                  <a:srgbClr val="000000"/>
                </a:solidFill>
                <a:latin typeface="Verdana"/>
              </a:rPr>
              <a:t>: fiscal and customs measures, including Thailand's customs valuation practices, excise tax, health tax, TV tax, VAT regime, retail licensing requirements and import guarantees imposed upon cigarette importer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Product at issue</a:t>
            </a:r>
            <a:r>
              <a:rPr b="0" lang="de-AT" sz="2500" spc="-1" strike="noStrike">
                <a:solidFill>
                  <a:srgbClr val="000000"/>
                </a:solidFill>
                <a:latin typeface="Verdana"/>
              </a:rPr>
              <a:t>: cigarettes imported from the Philippine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5183-C7AB-4588-976F-909E2015B72E}"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1" name="PlaceHolder 1"/>
          <p:cNvSpPr>
            <a:spLocks noGrp="1"/>
          </p:cNvSpPr>
          <p:nvPr>
            <p:ph type="title"/>
          </p:nvPr>
        </p:nvSpPr>
        <p:spPr>
          <a:xfrm>
            <a:off x="1331640" y="33300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800" spc="-1" strike="noStrike">
                <a:solidFill>
                  <a:srgbClr val="000000"/>
                </a:solidFill>
                <a:latin typeface="Verdana"/>
              </a:rPr>
              <a:t>Harmonization: </a:t>
            </a:r>
            <a:r>
              <a:rPr b="1" lang="de-AT" sz="2800" spc="-1" strike="noStrike">
                <a:solidFill>
                  <a:srgbClr val="000000"/>
                </a:solidFill>
                <a:latin typeface="Verdana"/>
              </a:rPr>
              <a:t>SPS Art. 3.1</a:t>
            </a:r>
            <a:r>
              <a:rPr b="0" lang="de-AT" sz="2800" spc="-1" strike="noStrike">
                <a:solidFill>
                  <a:srgbClr val="000000"/>
                </a:solidFill>
                <a:latin typeface="Verdana"/>
              </a:rPr>
              <a:t> (international standards): </a:t>
            </a:r>
            <a:endParaRPr b="0" lang="en-US" sz="2800" spc="-1" strike="noStrike">
              <a:solidFill>
                <a:srgbClr val="000000"/>
              </a:solidFill>
              <a:latin typeface="Verdana"/>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The AB rejected the Panel's interpretation and said that the requirement that SPS measures be "based on" international standards, guidelines or recommendations under Art. 3.1 does not mean that SPS measures must "conform to" such standar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C494-F5D8-4CA4-959D-B12325CB4861}"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0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Verdana"/>
              </a:rPr>
              <a:t>Relationship between SPS Art. 3.1, 3.2 and 3.3</a:t>
            </a:r>
            <a:r>
              <a:rPr b="0" lang="de-AT" sz="2400" spc="-1" strike="noStrike">
                <a:solidFill>
                  <a:srgbClr val="000000"/>
                </a:solidFill>
                <a:latin typeface="Verdana"/>
              </a:rPr>
              <a:t> (harmonization): </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The AB rejected the Panel's interpretation that Art. 3.3 is the exception to Art. 3.1 and 3.2 assimilated together and found that Art. 3.1, 3.2 and 3.3 apply together, each addressing a </a:t>
            </a:r>
            <a:r>
              <a:rPr b="0" i="1" lang="de-AT" sz="2400" spc="-1" strike="noStrike">
                <a:solidFill>
                  <a:srgbClr val="000000"/>
                </a:solidFill>
                <a:latin typeface="Verdana"/>
              </a:rPr>
              <a:t>separate </a:t>
            </a:r>
            <a:r>
              <a:rPr b="0" lang="de-AT" sz="2400" spc="-1" strike="noStrike">
                <a:solidFill>
                  <a:srgbClr val="000000"/>
                </a:solidFill>
                <a:latin typeface="Verdana"/>
              </a:rPr>
              <a:t>situation. </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Accordingly, it reversed the Panel's finding that the burden of proof for the violation under Art. 3.3, as a provision providing the exception, shifts to the responding party.</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FCA4-B74D-4360-B7BF-599E9B435424}"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2500" spc="-1" strike="noStrike">
                <a:solidFill>
                  <a:srgbClr val="000000"/>
                </a:solidFill>
                <a:latin typeface="Verdana"/>
              </a:rPr>
              <a:t>Risk assessment: </a:t>
            </a:r>
            <a:r>
              <a:rPr b="1" lang="de-AT" sz="2500" spc="-1" strike="noStrike">
                <a:solidFill>
                  <a:srgbClr val="000000"/>
                </a:solidFill>
                <a:latin typeface="Verdana"/>
              </a:rPr>
              <a:t>SPS Art. 5.1:</a:t>
            </a:r>
            <a:r>
              <a:rPr b="0" lang="de-AT"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B upheld the Panel's ultimate conclusion that the EC measure violated Art. 5.1 (and thus Art. 3.3) because it was not based on a risk assessment - bu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it reversed the Panel's interpretation, considering that Art. 5.1 requires that there be a "rational relationship" between the measure at issue and the risk assessmen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792D-0765-4460-9132-30AB299F8F7E}"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SPS Art. 5.5: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B reversed the Panel's finding that the EC measure through arbitrary or unjustifiable distinctions, resulted in "discrimination or a disguised restriction of international trade" in violation of Art. 5.5, noting that: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 the evidence showed that there were genuine anxieties concerning the safety of the hormones;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i) the necessity for harmonizing measures was part of the effort to establish a common internal market for beef; and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ii) the Panel's finding was not supported by the "architecture and structure" of the measures.</a:t>
            </a:r>
            <a:endParaRPr b="0" lang="en-US" sz="1900" spc="-1" strike="noStrike">
              <a:solidFill>
                <a:srgbClr val="000000"/>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Japan – Measures Affecting the Importation of Apples</a:t>
            </a:r>
            <a:endParaRPr b="0" lang="en-US" sz="4000" spc="-1" strike="noStrike">
              <a:solidFill>
                <a:srgbClr val="006666"/>
              </a:solidFill>
              <a:latin typeface="Arial"/>
            </a:endParaRPr>
          </a:p>
        </p:txBody>
      </p:sp>
      <p:sp>
        <p:nvSpPr>
          <p:cNvPr id="213"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245</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9CC7-A7D3-4804-BFC4-947F8FDCBF4B}"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21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Complainant: United Stat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Respondent: Jap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3 June 200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15 July 200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AB Report 26 November 200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10 December 2003</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CB20-5B0D-4AF4-83C8-F117B9BB7DC2}"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 and product at issue</a:t>
            </a: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Measure at issue</a:t>
            </a:r>
            <a:r>
              <a:rPr b="0" lang="de-AT" sz="2900" spc="-1" strike="noStrike">
                <a:solidFill>
                  <a:srgbClr val="000000"/>
                </a:solidFill>
                <a:latin typeface="Verdana"/>
              </a:rPr>
              <a:t>: Certain Japanese measures restricting imports of apples on the basis of concerns about the risk of transmission of fire blight bacteriu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Product at issue</a:t>
            </a:r>
            <a:r>
              <a:rPr b="0" lang="de-AT" sz="2900" spc="-1" strike="noStrike">
                <a:solidFill>
                  <a:srgbClr val="000000"/>
                </a:solidFill>
                <a:latin typeface="Verdana"/>
              </a:rPr>
              <a:t>: Apples from the United Stat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FE59-B31C-4D1D-8A9A-A1609F4DBED6}"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22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SPS Art. 2.2</a:t>
            </a:r>
            <a:r>
              <a:rPr b="0" lang="de-AT" sz="2500" spc="-1" strike="noStrike">
                <a:solidFill>
                  <a:srgbClr val="000000"/>
                </a:solidFill>
                <a:latin typeface="Verdana"/>
              </a:rPr>
              <a:t> (scientific evidence):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B upheld the Panel's finding that the measure was maintained "without sufficient scientific evidence„ inconsistently with Art. 2.2, as there was a clear disproportion (and thus no rational or objective relationship) between Japan's measure and the "negligible risk" identified on the basis of the scientific evidenc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6678-25F8-469B-B084-2FE747FD9E7D}"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25" name="PlaceHolder 2"/>
          <p:cNvSpPr>
            <a:spLocks noGrp="1"/>
          </p:cNvSpPr>
          <p:nvPr>
            <p:ph/>
          </p:nvPr>
        </p:nvSpPr>
        <p:spPr>
          <a:xfrm>
            <a:off x="1369800" y="1628280"/>
            <a:ext cx="7313400" cy="446436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SPS Art. 5.7</a:t>
            </a:r>
            <a:r>
              <a:rPr b="0" lang="de-AT" sz="2800" spc="-1" strike="noStrike">
                <a:solidFill>
                  <a:srgbClr val="000000"/>
                </a:solidFill>
                <a:latin typeface="Verdana"/>
              </a:rPr>
              <a:t> (provisional measure): </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The AB upheld the Panel's finding that the measure was not a provisional measure justified within the meaning of Art. 5.7, as it was not imposed in respect of a situation "where relevant scientific evidence is insufficien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6D57-0773-489E-9893-84452F5386C4}"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he AB noted that the pertinent question under Art. 5.7 is whether the body of available scientific evidence does not allow, in quantitative or qualitative terms, the performance of an adequate assessment of risks as required under Article 5.1 and as defined in Annex A of the SPS Agreement.</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It found that in light of the Panel's finding of a large quantity of high-quality scientific evidence describing the risk of transmission of fire blight through apple fruit, there was "the body of available scientific evidence" in this case that would allow "the evaluation of the likelihood of entry, establishment or spread" of fire blight in Japan through apples exported from the United Stat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0326-FC8E-43D4-956E-4CFF04AE1E9A}"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Verdana"/>
              </a:rPr>
              <a:t>GATT Art. III:2</a:t>
            </a:r>
            <a:r>
              <a:rPr b="0" lang="de-DE" sz="2200" spc="-1" strike="noStrike">
                <a:solidFill>
                  <a:srgbClr val="000000"/>
                </a:solidFill>
                <a:latin typeface="Verdana"/>
              </a:rPr>
              <a:t>:</a:t>
            </a:r>
            <a:endParaRPr b="0" lang="en-US" sz="2200" spc="-1" strike="noStrike">
              <a:solidFill>
                <a:srgbClr val="000000"/>
              </a:solidFill>
              <a:latin typeface="Verdana"/>
            </a:endParaRPr>
          </a:p>
          <a:p>
            <a:pPr marL="343080" indent="-343080">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The Appellate Body upheld the Panel's finding that Thailand acts inconsistently with Article III:2, first sentence, of the GATT 1994 by subjecting imported cigarettes to internal taxes in excess of those applied to like domestic cigarettes.  </a:t>
            </a:r>
            <a:endParaRPr b="0" lang="en-US" sz="22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he Thai measure at issue consists of an exemption from VAT liability for resellers of domestic cigarettes, together with the imposition of VAT on resellers of imported cigarettes when they do not satisfy prescribed conditions for obtaining input tax credits necessary to achieve zero VAT liabilit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4576-62FE-436D-8B8C-76A6536DDD69}"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3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SPS Art. 5.1</a:t>
            </a:r>
            <a:r>
              <a:rPr b="0" lang="de-AT" sz="2500" spc="-1" strike="noStrike">
                <a:solidFill>
                  <a:srgbClr val="000000"/>
                </a:solidFill>
                <a:latin typeface="Verdana"/>
              </a:rPr>
              <a:t> (risk assessment):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B upheld the Panel's finding that the measure was not based on a risk assessment as required under Art. 5.1 because the pest risk analysis relied on by Japan (i.e. "1999 PRA") failed to evaluate </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i) the likelihood of entry, establishment or spread of fire blight specifically through apple fruit; and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ii) the likelihood of entry "according to the SPS measures that might be applie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CB94-D213-4152-B37C-6A3CF9ED8DEA}"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3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In this regard, the AB noted that the obligation to conduct an assessment of "risk" under Article 5.1 is not satisfied merely by a general discussion of the disease sought to be avoided by the imposition of the SPS measure, rather an evaluation of the risk must connect the possibility of adverse effects with an antecedent or cause (i.e. in this case, transmission of fire blight "through apple fruit").</a:t>
            </a:r>
            <a:r>
              <a:rPr b="0" lang="de-A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BB53-5C3D-489E-98E5-5A239A4B71A4}"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Also, the AB upheld the Panel's view that the definition of "risk assessment" requires that the evaluation of the entry, establishment or spread of a disease be conducted according to the sanitary or phytosanitary measures which might be applied, not merely measures which are being currently applie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ustralia – Measures Affecting Importation of Salmon</a:t>
            </a:r>
            <a:endParaRPr b="0" lang="en-US" sz="4000" spc="-1" strike="noStrike">
              <a:solidFill>
                <a:srgbClr val="006666"/>
              </a:solidFill>
              <a:latin typeface="Arial"/>
            </a:endParaRPr>
          </a:p>
        </p:txBody>
      </p:sp>
      <p:sp>
        <p:nvSpPr>
          <p:cNvPr id="239"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Dispute DS1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A9F8-12DB-4687-AD3B-7871D7F73735}"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Parties and timeline of the dispute</a:t>
            </a:r>
            <a:endParaRPr b="0" lang="en-US" sz="3600" spc="-1" strike="noStrike">
              <a:solidFill>
                <a:srgbClr val="006666"/>
              </a:solidFill>
              <a:latin typeface="Arial"/>
            </a:endParaRPr>
          </a:p>
        </p:txBody>
      </p:sp>
      <p:sp>
        <p:nvSpPr>
          <p:cNvPr id="2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Complainant: Canada</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Verdana"/>
              </a:rPr>
              <a:t>Respondent: Australia</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Establishment of Panel: 10 April 1997</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Panel Report: 12 June 1998</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Circulation of AB Report: 20 October 1998</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900" spc="-1" strike="noStrike">
                <a:solidFill>
                  <a:srgbClr val="000000"/>
                </a:solidFill>
                <a:latin typeface="Verdana"/>
              </a:rPr>
              <a:t>Adoption: 6 November 199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FD3E-A919-40E1-A935-9A6AE432E14F}"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Measure and product at issue</a:t>
            </a:r>
            <a:endParaRPr b="0" lang="en-US" sz="3600" spc="-1" strike="noStrike">
              <a:solidFill>
                <a:srgbClr val="006666"/>
              </a:solidFill>
              <a:latin typeface="Arial"/>
            </a:endParaRPr>
          </a:p>
        </p:txBody>
      </p:sp>
      <p:sp>
        <p:nvSpPr>
          <p:cNvPr id="2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Measure at issue</a:t>
            </a:r>
            <a:r>
              <a:rPr b="0" lang="de-AT" sz="2900" spc="-1" strike="noStrike">
                <a:solidFill>
                  <a:srgbClr val="000000"/>
                </a:solidFill>
                <a:latin typeface="Verdana"/>
              </a:rPr>
              <a:t>: Australia's import prohibition of certain salmon from Canad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900" spc="-1" strike="noStrike">
                <a:solidFill>
                  <a:srgbClr val="000000"/>
                </a:solidFill>
                <a:latin typeface="Verdana"/>
              </a:rPr>
              <a:t>Product at issue</a:t>
            </a:r>
            <a:r>
              <a:rPr b="0" lang="de-AT" sz="2900" spc="-1" strike="noStrike">
                <a:solidFill>
                  <a:srgbClr val="000000"/>
                </a:solidFill>
                <a:latin typeface="Verdana"/>
              </a:rPr>
              <a:t>: Fresh, chilled or frozen ocean-caught Canadian salmon and certain other Canadian salm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A53A-7891-4E3E-BBEA-604E8AF371CA}"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rPr>
              <a:t>Findings of the Panel and the AB</a:t>
            </a:r>
            <a:endParaRPr b="0" lang="en-US" sz="3600" spc="-1" strike="noStrike">
              <a:solidFill>
                <a:srgbClr val="006666"/>
              </a:solidFill>
              <a:latin typeface="Arial"/>
            </a:endParaRPr>
          </a:p>
        </p:txBody>
      </p:sp>
      <p:sp>
        <p:nvSpPr>
          <p:cNvPr id="2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SPS Art. 5.1</a:t>
            </a:r>
            <a:r>
              <a:rPr b="0" lang="de-AT"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ppellate Body, although reversing the Panel's finding because the Panel had examined the wrong measures (i.e. heat-treatment requirement), still found that the correct measure at issue – i.e. Australia's import prohibition – violated Art. 5.1 (and, by implication, Art. 2.2) because it was not based on a "risk assessment" requirement under Art. 5.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D53D-B2FD-4019-969E-9851DF84C86E}"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Verdana"/>
              </a:rPr>
              <a:t>SPS Art. 5.5</a:t>
            </a:r>
            <a:r>
              <a:rPr b="0" lang="de-AT" sz="2500" spc="-1" strike="noStrike">
                <a:solidFill>
                  <a:srgbClr val="000000"/>
                </a:solidFill>
                <a:latin typeface="Verdana"/>
              </a:rPr>
              <a:t>: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Verdana"/>
              </a:rPr>
              <a:t>The AB upheld the Panel's finding that the import prohibition violated Art. 5.5 (and,´by implication Art. 2.3) since "arbitrary or unjustifiable" levels of protection were applied to several different yet comparable situations so as to result in "discrimination or a disguised restriction" (i.e. more strict restriction) on imports of salmon, compared to imports of other fish and fish products such as herring and finfish.</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65C0-AFDB-4CF2-B615-96CB1AF5E862}"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2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Verdana"/>
              </a:rPr>
              <a:t>SPS Art. 5.6: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ppellate Body reversed the Panel's finding that the heat-treatment violated Art. 5.6 by being"more trade-restrictive than necessary", because heat treatment was the wrong measur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he AB, however, could not complete the Panel's analysis of this issue under Art. 5.6 due to insufficient facts on therecord.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In this regard, the AB said that it would complete the Panel's analysis in a situation like this "to the extent possible on the basis of the factual findings of the Panel and/or of undisputed facts in the Panel record".)</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84A7-D5CD-4419-A81F-B8B4D86458E2}"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The AB agreed with the Panel that this measure affects the respective tax liability imposed on imported and like domestic products. </a:t>
            </a:r>
            <a:endParaRPr b="0" lang="en-US" sz="2600" spc="-1" strike="noStrike">
              <a:solidFill>
                <a:srgbClr val="000000"/>
              </a:solidFill>
              <a:latin typeface="Verdana"/>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It therefore rejected Thailand's characterization of the measure as “administrative requirements”, as well as Thailand's argument that the measure should have been examined under Article III:4, and not Article III:2, of the GATT 199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EF97-05F7-4A0D-8156-D5D57B0033B3}"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Verdana"/>
              </a:rPr>
              <a:t>GATT Art. III:4</a:t>
            </a:r>
            <a:r>
              <a:rPr b="0" lang="de-DE" sz="1900" spc="-1" strike="noStrike">
                <a:solidFill>
                  <a:srgbClr val="000000"/>
                </a:solidFill>
                <a:latin typeface="Verdana"/>
              </a:rPr>
              <a:t>:</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 AB also upheld the Panel's finding that Thailand acts inconsistently with Article III:4 of the GATT 1994 by according less favourable treatment to imported cigarettes than to like domestic cigarettes.  </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Verdana"/>
              </a:rPr>
              <a:t>The Thai measure at issue consists of an exemption from three sets of VAT-related administrative requirements for resellers of domestic cigarettes, together with the imposition of these requirements on resellers of imported cigarettes. </a:t>
            </a:r>
            <a:endParaRPr b="0" lang="en-US" sz="17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 AB found that the Panel properly analyzed this measure and its implications in the marketplace, and therefore agreed with the Panel that this measure accords less favourable treatment to imported cigarettes by imposing the additional administrative requirements only on resellers of imported cigarettes.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E06E-0BE6-4254-B183-6605DC9A02A5}"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Verdana"/>
              </a:rPr>
              <a:t>GATT Art XX(d):</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The AB further found that the Panel did not fail to ensure due process or to comply with its duty under Article 11 of the DSU by accepting and relying upon evidence, submitted by the Philippines late in the Panel proceedings, relating to one of the administrative requirements.  </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The AB found, as had the Panel, that Thailand failed to establish that the administrative requirements at issue are justified under Article XX(d) of the GATT 1994.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CBB6-7F37-4199-A706-1CDF3EA04E6A}" type="slidenum">
              <a:rPr b="0" lang="de-A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Verdana"/>
              </a:rPr>
              <a:t>GATT Art. X:3(b):</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 AB upheld the Panel's finding that Thailand acts inconsistently with Article X:3(b) of the GATT 1994 by failing to maintain or institute independent tribunals or procedures for the prompt review of customs guarantee decisions.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ai Customs requires importers to provide a guarantee in order to obtain the release of goods from customs pending a final determination of customs valu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900" spc="-1" strike="noStrike">
                <a:solidFill>
                  <a:srgbClr val="000000"/>
                </a:solidFill>
                <a:latin typeface="Verdana"/>
              </a:rPr>
              <a:t>The AB saw no error in the Panel's conclusion that Thailand's system for the review of guarantees does not comply with the obligation to ensure prompt review under Article X:3(b) because such review is not available until after a final determination of customs value has been made.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6:30:49Z</dcterms:created>
  <dc:creator>steines7</dc:creator>
  <dc:description/>
  <dc:language>en-US</dc:language>
  <cp:lastModifiedBy>SHUBA</cp:lastModifiedBy>
  <dcterms:modified xsi:type="dcterms:W3CDTF">2012-02-16T08:39:48Z</dcterms:modified>
  <cp:revision>67</cp:revision>
  <dc:subject/>
  <dc:title>Folie 1</dc:title>
</cp:coreProperties>
</file>