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3B9-1D19-429B-AF43-E0EF0E46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7A6-E19D-441D-906D-4A65A12E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DEB-8F3B-4D71-82D7-034C4ECB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C08-48E2-4BA0-BEFC-93546AFE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5FE-EA06-4202-9EA3-DC3AC499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799-3529-4EFC-81D5-82A74013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151-61D6-41FE-9AC8-B5F5A50D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E3F-DB11-46E4-99CE-29AEFCAB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2E0-3D61-4C4D-8690-D5F49B96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034-2801-45F4-85A9-4B64829A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B88-A9A2-4FD6-A6F6-F6A4E141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D32-5F1B-41E9-9944-A4FB795A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0758-BD84-4961-AA47-EBCE7BB278F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286000" y="2428920"/>
            <a:ext cx="685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Международный экспертный семина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ПРИМЕНЕНИЕ СТАНДАРТОВ ВТО И ЕС В РАЗВИТИИ НАЦИОНАЛЬНЫХ ЭКОНОМ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8-11 февраля 2012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8"/>
          <p:cNvSpPr/>
          <p:nvPr/>
        </p:nvSpPr>
        <p:spPr>
          <a:xfrm>
            <a:off x="0" y="0"/>
            <a:ext cx="1428840" cy="68580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7" descr="logo2222.png"/>
          <p:cNvPicPr/>
          <p:nvPr/>
        </p:nvPicPr>
        <p:blipFill>
          <a:blip r:embed="rId1"/>
          <a:stretch/>
        </p:blipFill>
        <p:spPr>
          <a:xfrm>
            <a:off x="357120" y="357120"/>
            <a:ext cx="2198880" cy="1857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19963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3454142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ae8de8512c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donetsk_2008_teatr_opery_baleta_no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5" descr="pa19001120041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5"/>
          <p:cNvSpPr/>
          <p:nvPr/>
        </p:nvSpPr>
        <p:spPr>
          <a:xfrm>
            <a:off x="0" y="0"/>
            <a:ext cx="1428840" cy="68580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2000160" y="2643120"/>
            <a:ext cx="685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International Expert Semin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WTO AND EU STANDARDS AND THEIR APPLICATION TO NATIONAL ECONOMICS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February </a:t>
            </a:r>
            <a:r>
              <a:rPr b="1" lang="uk-UA" sz="2400" spc="-1" strike="noStrike">
                <a:solidFill>
                  <a:srgbClr val="10253f"/>
                </a:solidFill>
                <a:latin typeface="Calibri"/>
              </a:rPr>
              <a:t>8-11</a:t>
            </a: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lang="uk-UA" sz="2400" spc="-1" strike="noStrike">
                <a:solidFill>
                  <a:srgbClr val="10253f"/>
                </a:solidFill>
                <a:latin typeface="Calibri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7" descr="logo2222.png"/>
          <p:cNvPicPr/>
          <p:nvPr/>
        </p:nvPicPr>
        <p:blipFill>
          <a:blip r:embed="rId1"/>
          <a:stretch/>
        </p:blipFill>
        <p:spPr>
          <a:xfrm>
            <a:off x="357120" y="357120"/>
            <a:ext cx="2198880" cy="1857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6"/>
          <p:cNvSpPr/>
          <p:nvPr/>
        </p:nvSpPr>
        <p:spPr>
          <a:xfrm>
            <a:off x="2714760" y="1357200"/>
            <a:ext cx="614340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10 февраля 2012 г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10.00 – 12.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Открытая лек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ПРАВО ЕС В XXI ВЕ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12.15 – 12.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Презентац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ПРОГРАММЫ СТАЖИРОВОК В ВЕРХОВНОЙ РАДЕ УКРАИНЫ И ЦЕНТРАЛЬНЫХ ОРГАНАХ ИСПОЛНИТЕЛЬНОЙ В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0" y="0"/>
            <a:ext cx="1428840" cy="6858000"/>
          </a:xfrm>
          <a:prstGeom prst="rect">
            <a:avLst/>
          </a:prstGeom>
          <a:solidFill>
            <a:srgbClr val="943634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8" descr="logo2222.png"/>
          <p:cNvPicPr/>
          <p:nvPr/>
        </p:nvPicPr>
        <p:blipFill>
          <a:blip r:embed="rId1"/>
          <a:stretch/>
        </p:blipFill>
        <p:spPr>
          <a:xfrm>
            <a:off x="357120" y="357120"/>
            <a:ext cx="2198880" cy="18576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0_1df99_a7c13871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-49320" y="0"/>
            <a:ext cx="9242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0_1221d_daeee067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0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226c7439352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268dd01db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08:35:09Z</dcterms:created>
  <dc:creator>gubskaya</dc:creator>
  <dc:description/>
  <dc:language>en-US</dc:language>
  <cp:lastModifiedBy>SHUBA</cp:lastModifiedBy>
  <dcterms:modified xsi:type="dcterms:W3CDTF">2012-02-16T08:37:59Z</dcterms:modified>
  <cp:revision>29</cp:revision>
  <dc:subject/>
  <dc:title>Слайд 1</dc:title>
</cp:coreProperties>
</file>