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7.wmf" ContentType="image/x-wm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HP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25.xml><?xml version="1.0" encoding="utf-8"?>
<p:cmLst xmlns:p="http://schemas.openxmlformats.org/presentationml/2006/main">
  <p:cm authorId="0" dt="2011-07-02T01:00:20.658000000" idx="1">
    <p:pos x="5760" y="0"/>
    <p:text>Сравнительная картограмма, доля городского населения в общей численности населения, %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363-6CE7-4D2C-BCCD-161E61ECF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F51-6A74-4B62-AA47-CD77536665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BAB-A993-4E6A-AE6F-AE12A75C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C2A-1CF0-46E2-99F9-D6EA6D5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D3E-39D8-448F-9292-D50782DC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0FB-67DE-4B97-A213-E6A4937C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D1B-45F7-417C-B423-4BB909FC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5CE-5A95-469C-937C-BFE126D7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9E4-1723-4695-8A44-C51B85B7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8D2D-2550-46BB-9BA5-F560CA4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E134-B4EB-4F53-92F4-ACFB648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915-3EA7-48F5-BC12-5A7845F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29D1-F3C7-45AE-ACB8-07A661A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628-2E45-4CA4-9F0E-43DB99D7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161D-4A0B-43AE-A1CE-34B1559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C553-C88A-46D6-BC31-7128910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AD3A-5A4A-4596-A1CB-A8A81491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6394-3FBB-43AD-95C4-B7CDBE74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27C6-B153-41AA-B4C9-A9BCEC30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AD1-7148-441A-A997-EE35EF6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79F-030D-48FE-9633-9EA1AB6D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2FD-7E28-4555-84F1-9BF25018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04F-A314-48A2-9018-E53D2F84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710-D808-4F46-A1AD-BA2DB6A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5FD-08BB-454A-87AC-87476A4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3F8-B450-4E52-968C-379D6FAB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3E2-044C-4A66-A3DF-0DEE162C8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А. С. Сурганова, научный руководитель д. э. н., профессор      Г. Н. Донч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BB7-9EAA-4848-9665-E035DCEF6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fotomag.com.ua/stat/tg/0A/642570/holodilnik.jpg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hyperlink" Target="http://molodogvardeisk.narod.ru/Artemov/tlvsk.jpg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3.xml"/><Relationship Id="rId12" Type="http://schemas.openxmlformats.org/officeDocument/2006/relationships/comments" Target="../comments/comment2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8572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рговая политика РФ в условиях вступления в ВТО и развития интеграционных процес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2960" y="3928680"/>
            <a:ext cx="7858080" cy="2071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ессор Дончевский Г. Н. (ЮФУ, г.  Ростов-на-Дон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.э.н. , доцент Воронина Т.В. (ЮФУ,  г. Ростов-на-Дон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пирант Константинова Е.Л. (ВАВТ, г. Моск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4" descr="flagbelarus"/>
          <p:cNvPicPr/>
          <p:nvPr/>
        </p:nvPicPr>
        <p:blipFill>
          <a:blip r:embed="rId1"/>
          <a:stretch/>
        </p:blipFill>
        <p:spPr>
          <a:xfrm>
            <a:off x="1000080" y="3286080"/>
            <a:ext cx="857160" cy="44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flagkazakhstan"/>
          <p:cNvPicPr/>
          <p:nvPr/>
        </p:nvPicPr>
        <p:blipFill>
          <a:blip r:embed="rId2"/>
          <a:stretch/>
        </p:blipFill>
        <p:spPr>
          <a:xfrm>
            <a:off x="4071960" y="3286080"/>
            <a:ext cx="1000080" cy="44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flagrussia"/>
          <p:cNvPicPr/>
          <p:nvPr/>
        </p:nvPicPr>
        <p:blipFill>
          <a:blip r:embed="rId3"/>
          <a:stretch/>
        </p:blipFill>
        <p:spPr>
          <a:xfrm>
            <a:off x="7143840" y="3286080"/>
            <a:ext cx="850680" cy="44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2" descr="http://im3-tub-ru.yandex.net/i?id=195209219-04-72"/>
          <p:cNvPicPr/>
          <p:nvPr/>
        </p:nvPicPr>
        <p:blipFill>
          <a:blip r:embed="rId4"/>
          <a:stretch/>
        </p:blipFill>
        <p:spPr>
          <a:xfrm>
            <a:off x="500040" y="214200"/>
            <a:ext cx="13572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ледствия ТС для торговой политики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кругленный прямоугольник 2"/>
          <p:cNvSpPr/>
          <p:nvPr/>
        </p:nvSpPr>
        <p:spPr>
          <a:xfrm>
            <a:off x="857160" y="1143000"/>
            <a:ext cx="7572600" cy="1071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Законы РФ, регламентирующие порядок регулирования внешнеторговой деятельности, в существенной мере теряют свое зна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Скругленный прямоугольник 3"/>
          <p:cNvSpPr/>
          <p:nvPr/>
        </p:nvSpPr>
        <p:spPr>
          <a:xfrm>
            <a:off x="928800" y="2500200"/>
            <a:ext cx="750096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 Защиту внутреннего рынка РФ и ТС – осуществляет наднациональный орг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кругленный прямоугольник 4"/>
          <p:cNvSpPr/>
          <p:nvPr/>
        </p:nvSpPr>
        <p:spPr>
          <a:xfrm>
            <a:off x="928800" y="3714840"/>
            <a:ext cx="7429320" cy="27144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стоятельно РФ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защищает интересов национальных фирм на внешних рын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оказывает финансовую, информационную поддержку экспортеров не попадающую под соглашения о Т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регулирует торговлю услугами (до ЕЭП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пыт ЕС для Т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кругленный прямоугольник 2"/>
          <p:cNvSpPr/>
          <p:nvPr/>
        </p:nvSpPr>
        <p:spPr>
          <a:xfrm>
            <a:off x="714240" y="928800"/>
            <a:ext cx="7786800" cy="8571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Меры по гармонизации национальных стандартов и технических регламентов на региональном уров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Скругленный прямоугольник 3"/>
          <p:cNvSpPr/>
          <p:nvPr/>
        </p:nvSpPr>
        <p:spPr>
          <a:xfrm>
            <a:off x="714240" y="2071800"/>
            <a:ext cx="7786800" cy="16430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Введение единого знака обращения продукции на рынках ТС - знака Евразийского соответ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Скругленный прямоугольник 4"/>
          <p:cNvSpPr/>
          <p:nvPr/>
        </p:nvSpPr>
        <p:spPr>
          <a:xfrm>
            <a:off x="785880" y="3929040"/>
            <a:ext cx="7715160" cy="11430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Необходимость четкого механизма  принятия решений  (национальный и наднациональный уровень, смешанная компетенц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Татьяна\Pictures\news_75_0.jpg"/>
          <p:cNvPicPr/>
          <p:nvPr/>
        </p:nvPicPr>
        <p:blipFill>
          <a:blip r:embed="rId1"/>
          <a:srcRect l="0" t="21737" r="47841" b="30438"/>
          <a:stretch/>
        </p:blipFill>
        <p:spPr>
          <a:xfrm>
            <a:off x="7358040" y="2928960"/>
            <a:ext cx="714240" cy="595440"/>
          </a:xfrm>
          <a:prstGeom prst="rect">
            <a:avLst/>
          </a:prstGeom>
          <a:ln w="0">
            <a:noFill/>
          </a:ln>
        </p:spPr>
      </p:pic>
      <p:sp>
        <p:nvSpPr>
          <p:cNvPr id="184" name="Скругленный прямоугольник 14"/>
          <p:cNvSpPr/>
          <p:nvPr/>
        </p:nvSpPr>
        <p:spPr>
          <a:xfrm>
            <a:off x="785880" y="5286240"/>
            <a:ext cx="771516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Требования унификации налоговой системы и гармонизации  налоговых режи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казатели взаимной торговли Т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40402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пы роста взаимной торговли в 201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о отношению к 2009 г.) ,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2928960"/>
            <a:ext cx="3857760" cy="1928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С –  25,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Б – 22, 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К  - 35,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Ф – 24, 0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ельный вес стран ТС во взаимной торговле,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28760" y="2928600"/>
            <a:ext cx="3429000" cy="33577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Б - 31,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К - 19,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Ф - 49,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4" descr="flagbelarus"/>
          <p:cNvPicPr/>
          <p:nvPr/>
        </p:nvPicPr>
        <p:blipFill>
          <a:blip r:embed="rId1"/>
          <a:stretch/>
        </p:blipFill>
        <p:spPr>
          <a:xfrm>
            <a:off x="5143680" y="3429000"/>
            <a:ext cx="857160" cy="446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flagkazakhstan"/>
          <p:cNvPicPr/>
          <p:nvPr/>
        </p:nvPicPr>
        <p:blipFill>
          <a:blip r:embed="rId2"/>
          <a:stretch/>
        </p:blipFill>
        <p:spPr>
          <a:xfrm>
            <a:off x="5143680" y="4286160"/>
            <a:ext cx="857160" cy="446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flagrussia"/>
          <p:cNvPicPr/>
          <p:nvPr/>
        </p:nvPicPr>
        <p:blipFill>
          <a:blip r:embed="rId3"/>
          <a:stretch/>
        </p:blipFill>
        <p:spPr>
          <a:xfrm>
            <a:off x="5143680" y="5072040"/>
            <a:ext cx="850680" cy="5000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1"/>
          <p:cNvSpPr/>
          <p:nvPr/>
        </p:nvSpPr>
        <p:spPr>
          <a:xfrm>
            <a:off x="500040" y="5072040"/>
            <a:ext cx="3857760" cy="1214640"/>
          </a:xfrm>
          <a:prstGeom prst="rect">
            <a:avLst/>
          </a:prstGeom>
          <a:solidFill>
            <a:srgbClr val="c3d69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пы роста взаимной торговли  ТС в 2011 году  – 40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ффекты от создания Т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Скругленный прямоугольник 2"/>
          <p:cNvSpPr/>
          <p:nvPr/>
        </p:nvSpPr>
        <p:spPr>
          <a:xfrm>
            <a:off x="642960" y="1143000"/>
            <a:ext cx="7929720" cy="1071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ширение внутреннего рынка и его интенсификации (эффект масштаб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кругленный прямоугольник 3"/>
          <p:cNvSpPr/>
          <p:nvPr/>
        </p:nvSpPr>
        <p:spPr>
          <a:xfrm>
            <a:off x="642960" y="2500200"/>
            <a:ext cx="7929720" cy="8575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тие  промышленной кооперации  (эффект взаимодополн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Скругленный прямоугольник 4"/>
          <p:cNvSpPr/>
          <p:nvPr/>
        </p:nvSpPr>
        <p:spPr>
          <a:xfrm>
            <a:off x="642960" y="3643200"/>
            <a:ext cx="792972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ижение издержек обра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кругленный прямоугольник 5"/>
          <p:cNvSpPr/>
          <p:nvPr/>
        </p:nvSpPr>
        <p:spPr>
          <a:xfrm>
            <a:off x="642960" y="4857840"/>
            <a:ext cx="7929720" cy="9284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ффект стабилизации  и экономического роста даже в условиях кризи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Ф, ТС и В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кругленный прямоугольник 2"/>
          <p:cNvSpPr/>
          <p:nvPr/>
        </p:nvSpPr>
        <p:spPr>
          <a:xfrm>
            <a:off x="571680" y="785880"/>
            <a:ext cx="8215200" cy="12142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ловия присоединения России к ВТО должны быть приняты за основу другими государствами-членами ТС на переговорах с Всемирной торговой организаци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0"/>
            <a:ext cx="4572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6"/>
          <p:cNvSpPr/>
          <p:nvPr/>
        </p:nvSpPr>
        <p:spPr>
          <a:xfrm>
            <a:off x="571680" y="2214720"/>
            <a:ext cx="8215200" cy="11430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Договор о функционировании Таможенного союза в рамках многосторонней торговой системы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19 мая 2011 года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7"/>
          <p:cNvSpPr/>
          <p:nvPr/>
        </p:nvSpPr>
        <p:spPr>
          <a:xfrm>
            <a:off x="1571760" y="3714840"/>
            <a:ext cx="6643440" cy="12859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ы ВТО, касающиеся сферы регулирования ТС, становятся частью правовой системы Таможенного союз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8"/>
          <p:cNvSpPr/>
          <p:nvPr/>
        </p:nvSpPr>
        <p:spPr>
          <a:xfrm>
            <a:off x="1643040" y="5214960"/>
            <a:ext cx="6572160" cy="12859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орит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язательств стороны в рамках ВТО перед ее обязательствами в рамках Таможенного сою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00" y="32040"/>
            <a:ext cx="29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428760" y="4071960"/>
            <a:ext cx="7142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428760" y="5500800"/>
            <a:ext cx="7142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13"/>
          <p:cNvSpPr/>
          <p:nvPr/>
        </p:nvSpPr>
        <p:spPr>
          <a:xfrm>
            <a:off x="642960" y="4143240"/>
            <a:ext cx="285840" cy="285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14"/>
          <p:cNvSpPr/>
          <p:nvPr/>
        </p:nvSpPr>
        <p:spPr>
          <a:xfrm>
            <a:off x="642960" y="5572080"/>
            <a:ext cx="285840" cy="285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857160" y="142920"/>
            <a:ext cx="1000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Диаграмма 1" descr=""/>
          <p:cNvPicPr/>
          <p:nvPr/>
        </p:nvPicPr>
        <p:blipFill>
          <a:blip r:embed="rId1"/>
          <a:stretch/>
        </p:blipFill>
        <p:spPr>
          <a:xfrm>
            <a:off x="1066680" y="1133640"/>
            <a:ext cx="7083720" cy="4870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im3-tub-ru.yandex.net/i?id=195209219-04-72"/>
          <p:cNvPicPr/>
          <p:nvPr/>
        </p:nvPicPr>
        <p:blipFill>
          <a:blip r:embed="rId2"/>
          <a:stretch/>
        </p:blipFill>
        <p:spPr>
          <a:xfrm>
            <a:off x="642960" y="285840"/>
            <a:ext cx="1071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643040" y="428760"/>
          <a:ext cx="6786720" cy="2860560"/>
        </p:xfrm>
        <a:graphic>
          <a:graphicData uri="http://schemas.openxmlformats.org/drawingml/2006/table">
            <a:tbl>
              <a:tblPr/>
              <a:tblGrid>
                <a:gridCol w="3494160"/>
                <a:gridCol w="3292560"/>
              </a:tblGrid>
              <a:tr h="1214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и импортных пошлин на сельхозпродукцию в сравнении с действующим тарифом в ТС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Т сейча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  начальны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 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  конечны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571760" y="3643200"/>
          <a:ext cx="6858000" cy="2714760"/>
        </p:xfrm>
        <a:graphic>
          <a:graphicData uri="http://schemas.openxmlformats.org/drawingml/2006/table">
            <a:tbl>
              <a:tblPr/>
              <a:tblGrid>
                <a:gridCol w="3530520"/>
                <a:gridCol w="3327480"/>
              </a:tblGrid>
              <a:tr h="11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и импортных пошлин на промышленную продукцию в сравнении с действующим тарифом в ТС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Т сейча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3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  начальны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3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  конечный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pic>
        <p:nvPicPr>
          <p:cNvPr id="215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142920" y="142920"/>
            <a:ext cx="12859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ие последствия  вступления России в ВТ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Скругленный прямоугольник 2"/>
          <p:cNvSpPr/>
          <p:nvPr/>
        </p:nvSpPr>
        <p:spPr>
          <a:xfrm>
            <a:off x="714240" y="1500120"/>
            <a:ext cx="7715520" cy="42861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мена лицензирования импорта алкогольной продукции, медикаментов и шифровальной техни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отмена ограничительной квоты на экспорт стали в Европу; отмена импортных пошлин на ввоз некоторых видов сталлилитейной отечественной продукции (в н.в. 3,2 млн. тонн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4572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800" y="63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500040" y="428760"/>
            <a:ext cx="10717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5154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ие последствия  вступления России в В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285840" y="285840"/>
            <a:ext cx="928440" cy="928440"/>
          </a:xfrm>
          <a:prstGeom prst="rect">
            <a:avLst/>
          </a:prstGeom>
          <a:ln w="0">
            <a:noFill/>
          </a:ln>
        </p:spPr>
      </p:pic>
      <p:sp>
        <p:nvSpPr>
          <p:cNvPr id="223" name="Скругленный прямоугольник 3"/>
          <p:cNvSpPr/>
          <p:nvPr/>
        </p:nvSpPr>
        <p:spPr>
          <a:xfrm>
            <a:off x="928800" y="2000160"/>
            <a:ext cx="7572240" cy="40719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ижение тарифов на транспортировку импортной продукции железнодорожным транспортом внутри России до уровня  тарифов, установленных на аналогичную транспортировку отечественной продук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этапная (9 лет) отмена ограничения иностранного участия в страховых компаниях ( н.в. допустимая доля   участия иностранного бизнеса 49%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7152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кономические последствия  вступления России в ВТО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Скругленный прямоугольник 2"/>
          <p:cNvSpPr/>
          <p:nvPr/>
        </p:nvSpPr>
        <p:spPr>
          <a:xfrm>
            <a:off x="571680" y="1557360"/>
            <a:ext cx="8215200" cy="5111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олная либерализация рынка телекоммуникационных услуг в отношении иностранных компаний (в течение 4-х лет с момента присоединения России к ВТО); свертывание программы либерализации, действующей для иностранных производителей ( до 01.07.2018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мена тарифов в области гражданских авиаперевоз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иление контроля в области интеллектуальной собств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0"/>
            <a:ext cx="4572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800" y="63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179280" y="357120"/>
            <a:ext cx="13208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моженный союз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00080" y="2786040"/>
            <a:ext cx="7429680" cy="34290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ние единой таможенной территории, в пределах которой не применяются таможенные пошлины и ограничения экономического характера, за исключением специальных защитных, антидемпинговых и компенсационных 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4" descr="flagbelarus"/>
          <p:cNvPicPr/>
          <p:nvPr/>
        </p:nvPicPr>
        <p:blipFill>
          <a:blip r:embed="rId1"/>
          <a:stretch/>
        </p:blipFill>
        <p:spPr>
          <a:xfrm>
            <a:off x="1357200" y="1643040"/>
            <a:ext cx="857520" cy="44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flagkazakhstan"/>
          <p:cNvPicPr/>
          <p:nvPr/>
        </p:nvPicPr>
        <p:blipFill>
          <a:blip r:embed="rId2"/>
          <a:stretch/>
        </p:blipFill>
        <p:spPr>
          <a:xfrm>
            <a:off x="4071960" y="1571760"/>
            <a:ext cx="1000080" cy="446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7" descr="flagrussia"/>
          <p:cNvPicPr/>
          <p:nvPr/>
        </p:nvPicPr>
        <p:blipFill>
          <a:blip r:embed="rId3"/>
          <a:stretch/>
        </p:blipFill>
        <p:spPr>
          <a:xfrm>
            <a:off x="6643800" y="1500120"/>
            <a:ext cx="850680" cy="44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Text Box 39"/>
          <p:cNvSpPr/>
          <p:nvPr/>
        </p:nvSpPr>
        <p:spPr>
          <a:xfrm>
            <a:off x="1285920" y="22147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Белору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143240" y="22147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азах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6643800" y="22147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1"/>
          <p:cNvSpPr/>
          <p:nvPr/>
        </p:nvSpPr>
        <p:spPr>
          <a:xfrm>
            <a:off x="1428840" y="28584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тельства в отношении отдельных товарных групп ,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57120" y="1285920"/>
          <a:ext cx="8501040" cy="5272200"/>
        </p:xfrm>
        <a:graphic>
          <a:graphicData uri="http://schemas.openxmlformats.org/drawingml/2006/table">
            <a:tbl>
              <a:tblPr/>
              <a:tblGrid>
                <a:gridCol w="474840"/>
                <a:gridCol w="3395520"/>
                <a:gridCol w="2416320"/>
                <a:gridCol w="2214360"/>
              </a:tblGrid>
              <a:tr h="7275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н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ая пош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лина после сни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1932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189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ду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1932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овая электро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275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легковые автомоб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3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1020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б/у от 3 до 7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3828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продукты из 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1 -3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97560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е сыр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дельных случаях от 3-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3540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сливки сухие, сливочное ма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pic>
        <p:nvPicPr>
          <p:cNvPr id="231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179280" y="285840"/>
            <a:ext cx="117792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кономические последствия  вступления России в ВТ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Скругленный прямоугольник 2"/>
          <p:cNvSpPr/>
          <p:nvPr/>
        </p:nvSpPr>
        <p:spPr>
          <a:xfrm>
            <a:off x="642960" y="1643040"/>
            <a:ext cx="8001000" cy="4643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ижение таможенных пошлин на следующую продукц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крупы  (с 15,1% до 10%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древесина и бумага (с  13,4% до 8%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хлопок ( до 0%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продукты информационных технологий (с 5,4% до 0%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сахарная продук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0"/>
            <a:ext cx="4572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800" y="63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428760" y="285840"/>
            <a:ext cx="11430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929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кономические последствия  вступления России в ВТО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Скругленный прямоугольник 2"/>
          <p:cNvSpPr/>
          <p:nvPr/>
        </p:nvSpPr>
        <p:spPr>
          <a:xfrm>
            <a:off x="785880" y="2071800"/>
            <a:ext cx="7500960" cy="32144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рифные квоты сохранятся в отношен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импорта говядины и мяса пти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экспорта газа (30%), нефть и нефтепродукты, лесоматериалы, лом черных и цветных мет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4572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800" y="63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642960" y="571680"/>
            <a:ext cx="1000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57120" y="428760"/>
          <a:ext cx="8572680" cy="6143400"/>
        </p:xfrm>
        <a:graphic>
          <a:graphicData uri="http://schemas.openxmlformats.org/drawingml/2006/table">
            <a:tbl>
              <a:tblPr/>
              <a:tblGrid>
                <a:gridCol w="3739680"/>
                <a:gridCol w="2355840"/>
                <a:gridCol w="2357280"/>
                <a:gridCol w="120240"/>
              </a:tblGrid>
              <a:tr h="325440">
                <a:tc gridSpan="4"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квоты,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лина внутри кв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лина сверх кв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016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ядина охлажд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ота -40 тыс. тонн на неопределенны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учае отмены плоский тариф  27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сро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104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 31.12 2019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ота 400 тыс. то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тариф 2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1 декабря 201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012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пт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ота 250 тыс. тонн бессро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тмен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ая ставка 37,5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2"/>
          <p:cNvSpPr/>
          <p:nvPr/>
        </p:nvSpPr>
        <p:spPr>
          <a:xfrm>
            <a:off x="1143000" y="1714680"/>
            <a:ext cx="7072200" cy="40716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тельства  России в ВТО определяют направления изменения тарифного регулирования на ближайшие 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можности России использовать тарифные и нетарифные меры торговой политики, налаживать интеграционные связи с другими группировками будут определяться  документами ТС и В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857160" y="357120"/>
            <a:ext cx="1428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32" descr="база еврорегион"/>
          <p:cNvPicPr/>
          <p:nvPr/>
        </p:nvPicPr>
        <p:blipFill>
          <a:blip r:embed="rId1"/>
          <a:srcRect l="17084" t="10508" r="51192" b="41752"/>
          <a:stretch/>
        </p:blipFill>
        <p:spPr>
          <a:xfrm>
            <a:off x="0" y="-26028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46" name="Полилиния 86"/>
          <p:cNvSpPr/>
          <p:nvPr/>
        </p:nvSpPr>
        <p:spPr>
          <a:xfrm>
            <a:off x="2340000" y="836640"/>
            <a:ext cx="6804000" cy="4680000"/>
          </a:xfrm>
          <a:custGeom>
            <a:avLst/>
            <a:gdLst>
              <a:gd name="textAreaLeft" fmla="*/ 0 w 6804000"/>
              <a:gd name="textAreaRight" fmla="*/ 6804360 w 6804000"/>
              <a:gd name="textAreaTop" fmla="*/ 0 h 4680000"/>
              <a:gd name="textAreaBottom" fmla="*/ 4680360 h 4680000"/>
            </a:gdLst>
            <a:ahLst/>
            <a:rect l="textAreaLeft" t="textAreaTop" r="textAreaRight" b="textAreaBottom"/>
            <a:pathLst>
              <a:path w="6794798" h="3971746">
                <a:moveTo>
                  <a:pt x="470198" y="3079117"/>
                </a:moveTo>
                <a:lnTo>
                  <a:pt x="470198" y="3079117"/>
                </a:lnTo>
                <a:cubicBezTo>
                  <a:pt x="473827" y="3046460"/>
                  <a:pt x="476088" y="3013622"/>
                  <a:pt x="481084" y="2981146"/>
                </a:cubicBezTo>
                <a:cubicBezTo>
                  <a:pt x="483359" y="2966359"/>
                  <a:pt x="491969" y="2952564"/>
                  <a:pt x="491969" y="2937603"/>
                </a:cubicBezTo>
                <a:cubicBezTo>
                  <a:pt x="491969" y="2926129"/>
                  <a:pt x="489198" y="2913060"/>
                  <a:pt x="481084" y="2904946"/>
                </a:cubicBezTo>
                <a:cubicBezTo>
                  <a:pt x="472970" y="2896832"/>
                  <a:pt x="459313" y="2897689"/>
                  <a:pt x="448427" y="2894060"/>
                </a:cubicBezTo>
                <a:lnTo>
                  <a:pt x="361341" y="2806974"/>
                </a:lnTo>
                <a:lnTo>
                  <a:pt x="339569" y="2785203"/>
                </a:lnTo>
                <a:lnTo>
                  <a:pt x="317798" y="2763431"/>
                </a:lnTo>
                <a:cubicBezTo>
                  <a:pt x="328684" y="2756174"/>
                  <a:pt x="340239" y="2749833"/>
                  <a:pt x="350455" y="2741660"/>
                </a:cubicBezTo>
                <a:cubicBezTo>
                  <a:pt x="358469" y="2735249"/>
                  <a:pt x="363426" y="2725169"/>
                  <a:pt x="372227" y="2719889"/>
                </a:cubicBezTo>
                <a:cubicBezTo>
                  <a:pt x="382066" y="2713985"/>
                  <a:pt x="393998" y="2712632"/>
                  <a:pt x="404884" y="2709003"/>
                </a:cubicBezTo>
                <a:cubicBezTo>
                  <a:pt x="437920" y="2609890"/>
                  <a:pt x="387235" y="2766453"/>
                  <a:pt x="426655" y="2621917"/>
                </a:cubicBezTo>
                <a:cubicBezTo>
                  <a:pt x="432988" y="2598696"/>
                  <a:pt x="440556" y="2549652"/>
                  <a:pt x="470198" y="2534831"/>
                </a:cubicBezTo>
                <a:cubicBezTo>
                  <a:pt x="483579" y="2528140"/>
                  <a:pt x="499356" y="2528056"/>
                  <a:pt x="513741" y="2523946"/>
                </a:cubicBezTo>
                <a:cubicBezTo>
                  <a:pt x="524774" y="2520794"/>
                  <a:pt x="535512" y="2516689"/>
                  <a:pt x="546398" y="2513060"/>
                </a:cubicBezTo>
                <a:cubicBezTo>
                  <a:pt x="542769" y="2498546"/>
                  <a:pt x="544858" y="2481200"/>
                  <a:pt x="535512" y="2469517"/>
                </a:cubicBezTo>
                <a:cubicBezTo>
                  <a:pt x="528344" y="2460557"/>
                  <a:pt x="514144" y="2460684"/>
                  <a:pt x="502855" y="2458631"/>
                </a:cubicBezTo>
                <a:cubicBezTo>
                  <a:pt x="447679" y="2448599"/>
                  <a:pt x="332507" y="2440807"/>
                  <a:pt x="285141" y="2436860"/>
                </a:cubicBezTo>
                <a:cubicBezTo>
                  <a:pt x="277884" y="2429603"/>
                  <a:pt x="268649" y="2423890"/>
                  <a:pt x="263369" y="2415089"/>
                </a:cubicBezTo>
                <a:cubicBezTo>
                  <a:pt x="257465" y="2405249"/>
                  <a:pt x="257616" y="2392694"/>
                  <a:pt x="252484" y="2382431"/>
                </a:cubicBezTo>
                <a:cubicBezTo>
                  <a:pt x="246633" y="2370729"/>
                  <a:pt x="237969" y="2360660"/>
                  <a:pt x="230712" y="2349774"/>
                </a:cubicBezTo>
                <a:cubicBezTo>
                  <a:pt x="227084" y="2338888"/>
                  <a:pt x="227941" y="2325231"/>
                  <a:pt x="219827" y="2317117"/>
                </a:cubicBezTo>
                <a:cubicBezTo>
                  <a:pt x="211713" y="2309003"/>
                  <a:pt x="198510" y="2307976"/>
                  <a:pt x="187169" y="2306231"/>
                </a:cubicBezTo>
                <a:cubicBezTo>
                  <a:pt x="151126" y="2300686"/>
                  <a:pt x="114598" y="2298974"/>
                  <a:pt x="78312" y="2295346"/>
                </a:cubicBezTo>
                <a:cubicBezTo>
                  <a:pt x="67426" y="2291717"/>
                  <a:pt x="53769" y="2292574"/>
                  <a:pt x="45655" y="2284460"/>
                </a:cubicBezTo>
                <a:cubicBezTo>
                  <a:pt x="37541" y="2276346"/>
                  <a:pt x="40673" y="2261642"/>
                  <a:pt x="34769" y="2251803"/>
                </a:cubicBezTo>
                <a:cubicBezTo>
                  <a:pt x="29489" y="2243002"/>
                  <a:pt x="20255" y="2237288"/>
                  <a:pt x="12998" y="2230031"/>
                </a:cubicBezTo>
                <a:cubicBezTo>
                  <a:pt x="9369" y="2219145"/>
                  <a:pt x="2112" y="2208849"/>
                  <a:pt x="2112" y="2197374"/>
                </a:cubicBezTo>
                <a:cubicBezTo>
                  <a:pt x="2112" y="2124712"/>
                  <a:pt x="0" y="2051150"/>
                  <a:pt x="12998" y="1979660"/>
                </a:cubicBezTo>
                <a:cubicBezTo>
                  <a:pt x="15338" y="1966788"/>
                  <a:pt x="32682" y="1959581"/>
                  <a:pt x="45655" y="1957889"/>
                </a:cubicBezTo>
                <a:cubicBezTo>
                  <a:pt x="117707" y="1948491"/>
                  <a:pt x="190798" y="1950632"/>
                  <a:pt x="263369" y="1947003"/>
                </a:cubicBezTo>
                <a:cubicBezTo>
                  <a:pt x="266998" y="1921603"/>
                  <a:pt x="258503" y="1891056"/>
                  <a:pt x="274255" y="1870803"/>
                </a:cubicBezTo>
                <a:cubicBezTo>
                  <a:pt x="288344" y="1852688"/>
                  <a:pt x="339569" y="1849031"/>
                  <a:pt x="339569" y="1849031"/>
                </a:cubicBezTo>
                <a:cubicBezTo>
                  <a:pt x="350394" y="1838206"/>
                  <a:pt x="381395" y="1810054"/>
                  <a:pt x="383112" y="1794603"/>
                </a:cubicBezTo>
                <a:cubicBezTo>
                  <a:pt x="385549" y="1772666"/>
                  <a:pt x="379977" y="1749955"/>
                  <a:pt x="372227" y="1729289"/>
                </a:cubicBezTo>
                <a:cubicBezTo>
                  <a:pt x="368623" y="1719679"/>
                  <a:pt x="358469" y="1713928"/>
                  <a:pt x="350455" y="1707517"/>
                </a:cubicBezTo>
                <a:cubicBezTo>
                  <a:pt x="281800" y="1652593"/>
                  <a:pt x="348590" y="1716539"/>
                  <a:pt x="296027" y="1663974"/>
                </a:cubicBezTo>
                <a:cubicBezTo>
                  <a:pt x="288770" y="1642203"/>
                  <a:pt x="278756" y="1621163"/>
                  <a:pt x="274255" y="1598660"/>
                </a:cubicBezTo>
                <a:cubicBezTo>
                  <a:pt x="261119" y="1532979"/>
                  <a:pt x="269220" y="1561784"/>
                  <a:pt x="252484" y="1511574"/>
                </a:cubicBezTo>
                <a:cubicBezTo>
                  <a:pt x="248855" y="1482546"/>
                  <a:pt x="253479" y="1451222"/>
                  <a:pt x="241598" y="1424489"/>
                </a:cubicBezTo>
                <a:cubicBezTo>
                  <a:pt x="236938" y="1414003"/>
                  <a:pt x="218780" y="1419507"/>
                  <a:pt x="208941" y="1413603"/>
                </a:cubicBezTo>
                <a:cubicBezTo>
                  <a:pt x="191705" y="1403261"/>
                  <a:pt x="175287" y="1374008"/>
                  <a:pt x="165398" y="1359174"/>
                </a:cubicBezTo>
                <a:cubicBezTo>
                  <a:pt x="177523" y="1322801"/>
                  <a:pt x="178055" y="1323989"/>
                  <a:pt x="187169" y="1282974"/>
                </a:cubicBezTo>
                <a:cubicBezTo>
                  <a:pt x="191183" y="1264913"/>
                  <a:pt x="179912" y="1232175"/>
                  <a:pt x="198055" y="1228546"/>
                </a:cubicBezTo>
                <a:cubicBezTo>
                  <a:pt x="301302" y="1207897"/>
                  <a:pt x="408512" y="1221289"/>
                  <a:pt x="513741" y="1217660"/>
                </a:cubicBezTo>
                <a:lnTo>
                  <a:pt x="579055" y="1195889"/>
                </a:lnTo>
                <a:lnTo>
                  <a:pt x="611712" y="1185003"/>
                </a:lnTo>
                <a:cubicBezTo>
                  <a:pt x="618969" y="1177746"/>
                  <a:pt x="624683" y="1168511"/>
                  <a:pt x="633484" y="1163231"/>
                </a:cubicBezTo>
                <a:cubicBezTo>
                  <a:pt x="643323" y="1157328"/>
                  <a:pt x="658027" y="1160460"/>
                  <a:pt x="666141" y="1152346"/>
                </a:cubicBezTo>
                <a:cubicBezTo>
                  <a:pt x="703384" y="1115104"/>
                  <a:pt x="648242" y="1123195"/>
                  <a:pt x="698798" y="1097917"/>
                </a:cubicBezTo>
                <a:cubicBezTo>
                  <a:pt x="719324" y="1087654"/>
                  <a:pt x="742341" y="1083403"/>
                  <a:pt x="764112" y="1076146"/>
                </a:cubicBezTo>
                <a:lnTo>
                  <a:pt x="796769" y="1065260"/>
                </a:lnTo>
                <a:cubicBezTo>
                  <a:pt x="807655" y="1061631"/>
                  <a:pt x="819879" y="1060739"/>
                  <a:pt x="829427" y="1054374"/>
                </a:cubicBezTo>
                <a:lnTo>
                  <a:pt x="862084" y="1032603"/>
                </a:lnTo>
                <a:cubicBezTo>
                  <a:pt x="865712" y="1021717"/>
                  <a:pt x="864855" y="1008060"/>
                  <a:pt x="872969" y="999946"/>
                </a:cubicBezTo>
                <a:cubicBezTo>
                  <a:pt x="931026" y="941889"/>
                  <a:pt x="887486" y="1043487"/>
                  <a:pt x="916512" y="956403"/>
                </a:cubicBezTo>
                <a:cubicBezTo>
                  <a:pt x="920141" y="916489"/>
                  <a:pt x="894784" y="859955"/>
                  <a:pt x="927398" y="836660"/>
                </a:cubicBezTo>
                <a:cubicBezTo>
                  <a:pt x="965896" y="809161"/>
                  <a:pt x="1021601" y="847546"/>
                  <a:pt x="1068912" y="847546"/>
                </a:cubicBezTo>
                <a:cubicBezTo>
                  <a:pt x="1090984" y="847546"/>
                  <a:pt x="1112455" y="840289"/>
                  <a:pt x="1134227" y="836660"/>
                </a:cubicBezTo>
                <a:cubicBezTo>
                  <a:pt x="1145113" y="833031"/>
                  <a:pt x="1155851" y="828926"/>
                  <a:pt x="1166884" y="825774"/>
                </a:cubicBezTo>
                <a:cubicBezTo>
                  <a:pt x="1181269" y="821664"/>
                  <a:pt x="1200849" y="826382"/>
                  <a:pt x="1210427" y="814889"/>
                </a:cubicBezTo>
                <a:cubicBezTo>
                  <a:pt x="1222272" y="800675"/>
                  <a:pt x="1216825" y="778410"/>
                  <a:pt x="1221312" y="760460"/>
                </a:cubicBezTo>
                <a:cubicBezTo>
                  <a:pt x="1224095" y="749328"/>
                  <a:pt x="1228569" y="738689"/>
                  <a:pt x="1232198" y="727803"/>
                </a:cubicBezTo>
                <a:cubicBezTo>
                  <a:pt x="1228569" y="698774"/>
                  <a:pt x="1226545" y="669500"/>
                  <a:pt x="1221312" y="640717"/>
                </a:cubicBezTo>
                <a:cubicBezTo>
                  <a:pt x="1219259" y="629428"/>
                  <a:pt x="1208541" y="619378"/>
                  <a:pt x="1210427" y="608060"/>
                </a:cubicBezTo>
                <a:cubicBezTo>
                  <a:pt x="1212578" y="595155"/>
                  <a:pt x="1224941" y="586289"/>
                  <a:pt x="1232198" y="575403"/>
                </a:cubicBezTo>
                <a:cubicBezTo>
                  <a:pt x="1235827" y="560889"/>
                  <a:pt x="1231725" y="541596"/>
                  <a:pt x="1243084" y="531860"/>
                </a:cubicBezTo>
                <a:cubicBezTo>
                  <a:pt x="1260508" y="516925"/>
                  <a:pt x="1308398" y="510089"/>
                  <a:pt x="1308398" y="510089"/>
                </a:cubicBezTo>
                <a:cubicBezTo>
                  <a:pt x="1315655" y="502832"/>
                  <a:pt x="1324889" y="497118"/>
                  <a:pt x="1330169" y="488317"/>
                </a:cubicBezTo>
                <a:cubicBezTo>
                  <a:pt x="1344684" y="464126"/>
                  <a:pt x="1344684" y="447194"/>
                  <a:pt x="1330169" y="423003"/>
                </a:cubicBezTo>
                <a:cubicBezTo>
                  <a:pt x="1324889" y="414202"/>
                  <a:pt x="1315655" y="408488"/>
                  <a:pt x="1308398" y="401231"/>
                </a:cubicBezTo>
                <a:cubicBezTo>
                  <a:pt x="1304769" y="390345"/>
                  <a:pt x="1302644" y="378837"/>
                  <a:pt x="1297512" y="368574"/>
                </a:cubicBezTo>
                <a:cubicBezTo>
                  <a:pt x="1286489" y="346527"/>
                  <a:pt x="1250787" y="322240"/>
                  <a:pt x="1286627" y="292374"/>
                </a:cubicBezTo>
                <a:cubicBezTo>
                  <a:pt x="1300841" y="280529"/>
                  <a:pt x="1322912" y="285117"/>
                  <a:pt x="1341055" y="281489"/>
                </a:cubicBezTo>
                <a:cubicBezTo>
                  <a:pt x="1349830" y="202520"/>
                  <a:pt x="1345685" y="199972"/>
                  <a:pt x="1362827" y="139974"/>
                </a:cubicBezTo>
                <a:cubicBezTo>
                  <a:pt x="1365979" y="128941"/>
                  <a:pt x="1365598" y="115431"/>
                  <a:pt x="1373712" y="107317"/>
                </a:cubicBezTo>
                <a:cubicBezTo>
                  <a:pt x="1381826" y="99203"/>
                  <a:pt x="1395168" y="98920"/>
                  <a:pt x="1406369" y="96431"/>
                </a:cubicBezTo>
                <a:cubicBezTo>
                  <a:pt x="1427915" y="91643"/>
                  <a:pt x="1449912" y="89174"/>
                  <a:pt x="1471684" y="85546"/>
                </a:cubicBezTo>
                <a:cubicBezTo>
                  <a:pt x="1475312" y="60146"/>
                  <a:pt x="1458986" y="19453"/>
                  <a:pt x="1482569" y="9346"/>
                </a:cubicBezTo>
                <a:cubicBezTo>
                  <a:pt x="1504375" y="0"/>
                  <a:pt x="1631721" y="19419"/>
                  <a:pt x="1678512" y="31117"/>
                </a:cubicBezTo>
                <a:cubicBezTo>
                  <a:pt x="1689644" y="33900"/>
                  <a:pt x="1700283" y="38374"/>
                  <a:pt x="1711169" y="42003"/>
                </a:cubicBezTo>
                <a:cubicBezTo>
                  <a:pt x="1783052" y="113886"/>
                  <a:pt x="1734270" y="87404"/>
                  <a:pt x="1874455" y="74660"/>
                </a:cubicBezTo>
                <a:cubicBezTo>
                  <a:pt x="1885341" y="71031"/>
                  <a:pt x="1898998" y="71888"/>
                  <a:pt x="1907112" y="63774"/>
                </a:cubicBezTo>
                <a:cubicBezTo>
                  <a:pt x="1915226" y="55660"/>
                  <a:pt x="1909884" y="23003"/>
                  <a:pt x="1917998" y="31117"/>
                </a:cubicBezTo>
                <a:cubicBezTo>
                  <a:pt x="1933100" y="46219"/>
                  <a:pt x="1927976" y="107014"/>
                  <a:pt x="1961541" y="118203"/>
                </a:cubicBezTo>
                <a:cubicBezTo>
                  <a:pt x="1985882" y="126317"/>
                  <a:pt x="2012341" y="125460"/>
                  <a:pt x="2037741" y="129089"/>
                </a:cubicBezTo>
                <a:cubicBezTo>
                  <a:pt x="2059512" y="136346"/>
                  <a:pt x="2095798" y="129089"/>
                  <a:pt x="2103055" y="150860"/>
                </a:cubicBezTo>
                <a:lnTo>
                  <a:pt x="2124827" y="216174"/>
                </a:lnTo>
                <a:cubicBezTo>
                  <a:pt x="2193770" y="212546"/>
                  <a:pt x="2263311" y="215052"/>
                  <a:pt x="2331655" y="205289"/>
                </a:cubicBezTo>
                <a:cubicBezTo>
                  <a:pt x="2453645" y="187862"/>
                  <a:pt x="2186283" y="150087"/>
                  <a:pt x="2407855" y="194403"/>
                </a:cubicBezTo>
                <a:cubicBezTo>
                  <a:pt x="2434639" y="221187"/>
                  <a:pt x="2450897" y="243138"/>
                  <a:pt x="2484055" y="259717"/>
                </a:cubicBezTo>
                <a:cubicBezTo>
                  <a:pt x="2513463" y="274421"/>
                  <a:pt x="2551922" y="274799"/>
                  <a:pt x="2582027" y="281489"/>
                </a:cubicBezTo>
                <a:cubicBezTo>
                  <a:pt x="2593228" y="283978"/>
                  <a:pt x="2603366" y="290488"/>
                  <a:pt x="2614684" y="292374"/>
                </a:cubicBezTo>
                <a:cubicBezTo>
                  <a:pt x="2647095" y="297776"/>
                  <a:pt x="2679998" y="299631"/>
                  <a:pt x="2712655" y="303260"/>
                </a:cubicBezTo>
                <a:cubicBezTo>
                  <a:pt x="2723541" y="306889"/>
                  <a:pt x="2734111" y="311657"/>
                  <a:pt x="2745312" y="314146"/>
                </a:cubicBezTo>
                <a:cubicBezTo>
                  <a:pt x="2766858" y="318934"/>
                  <a:pt x="2797970" y="306949"/>
                  <a:pt x="2810627" y="325031"/>
                </a:cubicBezTo>
                <a:cubicBezTo>
                  <a:pt x="2829470" y="351950"/>
                  <a:pt x="2812866" y="391303"/>
                  <a:pt x="2821512" y="423003"/>
                </a:cubicBezTo>
                <a:cubicBezTo>
                  <a:pt x="2824212" y="432905"/>
                  <a:pt x="2836027" y="437517"/>
                  <a:pt x="2843284" y="444774"/>
                </a:cubicBezTo>
                <a:cubicBezTo>
                  <a:pt x="2897712" y="441146"/>
                  <a:pt x="2956909" y="411316"/>
                  <a:pt x="3006569" y="433889"/>
                </a:cubicBezTo>
                <a:cubicBezTo>
                  <a:pt x="3030389" y="444717"/>
                  <a:pt x="2938204" y="507478"/>
                  <a:pt x="2963027" y="499203"/>
                </a:cubicBezTo>
                <a:cubicBezTo>
                  <a:pt x="2994634" y="488667"/>
                  <a:pt x="3001485" y="489566"/>
                  <a:pt x="3028341" y="466546"/>
                </a:cubicBezTo>
                <a:cubicBezTo>
                  <a:pt x="3043926" y="453188"/>
                  <a:pt x="3071884" y="423003"/>
                  <a:pt x="3071884" y="423003"/>
                </a:cubicBezTo>
                <a:cubicBezTo>
                  <a:pt x="3090577" y="423938"/>
                  <a:pt x="3285075" y="449193"/>
                  <a:pt x="3354912" y="423003"/>
                </a:cubicBezTo>
                <a:cubicBezTo>
                  <a:pt x="3364522" y="419399"/>
                  <a:pt x="3368473" y="407389"/>
                  <a:pt x="3376684" y="401231"/>
                </a:cubicBezTo>
                <a:cubicBezTo>
                  <a:pt x="3397617" y="385532"/>
                  <a:pt x="3420227" y="372203"/>
                  <a:pt x="3441998" y="357689"/>
                </a:cubicBezTo>
                <a:cubicBezTo>
                  <a:pt x="3452884" y="350432"/>
                  <a:pt x="3461578" y="336313"/>
                  <a:pt x="3474655" y="335917"/>
                </a:cubicBezTo>
                <a:lnTo>
                  <a:pt x="3833884" y="325031"/>
                </a:lnTo>
                <a:cubicBezTo>
                  <a:pt x="3844770" y="321403"/>
                  <a:pt x="3855289" y="316396"/>
                  <a:pt x="3866541" y="314146"/>
                </a:cubicBezTo>
                <a:cubicBezTo>
                  <a:pt x="3936889" y="300077"/>
                  <a:pt x="4028840" y="297110"/>
                  <a:pt x="4095141" y="292374"/>
                </a:cubicBezTo>
                <a:cubicBezTo>
                  <a:pt x="4106027" y="285117"/>
                  <a:pt x="4117582" y="278776"/>
                  <a:pt x="4127798" y="270603"/>
                </a:cubicBezTo>
                <a:cubicBezTo>
                  <a:pt x="4135812" y="264192"/>
                  <a:pt x="4140768" y="254111"/>
                  <a:pt x="4149569" y="248831"/>
                </a:cubicBezTo>
                <a:cubicBezTo>
                  <a:pt x="4159409" y="242927"/>
                  <a:pt x="4171341" y="241574"/>
                  <a:pt x="4182227" y="237946"/>
                </a:cubicBezTo>
                <a:cubicBezTo>
                  <a:pt x="4378170" y="241574"/>
                  <a:pt x="4574323" y="239044"/>
                  <a:pt x="4770055" y="248831"/>
                </a:cubicBezTo>
                <a:cubicBezTo>
                  <a:pt x="4792975" y="249977"/>
                  <a:pt x="4813598" y="263346"/>
                  <a:pt x="4835369" y="270603"/>
                </a:cubicBezTo>
                <a:cubicBezTo>
                  <a:pt x="4846255" y="274232"/>
                  <a:pt x="4858479" y="275124"/>
                  <a:pt x="4868027" y="281489"/>
                </a:cubicBezTo>
                <a:cubicBezTo>
                  <a:pt x="4878913" y="288746"/>
                  <a:pt x="4887761" y="301220"/>
                  <a:pt x="4900684" y="303260"/>
                </a:cubicBezTo>
                <a:cubicBezTo>
                  <a:pt x="4958142" y="312332"/>
                  <a:pt x="5016798" y="310517"/>
                  <a:pt x="5074855" y="314146"/>
                </a:cubicBezTo>
                <a:cubicBezTo>
                  <a:pt x="5098606" y="385398"/>
                  <a:pt x="5065619" y="315465"/>
                  <a:pt x="5118398" y="357689"/>
                </a:cubicBezTo>
                <a:cubicBezTo>
                  <a:pt x="5128614" y="365862"/>
                  <a:pt x="5132912" y="379460"/>
                  <a:pt x="5140169" y="390346"/>
                </a:cubicBezTo>
                <a:cubicBezTo>
                  <a:pt x="5133517" y="410302"/>
                  <a:pt x="5120150" y="469499"/>
                  <a:pt x="5096627" y="488317"/>
                </a:cubicBezTo>
                <a:cubicBezTo>
                  <a:pt x="5087667" y="495485"/>
                  <a:pt x="5074855" y="495574"/>
                  <a:pt x="5063969" y="499203"/>
                </a:cubicBezTo>
                <a:cubicBezTo>
                  <a:pt x="5033583" y="590368"/>
                  <a:pt x="5077973" y="448879"/>
                  <a:pt x="5042198" y="651603"/>
                </a:cubicBezTo>
                <a:cubicBezTo>
                  <a:pt x="5038210" y="674203"/>
                  <a:pt x="5025993" y="694653"/>
                  <a:pt x="5020427" y="716917"/>
                </a:cubicBezTo>
                <a:cubicBezTo>
                  <a:pt x="5004188" y="781873"/>
                  <a:pt x="5012001" y="745703"/>
                  <a:pt x="4998655" y="825774"/>
                </a:cubicBezTo>
                <a:cubicBezTo>
                  <a:pt x="5002284" y="851174"/>
                  <a:pt x="4985200" y="893860"/>
                  <a:pt x="5009541" y="901974"/>
                </a:cubicBezTo>
                <a:cubicBezTo>
                  <a:pt x="5088790" y="928390"/>
                  <a:pt x="5176604" y="906689"/>
                  <a:pt x="5259912" y="912860"/>
                </a:cubicBezTo>
                <a:cubicBezTo>
                  <a:pt x="5274832" y="913965"/>
                  <a:pt x="5288941" y="920117"/>
                  <a:pt x="5303455" y="923746"/>
                </a:cubicBezTo>
                <a:cubicBezTo>
                  <a:pt x="5307084" y="934632"/>
                  <a:pt x="5311852" y="945202"/>
                  <a:pt x="5314341" y="956403"/>
                </a:cubicBezTo>
                <a:cubicBezTo>
                  <a:pt x="5336977" y="1058263"/>
                  <a:pt x="5293757" y="1018570"/>
                  <a:pt x="5434084" y="1032603"/>
                </a:cubicBezTo>
                <a:cubicBezTo>
                  <a:pt x="5461567" y="1115057"/>
                  <a:pt x="5422942" y="1032530"/>
                  <a:pt x="5575598" y="1076146"/>
                </a:cubicBezTo>
                <a:cubicBezTo>
                  <a:pt x="5588178" y="1079740"/>
                  <a:pt x="5590112" y="1097917"/>
                  <a:pt x="5597369" y="1108803"/>
                </a:cubicBezTo>
                <a:cubicBezTo>
                  <a:pt x="5593741" y="1141460"/>
                  <a:pt x="5598687" y="1176266"/>
                  <a:pt x="5586484" y="1206774"/>
                </a:cubicBezTo>
                <a:cubicBezTo>
                  <a:pt x="5582223" y="1217428"/>
                  <a:pt x="5563666" y="1211756"/>
                  <a:pt x="5553827" y="1217660"/>
                </a:cubicBezTo>
                <a:cubicBezTo>
                  <a:pt x="5545026" y="1222940"/>
                  <a:pt x="5539312" y="1232174"/>
                  <a:pt x="5532055" y="1239431"/>
                </a:cubicBezTo>
                <a:cubicBezTo>
                  <a:pt x="5539312" y="1246688"/>
                  <a:pt x="5543667" y="1259751"/>
                  <a:pt x="5553827" y="1261203"/>
                </a:cubicBezTo>
                <a:cubicBezTo>
                  <a:pt x="5572143" y="1263820"/>
                  <a:pt x="5589753" y="1250317"/>
                  <a:pt x="5608255" y="1250317"/>
                </a:cubicBezTo>
                <a:cubicBezTo>
                  <a:pt x="5619730" y="1250317"/>
                  <a:pt x="5630026" y="1257574"/>
                  <a:pt x="5640912" y="1261203"/>
                </a:cubicBezTo>
                <a:cubicBezTo>
                  <a:pt x="5637284" y="1286603"/>
                  <a:pt x="5640448" y="1313957"/>
                  <a:pt x="5630027" y="1337403"/>
                </a:cubicBezTo>
                <a:cubicBezTo>
                  <a:pt x="5622688" y="1353916"/>
                  <a:pt x="5579201" y="1365230"/>
                  <a:pt x="5564712" y="1370060"/>
                </a:cubicBezTo>
                <a:cubicBezTo>
                  <a:pt x="5557455" y="1380946"/>
                  <a:pt x="5547078" y="1390305"/>
                  <a:pt x="5542941" y="1402717"/>
                </a:cubicBezTo>
                <a:cubicBezTo>
                  <a:pt x="5535961" y="1423656"/>
                  <a:pt x="5548666" y="1453497"/>
                  <a:pt x="5532055" y="1468031"/>
                </a:cubicBezTo>
                <a:cubicBezTo>
                  <a:pt x="5512745" y="1484927"/>
                  <a:pt x="5481099" y="1474327"/>
                  <a:pt x="5455855" y="1478917"/>
                </a:cubicBezTo>
                <a:cubicBezTo>
                  <a:pt x="5441135" y="1481593"/>
                  <a:pt x="5426826" y="1486174"/>
                  <a:pt x="5412312" y="1489803"/>
                </a:cubicBezTo>
                <a:cubicBezTo>
                  <a:pt x="5319867" y="1551432"/>
                  <a:pt x="5419513" y="1492985"/>
                  <a:pt x="5183712" y="1522460"/>
                </a:cubicBezTo>
                <a:cubicBezTo>
                  <a:pt x="5160940" y="1525306"/>
                  <a:pt x="5140169" y="1536974"/>
                  <a:pt x="5118398" y="1544231"/>
                </a:cubicBezTo>
                <a:lnTo>
                  <a:pt x="5085741" y="1555117"/>
                </a:lnTo>
                <a:cubicBezTo>
                  <a:pt x="5074468" y="1566390"/>
                  <a:pt x="5044487" y="1593525"/>
                  <a:pt x="5042198" y="1609546"/>
                </a:cubicBezTo>
                <a:cubicBezTo>
                  <a:pt x="5040082" y="1624357"/>
                  <a:pt x="5049455" y="1638575"/>
                  <a:pt x="5053084" y="1653089"/>
                </a:cubicBezTo>
                <a:cubicBezTo>
                  <a:pt x="5027683" y="1729289"/>
                  <a:pt x="5053083" y="1711146"/>
                  <a:pt x="4998655" y="1729289"/>
                </a:cubicBezTo>
                <a:cubicBezTo>
                  <a:pt x="4984222" y="1750938"/>
                  <a:pt x="4960729" y="1767563"/>
                  <a:pt x="4987769" y="1794603"/>
                </a:cubicBezTo>
                <a:cubicBezTo>
                  <a:pt x="4995883" y="1802717"/>
                  <a:pt x="5009541" y="1801860"/>
                  <a:pt x="5020427" y="1805489"/>
                </a:cubicBezTo>
                <a:cubicBezTo>
                  <a:pt x="5016798" y="1823632"/>
                  <a:pt x="5009541" y="1841415"/>
                  <a:pt x="5009541" y="1859917"/>
                </a:cubicBezTo>
                <a:cubicBezTo>
                  <a:pt x="5009541" y="1992508"/>
                  <a:pt x="5038151" y="1937225"/>
                  <a:pt x="5194598" y="1947003"/>
                </a:cubicBezTo>
                <a:cubicBezTo>
                  <a:pt x="5236664" y="2073196"/>
                  <a:pt x="5174481" y="1920589"/>
                  <a:pt x="5477627" y="1990546"/>
                </a:cubicBezTo>
                <a:cubicBezTo>
                  <a:pt x="5495655" y="1994706"/>
                  <a:pt x="5481224" y="2027968"/>
                  <a:pt x="5488512" y="2044974"/>
                </a:cubicBezTo>
                <a:cubicBezTo>
                  <a:pt x="5500158" y="2072149"/>
                  <a:pt x="5530508" y="2071802"/>
                  <a:pt x="5553827" y="2077631"/>
                </a:cubicBezTo>
                <a:cubicBezTo>
                  <a:pt x="5553922" y="2078010"/>
                  <a:pt x="5570391" y="2148624"/>
                  <a:pt x="5575598" y="2153831"/>
                </a:cubicBezTo>
                <a:cubicBezTo>
                  <a:pt x="5580804" y="2159037"/>
                  <a:pt x="5651421" y="2175509"/>
                  <a:pt x="5651798" y="2175603"/>
                </a:cubicBezTo>
                <a:cubicBezTo>
                  <a:pt x="5655427" y="2222774"/>
                  <a:pt x="5638343" y="2276548"/>
                  <a:pt x="5662684" y="2317117"/>
                </a:cubicBezTo>
                <a:cubicBezTo>
                  <a:pt x="5678079" y="2342775"/>
                  <a:pt x="5749769" y="2338889"/>
                  <a:pt x="5749769" y="2338889"/>
                </a:cubicBezTo>
                <a:cubicBezTo>
                  <a:pt x="5746141" y="2360660"/>
                  <a:pt x="5733531" y="2382790"/>
                  <a:pt x="5738884" y="2404203"/>
                </a:cubicBezTo>
                <a:cubicBezTo>
                  <a:pt x="5742057" y="2416895"/>
                  <a:pt x="5761325" y="2417801"/>
                  <a:pt x="5771541" y="2425974"/>
                </a:cubicBezTo>
                <a:cubicBezTo>
                  <a:pt x="5779555" y="2432385"/>
                  <a:pt x="5784511" y="2442466"/>
                  <a:pt x="5793312" y="2447746"/>
                </a:cubicBezTo>
                <a:cubicBezTo>
                  <a:pt x="5813923" y="2460113"/>
                  <a:pt x="5878101" y="2467320"/>
                  <a:pt x="5891284" y="2469517"/>
                </a:cubicBezTo>
                <a:cubicBezTo>
                  <a:pt x="5907794" y="2458510"/>
                  <a:pt x="5934065" y="2436860"/>
                  <a:pt x="5956598" y="2436860"/>
                </a:cubicBezTo>
                <a:cubicBezTo>
                  <a:pt x="5968073" y="2436860"/>
                  <a:pt x="5978369" y="2444117"/>
                  <a:pt x="5989255" y="2447746"/>
                </a:cubicBezTo>
                <a:cubicBezTo>
                  <a:pt x="5996512" y="2455003"/>
                  <a:pt x="6006437" y="2460337"/>
                  <a:pt x="6011027" y="2469517"/>
                </a:cubicBezTo>
                <a:cubicBezTo>
                  <a:pt x="6061063" y="2569589"/>
                  <a:pt x="6005382" y="2507413"/>
                  <a:pt x="6054569" y="2556603"/>
                </a:cubicBezTo>
                <a:cubicBezTo>
                  <a:pt x="6069083" y="2552974"/>
                  <a:pt x="6083218" y="2547135"/>
                  <a:pt x="6098112" y="2545717"/>
                </a:cubicBezTo>
                <a:cubicBezTo>
                  <a:pt x="6301276" y="2526368"/>
                  <a:pt x="6238169" y="2579829"/>
                  <a:pt x="6304941" y="2513060"/>
                </a:cubicBezTo>
                <a:cubicBezTo>
                  <a:pt x="6366627" y="2516689"/>
                  <a:pt x="6433532" y="2498850"/>
                  <a:pt x="6489998" y="2523946"/>
                </a:cubicBezTo>
                <a:cubicBezTo>
                  <a:pt x="6513444" y="2534367"/>
                  <a:pt x="6495115" y="2575145"/>
                  <a:pt x="6500884" y="2600146"/>
                </a:cubicBezTo>
                <a:cubicBezTo>
                  <a:pt x="6506117" y="2622824"/>
                  <a:pt x="6515275" y="2672655"/>
                  <a:pt x="6544427" y="2687231"/>
                </a:cubicBezTo>
                <a:cubicBezTo>
                  <a:pt x="6557808" y="2693922"/>
                  <a:pt x="6573455" y="2694488"/>
                  <a:pt x="6587969" y="2698117"/>
                </a:cubicBezTo>
                <a:cubicBezTo>
                  <a:pt x="6591598" y="2709003"/>
                  <a:pt x="6589308" y="2724409"/>
                  <a:pt x="6598855" y="2730774"/>
                </a:cubicBezTo>
                <a:cubicBezTo>
                  <a:pt x="6614250" y="2741037"/>
                  <a:pt x="6635222" y="2737646"/>
                  <a:pt x="6653284" y="2741660"/>
                </a:cubicBezTo>
                <a:cubicBezTo>
                  <a:pt x="6667889" y="2744906"/>
                  <a:pt x="6682313" y="2748917"/>
                  <a:pt x="6696827" y="2752546"/>
                </a:cubicBezTo>
                <a:cubicBezTo>
                  <a:pt x="6720003" y="2822078"/>
                  <a:pt x="6695608" y="2743231"/>
                  <a:pt x="6718598" y="2850517"/>
                </a:cubicBezTo>
                <a:cubicBezTo>
                  <a:pt x="6724868" y="2879775"/>
                  <a:pt x="6726987" y="2910840"/>
                  <a:pt x="6740369" y="2937603"/>
                </a:cubicBezTo>
                <a:cubicBezTo>
                  <a:pt x="6789044" y="3034952"/>
                  <a:pt x="6773649" y="2993900"/>
                  <a:pt x="6794798" y="3057346"/>
                </a:cubicBezTo>
                <a:cubicBezTo>
                  <a:pt x="6774026" y="3202746"/>
                  <a:pt x="6793186" y="3060971"/>
                  <a:pt x="6773027" y="3242403"/>
                </a:cubicBezTo>
                <a:cubicBezTo>
                  <a:pt x="6762139" y="3340401"/>
                  <a:pt x="6789337" y="3320424"/>
                  <a:pt x="6729484" y="3340374"/>
                </a:cubicBezTo>
                <a:cubicBezTo>
                  <a:pt x="6725855" y="3420203"/>
                  <a:pt x="6732290" y="3501131"/>
                  <a:pt x="6718598" y="3579860"/>
                </a:cubicBezTo>
                <a:cubicBezTo>
                  <a:pt x="6716632" y="3591165"/>
                  <a:pt x="6697416" y="3590746"/>
                  <a:pt x="6685941" y="3590746"/>
                </a:cubicBezTo>
                <a:cubicBezTo>
                  <a:pt x="6674466" y="3590746"/>
                  <a:pt x="6664170" y="3583489"/>
                  <a:pt x="6653284" y="3579860"/>
                </a:cubicBezTo>
                <a:cubicBezTo>
                  <a:pt x="6613370" y="3583489"/>
                  <a:pt x="6573217" y="3585078"/>
                  <a:pt x="6533541" y="3590746"/>
                </a:cubicBezTo>
                <a:cubicBezTo>
                  <a:pt x="6522182" y="3592369"/>
                  <a:pt x="6507553" y="3592294"/>
                  <a:pt x="6500884" y="3601631"/>
                </a:cubicBezTo>
                <a:cubicBezTo>
                  <a:pt x="6476493" y="3635778"/>
                  <a:pt x="6490977" y="3672694"/>
                  <a:pt x="6457341" y="3699603"/>
                </a:cubicBezTo>
                <a:cubicBezTo>
                  <a:pt x="6448381" y="3706771"/>
                  <a:pt x="6435570" y="3706860"/>
                  <a:pt x="6424684" y="3710489"/>
                </a:cubicBezTo>
                <a:cubicBezTo>
                  <a:pt x="6384770" y="3706860"/>
                  <a:pt x="6344617" y="3705271"/>
                  <a:pt x="6304941" y="3699603"/>
                </a:cubicBezTo>
                <a:cubicBezTo>
                  <a:pt x="6293582" y="3697980"/>
                  <a:pt x="6283707" y="3689805"/>
                  <a:pt x="6272284" y="3688717"/>
                </a:cubicBezTo>
                <a:cubicBezTo>
                  <a:pt x="6207164" y="3682515"/>
                  <a:pt x="6141655" y="3681460"/>
                  <a:pt x="6076341" y="3677831"/>
                </a:cubicBezTo>
                <a:cubicBezTo>
                  <a:pt x="6056089" y="3657580"/>
                  <a:pt x="6046531" y="3650869"/>
                  <a:pt x="6032798" y="3623403"/>
                </a:cubicBezTo>
                <a:cubicBezTo>
                  <a:pt x="6018121" y="3594048"/>
                  <a:pt x="6030514" y="3587198"/>
                  <a:pt x="6000141" y="3568974"/>
                </a:cubicBezTo>
                <a:cubicBezTo>
                  <a:pt x="5990302" y="3563070"/>
                  <a:pt x="5978370" y="3561717"/>
                  <a:pt x="5967484" y="3558089"/>
                </a:cubicBezTo>
                <a:cubicBezTo>
                  <a:pt x="5949388" y="3539993"/>
                  <a:pt x="5937774" y="3525532"/>
                  <a:pt x="5913055" y="3514546"/>
                </a:cubicBezTo>
                <a:cubicBezTo>
                  <a:pt x="5892084" y="3505225"/>
                  <a:pt x="5847741" y="3492774"/>
                  <a:pt x="5847741" y="3492774"/>
                </a:cubicBezTo>
                <a:cubicBezTo>
                  <a:pt x="5753398" y="3496403"/>
                  <a:pt x="5658901" y="3497164"/>
                  <a:pt x="5564712" y="3503660"/>
                </a:cubicBezTo>
                <a:cubicBezTo>
                  <a:pt x="5553265" y="3504449"/>
                  <a:pt x="5542602" y="3519066"/>
                  <a:pt x="5532055" y="3514546"/>
                </a:cubicBezTo>
                <a:cubicBezTo>
                  <a:pt x="5513188" y="3506460"/>
                  <a:pt x="5507985" y="3477494"/>
                  <a:pt x="5488512" y="3471003"/>
                </a:cubicBezTo>
                <a:lnTo>
                  <a:pt x="5423198" y="3449231"/>
                </a:lnTo>
                <a:cubicBezTo>
                  <a:pt x="5415941" y="3438345"/>
                  <a:pt x="5412313" y="3423831"/>
                  <a:pt x="5401427" y="3416574"/>
                </a:cubicBezTo>
                <a:cubicBezTo>
                  <a:pt x="5388979" y="3408275"/>
                  <a:pt x="5371635" y="3411582"/>
                  <a:pt x="5357884" y="3405689"/>
                </a:cubicBezTo>
                <a:cubicBezTo>
                  <a:pt x="5333856" y="3395391"/>
                  <a:pt x="5321011" y="3379701"/>
                  <a:pt x="5303455" y="3362146"/>
                </a:cubicBezTo>
                <a:cubicBezTo>
                  <a:pt x="5238141" y="3365774"/>
                  <a:pt x="5172701" y="3367599"/>
                  <a:pt x="5107512" y="3373031"/>
                </a:cubicBezTo>
                <a:cubicBezTo>
                  <a:pt x="5085517" y="3374864"/>
                  <a:pt x="5048624" y="3362802"/>
                  <a:pt x="5042198" y="3383917"/>
                </a:cubicBezTo>
                <a:cubicBezTo>
                  <a:pt x="5018931" y="3460366"/>
                  <a:pt x="5034941" y="3543574"/>
                  <a:pt x="5031312" y="3623403"/>
                </a:cubicBezTo>
                <a:cubicBezTo>
                  <a:pt x="5020426" y="3616146"/>
                  <a:pt x="5011347" y="3598458"/>
                  <a:pt x="4998655" y="3601631"/>
                </a:cubicBezTo>
                <a:cubicBezTo>
                  <a:pt x="4987523" y="3604414"/>
                  <a:pt x="4990552" y="3623157"/>
                  <a:pt x="4987769" y="3634289"/>
                </a:cubicBezTo>
                <a:cubicBezTo>
                  <a:pt x="4986018" y="3641295"/>
                  <a:pt x="4983784" y="3707523"/>
                  <a:pt x="4955112" y="3710489"/>
                </a:cubicBezTo>
                <a:cubicBezTo>
                  <a:pt x="4857594" y="3720577"/>
                  <a:pt x="4759169" y="3717746"/>
                  <a:pt x="4661198" y="3721374"/>
                </a:cubicBezTo>
                <a:cubicBezTo>
                  <a:pt x="4653941" y="3743146"/>
                  <a:pt x="4620332" y="3773959"/>
                  <a:pt x="4639427" y="3786689"/>
                </a:cubicBezTo>
                <a:cubicBezTo>
                  <a:pt x="4713281" y="3835924"/>
                  <a:pt x="4686239" y="3811729"/>
                  <a:pt x="4726512" y="3852003"/>
                </a:cubicBezTo>
                <a:cubicBezTo>
                  <a:pt x="4736305" y="3881381"/>
                  <a:pt x="4747775" y="3896309"/>
                  <a:pt x="4726512" y="3928203"/>
                </a:cubicBezTo>
                <a:cubicBezTo>
                  <a:pt x="4719255" y="3939089"/>
                  <a:pt x="4704741" y="3942717"/>
                  <a:pt x="4693855" y="3949974"/>
                </a:cubicBezTo>
                <a:cubicBezTo>
                  <a:pt x="4591114" y="3881481"/>
                  <a:pt x="4636414" y="3902443"/>
                  <a:pt x="4389055" y="3939089"/>
                </a:cubicBezTo>
                <a:cubicBezTo>
                  <a:pt x="4376113" y="3941006"/>
                  <a:pt x="4374541" y="3960860"/>
                  <a:pt x="4367284" y="3971746"/>
                </a:cubicBezTo>
                <a:cubicBezTo>
                  <a:pt x="4349141" y="3968117"/>
                  <a:pt x="4329404" y="3969134"/>
                  <a:pt x="4312855" y="3960860"/>
                </a:cubicBezTo>
                <a:cubicBezTo>
                  <a:pt x="4299086" y="3953975"/>
                  <a:pt x="4290217" y="3939892"/>
                  <a:pt x="4280198" y="3928203"/>
                </a:cubicBezTo>
                <a:cubicBezTo>
                  <a:pt x="4273138" y="3919967"/>
                  <a:pt x="4242407" y="3872872"/>
                  <a:pt x="4225769" y="3862889"/>
                </a:cubicBezTo>
                <a:cubicBezTo>
                  <a:pt x="4215930" y="3856985"/>
                  <a:pt x="4203998" y="3855632"/>
                  <a:pt x="4193112" y="3852003"/>
                </a:cubicBezTo>
                <a:cubicBezTo>
                  <a:pt x="4189484" y="3830232"/>
                  <a:pt x="4196761" y="3803300"/>
                  <a:pt x="4182227" y="3786689"/>
                </a:cubicBezTo>
                <a:cubicBezTo>
                  <a:pt x="4167115" y="3769418"/>
                  <a:pt x="4116912" y="3764917"/>
                  <a:pt x="4116912" y="3764917"/>
                </a:cubicBezTo>
                <a:cubicBezTo>
                  <a:pt x="4113284" y="3728631"/>
                  <a:pt x="4111572" y="3692103"/>
                  <a:pt x="4106027" y="3656060"/>
                </a:cubicBezTo>
                <a:cubicBezTo>
                  <a:pt x="4104282" y="3644719"/>
                  <a:pt x="4104478" y="3630072"/>
                  <a:pt x="4095141" y="3623403"/>
                </a:cubicBezTo>
                <a:cubicBezTo>
                  <a:pt x="4076467" y="3610064"/>
                  <a:pt x="4048922" y="3614360"/>
                  <a:pt x="4029827" y="3601631"/>
                </a:cubicBezTo>
                <a:lnTo>
                  <a:pt x="3997169" y="3579860"/>
                </a:lnTo>
                <a:cubicBezTo>
                  <a:pt x="3973852" y="3585689"/>
                  <a:pt x="3943501" y="3585344"/>
                  <a:pt x="3931855" y="3612517"/>
                </a:cubicBezTo>
                <a:cubicBezTo>
                  <a:pt x="3901203" y="3684036"/>
                  <a:pt x="3949384" y="3657475"/>
                  <a:pt x="3888312" y="3677831"/>
                </a:cubicBezTo>
                <a:cubicBezTo>
                  <a:pt x="3861750" y="3668977"/>
                  <a:pt x="3844101" y="3666278"/>
                  <a:pt x="3822998" y="3645174"/>
                </a:cubicBezTo>
                <a:cubicBezTo>
                  <a:pt x="3773760" y="3595935"/>
                  <a:pt x="3832147" y="3622824"/>
                  <a:pt x="3768569" y="3601631"/>
                </a:cubicBezTo>
                <a:cubicBezTo>
                  <a:pt x="3746798" y="3605260"/>
                  <a:pt x="3724194" y="3605537"/>
                  <a:pt x="3703255" y="3612517"/>
                </a:cubicBezTo>
                <a:cubicBezTo>
                  <a:pt x="3643698" y="3632370"/>
                  <a:pt x="3689955" y="3629143"/>
                  <a:pt x="3659712" y="3666946"/>
                </a:cubicBezTo>
                <a:cubicBezTo>
                  <a:pt x="3651539" y="3677162"/>
                  <a:pt x="3637941" y="3681460"/>
                  <a:pt x="3627055" y="3688717"/>
                </a:cubicBezTo>
                <a:cubicBezTo>
                  <a:pt x="3612541" y="3677831"/>
                  <a:pt x="3598276" y="3666605"/>
                  <a:pt x="3583512" y="3656060"/>
                </a:cubicBezTo>
                <a:cubicBezTo>
                  <a:pt x="3572866" y="3648456"/>
                  <a:pt x="3561071" y="3642462"/>
                  <a:pt x="3550855" y="3634289"/>
                </a:cubicBezTo>
                <a:cubicBezTo>
                  <a:pt x="3542841" y="3627878"/>
                  <a:pt x="3538264" y="3617107"/>
                  <a:pt x="3529084" y="3612517"/>
                </a:cubicBezTo>
                <a:cubicBezTo>
                  <a:pt x="3467850" y="3581900"/>
                  <a:pt x="3413095" y="3586139"/>
                  <a:pt x="3344027" y="3579860"/>
                </a:cubicBezTo>
                <a:cubicBezTo>
                  <a:pt x="3359599" y="3533142"/>
                  <a:pt x="3359039" y="3552824"/>
                  <a:pt x="3344027" y="3492774"/>
                </a:cubicBezTo>
                <a:cubicBezTo>
                  <a:pt x="3341244" y="3481642"/>
                  <a:pt x="3341255" y="3468231"/>
                  <a:pt x="3333141" y="3460117"/>
                </a:cubicBezTo>
                <a:cubicBezTo>
                  <a:pt x="3325027" y="3452003"/>
                  <a:pt x="3311370" y="3452860"/>
                  <a:pt x="3300484" y="3449231"/>
                </a:cubicBezTo>
                <a:cubicBezTo>
                  <a:pt x="3293227" y="3441974"/>
                  <a:pt x="3283992" y="3436261"/>
                  <a:pt x="3278712" y="3427460"/>
                </a:cubicBezTo>
                <a:cubicBezTo>
                  <a:pt x="3236316" y="3356801"/>
                  <a:pt x="3301223" y="3428199"/>
                  <a:pt x="3246055" y="3373031"/>
                </a:cubicBezTo>
                <a:cubicBezTo>
                  <a:pt x="3249684" y="3344003"/>
                  <a:pt x="3256941" y="3315200"/>
                  <a:pt x="3256941" y="3285946"/>
                </a:cubicBezTo>
                <a:cubicBezTo>
                  <a:pt x="3256941" y="3270985"/>
                  <a:pt x="3255401" y="3254086"/>
                  <a:pt x="3246055" y="3242403"/>
                </a:cubicBezTo>
                <a:cubicBezTo>
                  <a:pt x="3238887" y="3233443"/>
                  <a:pt x="3224650" y="3233767"/>
                  <a:pt x="3213398" y="3231517"/>
                </a:cubicBezTo>
                <a:cubicBezTo>
                  <a:pt x="3188238" y="3226485"/>
                  <a:pt x="3162598" y="3224260"/>
                  <a:pt x="3137198" y="3220631"/>
                </a:cubicBezTo>
                <a:lnTo>
                  <a:pt x="3039227" y="3187974"/>
                </a:lnTo>
                <a:cubicBezTo>
                  <a:pt x="3028341" y="3184345"/>
                  <a:pt x="3017701" y="3179872"/>
                  <a:pt x="3006569" y="3177089"/>
                </a:cubicBezTo>
                <a:cubicBezTo>
                  <a:pt x="2992055" y="3173460"/>
                  <a:pt x="2977412" y="3170313"/>
                  <a:pt x="2963027" y="3166203"/>
                </a:cubicBezTo>
                <a:cubicBezTo>
                  <a:pt x="2951994" y="3163051"/>
                  <a:pt x="2941688" y="3157203"/>
                  <a:pt x="2930369" y="3155317"/>
                </a:cubicBezTo>
                <a:cubicBezTo>
                  <a:pt x="2897958" y="3149915"/>
                  <a:pt x="2865075" y="3147871"/>
                  <a:pt x="2832398" y="3144431"/>
                </a:cubicBezTo>
                <a:cubicBezTo>
                  <a:pt x="2668509" y="3127180"/>
                  <a:pt x="2725552" y="3133647"/>
                  <a:pt x="2505827" y="3122660"/>
                </a:cubicBezTo>
                <a:cubicBezTo>
                  <a:pt x="2316085" y="3143743"/>
                  <a:pt x="2458231" y="3095328"/>
                  <a:pt x="2396969" y="3340374"/>
                </a:cubicBezTo>
                <a:cubicBezTo>
                  <a:pt x="2393235" y="3355309"/>
                  <a:pt x="2374167" y="3319544"/>
                  <a:pt x="2364312" y="3307717"/>
                </a:cubicBezTo>
                <a:cubicBezTo>
                  <a:pt x="2355937" y="3297666"/>
                  <a:pt x="2352757" y="3283233"/>
                  <a:pt x="2342541" y="3275060"/>
                </a:cubicBezTo>
                <a:cubicBezTo>
                  <a:pt x="2333581" y="3267892"/>
                  <a:pt x="2321085" y="3266663"/>
                  <a:pt x="2309884" y="3264174"/>
                </a:cubicBezTo>
                <a:cubicBezTo>
                  <a:pt x="2069746" y="3210811"/>
                  <a:pt x="2374477" y="3285768"/>
                  <a:pt x="2201027" y="3242403"/>
                </a:cubicBezTo>
                <a:cubicBezTo>
                  <a:pt x="2101390" y="3275615"/>
                  <a:pt x="2266524" y="3209453"/>
                  <a:pt x="2157484" y="3383917"/>
                </a:cubicBezTo>
                <a:cubicBezTo>
                  <a:pt x="2146605" y="3401323"/>
                  <a:pt x="2128455" y="3354888"/>
                  <a:pt x="2113941" y="3340374"/>
                </a:cubicBezTo>
                <a:lnTo>
                  <a:pt x="2092169" y="3318603"/>
                </a:lnTo>
                <a:cubicBezTo>
                  <a:pt x="2095798" y="3260546"/>
                  <a:pt x="2096965" y="3202282"/>
                  <a:pt x="2103055" y="3144431"/>
                </a:cubicBezTo>
                <a:cubicBezTo>
                  <a:pt x="2104256" y="3133020"/>
                  <a:pt x="2123488" y="3118139"/>
                  <a:pt x="2113941" y="3111774"/>
                </a:cubicBezTo>
                <a:cubicBezTo>
                  <a:pt x="2092592" y="3097542"/>
                  <a:pt x="2063141" y="3104517"/>
                  <a:pt x="2037741" y="3100889"/>
                </a:cubicBezTo>
                <a:cubicBezTo>
                  <a:pt x="1945225" y="3070049"/>
                  <a:pt x="2058030" y="3113061"/>
                  <a:pt x="1983312" y="3068231"/>
                </a:cubicBezTo>
                <a:cubicBezTo>
                  <a:pt x="1973473" y="3062328"/>
                  <a:pt x="1961202" y="3061866"/>
                  <a:pt x="1950655" y="3057346"/>
                </a:cubicBezTo>
                <a:cubicBezTo>
                  <a:pt x="1935739" y="3050954"/>
                  <a:pt x="1921027" y="3043923"/>
                  <a:pt x="1907112" y="3035574"/>
                </a:cubicBezTo>
                <a:cubicBezTo>
                  <a:pt x="1884675" y="3022112"/>
                  <a:pt x="1864516" y="3005013"/>
                  <a:pt x="1841798" y="2992031"/>
                </a:cubicBezTo>
                <a:cubicBezTo>
                  <a:pt x="1813619" y="2975929"/>
                  <a:pt x="1783288" y="2963876"/>
                  <a:pt x="1754712" y="2948489"/>
                </a:cubicBezTo>
                <a:cubicBezTo>
                  <a:pt x="1673103" y="2904546"/>
                  <a:pt x="1730959" y="2923499"/>
                  <a:pt x="1656741" y="2904946"/>
                </a:cubicBezTo>
                <a:cubicBezTo>
                  <a:pt x="1649484" y="2897689"/>
                  <a:pt x="1644403" y="2879131"/>
                  <a:pt x="1634969" y="2883174"/>
                </a:cubicBezTo>
                <a:cubicBezTo>
                  <a:pt x="1576137" y="2908387"/>
                  <a:pt x="1603223" y="2946183"/>
                  <a:pt x="1547884" y="2948489"/>
                </a:cubicBezTo>
                <a:cubicBezTo>
                  <a:pt x="1384700" y="2955288"/>
                  <a:pt x="1221313" y="2955746"/>
                  <a:pt x="1058027" y="2959374"/>
                </a:cubicBezTo>
                <a:cubicBezTo>
                  <a:pt x="1043513" y="2963003"/>
                  <a:pt x="1028869" y="2966150"/>
                  <a:pt x="1014484" y="2970260"/>
                </a:cubicBezTo>
                <a:cubicBezTo>
                  <a:pt x="1003451" y="2973412"/>
                  <a:pt x="993116" y="2979093"/>
                  <a:pt x="981827" y="2981146"/>
                </a:cubicBezTo>
                <a:cubicBezTo>
                  <a:pt x="953044" y="2986379"/>
                  <a:pt x="923770" y="2988403"/>
                  <a:pt x="894741" y="2992031"/>
                </a:cubicBezTo>
                <a:cubicBezTo>
                  <a:pt x="883855" y="2999288"/>
                  <a:pt x="874039" y="3008489"/>
                  <a:pt x="862084" y="3013803"/>
                </a:cubicBezTo>
                <a:cubicBezTo>
                  <a:pt x="805462" y="3038968"/>
                  <a:pt x="782554" y="3037605"/>
                  <a:pt x="720569" y="3046460"/>
                </a:cubicBezTo>
                <a:cubicBezTo>
                  <a:pt x="691541" y="3060974"/>
                  <a:pt x="664273" y="3079740"/>
                  <a:pt x="633484" y="3090003"/>
                </a:cubicBezTo>
                <a:lnTo>
                  <a:pt x="568169" y="3111774"/>
                </a:lnTo>
                <a:cubicBezTo>
                  <a:pt x="557283" y="3108146"/>
                  <a:pt x="544472" y="3108057"/>
                  <a:pt x="535512" y="3100889"/>
                </a:cubicBezTo>
                <a:cubicBezTo>
                  <a:pt x="525296" y="3092716"/>
                  <a:pt x="521914" y="3078447"/>
                  <a:pt x="513741" y="3068231"/>
                </a:cubicBezTo>
                <a:cubicBezTo>
                  <a:pt x="507330" y="3060217"/>
                  <a:pt x="499226" y="3053717"/>
                  <a:pt x="491969" y="3046460"/>
                </a:cubicBezTo>
                <a:cubicBezTo>
                  <a:pt x="479116" y="2995046"/>
                  <a:pt x="487775" y="3016298"/>
                  <a:pt x="470198" y="2981146"/>
                </a:cubicBezTo>
                <a:lnTo>
                  <a:pt x="491969" y="2970260"/>
                </a:lnTo>
                <a:lnTo>
                  <a:pt x="448427" y="3002917"/>
                </a:lnTo>
              </a:path>
            </a:pathLst>
          </a:custGeom>
          <a:solidFill>
            <a:srgbClr val="ff9933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248" name="Полилиния 69"/>
          <p:cNvSpPr/>
          <p:nvPr/>
        </p:nvSpPr>
        <p:spPr>
          <a:xfrm>
            <a:off x="2351160" y="816120"/>
            <a:ext cx="6740280" cy="3995640"/>
          </a:xfrm>
          <a:custGeom>
            <a:avLst/>
            <a:gdLst>
              <a:gd name="textAreaLeft" fmla="*/ 0 w 6740280"/>
              <a:gd name="textAreaRight" fmla="*/ 6740640 w 6740280"/>
              <a:gd name="textAreaTop" fmla="*/ 0 h 3995640"/>
              <a:gd name="textAreaBottom" fmla="*/ 3996000 h 3995640"/>
            </a:gdLst>
            <a:ahLst/>
            <a:rect l="textAreaLeft" t="textAreaTop" r="textAreaRight" b="textAreaBottom"/>
            <a:pathLst>
              <a:path w="6740722" h="3995057">
                <a:moveTo>
                  <a:pt x="457200" y="3102428"/>
                </a:moveTo>
                <a:lnTo>
                  <a:pt x="457200" y="3102428"/>
                </a:lnTo>
                <a:cubicBezTo>
                  <a:pt x="453572" y="3069771"/>
                  <a:pt x="436873" y="3035929"/>
                  <a:pt x="446315" y="3004457"/>
                </a:cubicBezTo>
                <a:cubicBezTo>
                  <a:pt x="450614" y="2990127"/>
                  <a:pt x="478175" y="3002917"/>
                  <a:pt x="489857" y="2993571"/>
                </a:cubicBezTo>
                <a:cubicBezTo>
                  <a:pt x="498817" y="2986403"/>
                  <a:pt x="497114" y="2971800"/>
                  <a:pt x="500743" y="2960914"/>
                </a:cubicBezTo>
                <a:cubicBezTo>
                  <a:pt x="486229" y="2946400"/>
                  <a:pt x="476673" y="2923862"/>
                  <a:pt x="457200" y="2917371"/>
                </a:cubicBezTo>
                <a:lnTo>
                  <a:pt x="391886" y="2895600"/>
                </a:lnTo>
                <a:cubicBezTo>
                  <a:pt x="384629" y="2888343"/>
                  <a:pt x="374705" y="2883008"/>
                  <a:pt x="370115" y="2873828"/>
                </a:cubicBezTo>
                <a:cubicBezTo>
                  <a:pt x="359852" y="2853302"/>
                  <a:pt x="348343" y="2808514"/>
                  <a:pt x="348343" y="2808514"/>
                </a:cubicBezTo>
                <a:cubicBezTo>
                  <a:pt x="351972" y="2768600"/>
                  <a:pt x="346555" y="2726793"/>
                  <a:pt x="359229" y="2688771"/>
                </a:cubicBezTo>
                <a:cubicBezTo>
                  <a:pt x="362858" y="2677885"/>
                  <a:pt x="383772" y="2685999"/>
                  <a:pt x="391886" y="2677885"/>
                </a:cubicBezTo>
                <a:cubicBezTo>
                  <a:pt x="400000" y="2669771"/>
                  <a:pt x="393435" y="2651897"/>
                  <a:pt x="402772" y="2645228"/>
                </a:cubicBezTo>
                <a:cubicBezTo>
                  <a:pt x="421446" y="2631889"/>
                  <a:pt x="468086" y="2623457"/>
                  <a:pt x="468086" y="2623457"/>
                </a:cubicBezTo>
                <a:cubicBezTo>
                  <a:pt x="485193" y="2572134"/>
                  <a:pt x="510441" y="2527701"/>
                  <a:pt x="478972" y="2471057"/>
                </a:cubicBezTo>
                <a:cubicBezTo>
                  <a:pt x="471706" y="2457979"/>
                  <a:pt x="449943" y="2463800"/>
                  <a:pt x="435429" y="2460171"/>
                </a:cubicBezTo>
                <a:cubicBezTo>
                  <a:pt x="354977" y="2379723"/>
                  <a:pt x="479928" y="2498177"/>
                  <a:pt x="381000" y="2427514"/>
                </a:cubicBezTo>
                <a:cubicBezTo>
                  <a:pt x="364297" y="2415583"/>
                  <a:pt x="337457" y="2383971"/>
                  <a:pt x="337457" y="2383971"/>
                </a:cubicBezTo>
                <a:cubicBezTo>
                  <a:pt x="308429" y="2387600"/>
                  <a:pt x="279154" y="2400090"/>
                  <a:pt x="250372" y="2394857"/>
                </a:cubicBezTo>
                <a:cubicBezTo>
                  <a:pt x="235226" y="2392103"/>
                  <a:pt x="229542" y="2372055"/>
                  <a:pt x="217715" y="2362200"/>
                </a:cubicBezTo>
                <a:cubicBezTo>
                  <a:pt x="207664" y="2353824"/>
                  <a:pt x="196759" y="2346279"/>
                  <a:pt x="185057" y="2340428"/>
                </a:cubicBezTo>
                <a:cubicBezTo>
                  <a:pt x="169437" y="2332618"/>
                  <a:pt x="122813" y="2322146"/>
                  <a:pt x="108857" y="2318657"/>
                </a:cubicBezTo>
                <a:cubicBezTo>
                  <a:pt x="35004" y="2269421"/>
                  <a:pt x="62045" y="2293617"/>
                  <a:pt x="21772" y="2253342"/>
                </a:cubicBezTo>
                <a:cubicBezTo>
                  <a:pt x="18143" y="2242456"/>
                  <a:pt x="9000" y="2232003"/>
                  <a:pt x="10886" y="2220685"/>
                </a:cubicBezTo>
                <a:cubicBezTo>
                  <a:pt x="13037" y="2207780"/>
                  <a:pt x="26806" y="2199730"/>
                  <a:pt x="32657" y="2188028"/>
                </a:cubicBezTo>
                <a:cubicBezTo>
                  <a:pt x="37789" y="2177765"/>
                  <a:pt x="39914" y="2166257"/>
                  <a:pt x="43543" y="2155371"/>
                </a:cubicBezTo>
                <a:cubicBezTo>
                  <a:pt x="39914" y="2133600"/>
                  <a:pt x="40407" y="2110723"/>
                  <a:pt x="32657" y="2090057"/>
                </a:cubicBezTo>
                <a:cubicBezTo>
                  <a:pt x="29053" y="2080447"/>
                  <a:pt x="16166" y="2077086"/>
                  <a:pt x="10886" y="2068285"/>
                </a:cubicBezTo>
                <a:cubicBezTo>
                  <a:pt x="4982" y="2058446"/>
                  <a:pt x="3629" y="2046514"/>
                  <a:pt x="0" y="2035628"/>
                </a:cubicBezTo>
                <a:cubicBezTo>
                  <a:pt x="7257" y="2028371"/>
                  <a:pt x="12971" y="2019137"/>
                  <a:pt x="21772" y="2013857"/>
                </a:cubicBezTo>
                <a:cubicBezTo>
                  <a:pt x="31611" y="2007953"/>
                  <a:pt x="43055" y="2004488"/>
                  <a:pt x="54429" y="2002971"/>
                </a:cubicBezTo>
                <a:cubicBezTo>
                  <a:pt x="97739" y="1997196"/>
                  <a:pt x="141514" y="1995714"/>
                  <a:pt x="185057" y="1992085"/>
                </a:cubicBezTo>
                <a:cubicBezTo>
                  <a:pt x="195943" y="1988457"/>
                  <a:pt x="207875" y="1987104"/>
                  <a:pt x="217715" y="1981200"/>
                </a:cubicBezTo>
                <a:cubicBezTo>
                  <a:pt x="292435" y="1936368"/>
                  <a:pt x="179622" y="1979383"/>
                  <a:pt x="272143" y="1948542"/>
                </a:cubicBezTo>
                <a:cubicBezTo>
                  <a:pt x="275772" y="1904999"/>
                  <a:pt x="270179" y="1859675"/>
                  <a:pt x="283029" y="1817914"/>
                </a:cubicBezTo>
                <a:cubicBezTo>
                  <a:pt x="286404" y="1806947"/>
                  <a:pt x="306726" y="1814196"/>
                  <a:pt x="315686" y="1807028"/>
                </a:cubicBezTo>
                <a:cubicBezTo>
                  <a:pt x="325902" y="1798855"/>
                  <a:pt x="330200" y="1785257"/>
                  <a:pt x="337457" y="1774371"/>
                </a:cubicBezTo>
                <a:cubicBezTo>
                  <a:pt x="326571" y="1763485"/>
                  <a:pt x="313339" y="1754523"/>
                  <a:pt x="304800" y="1741714"/>
                </a:cubicBezTo>
                <a:cubicBezTo>
                  <a:pt x="248276" y="1656926"/>
                  <a:pt x="339948" y="1755090"/>
                  <a:pt x="272143" y="1687285"/>
                </a:cubicBezTo>
                <a:cubicBezTo>
                  <a:pt x="268514" y="1676399"/>
                  <a:pt x="262880" y="1665987"/>
                  <a:pt x="261257" y="1654628"/>
                </a:cubicBezTo>
                <a:cubicBezTo>
                  <a:pt x="255589" y="1614952"/>
                  <a:pt x="258770" y="1574074"/>
                  <a:pt x="250372" y="1534885"/>
                </a:cubicBezTo>
                <a:cubicBezTo>
                  <a:pt x="247631" y="1522092"/>
                  <a:pt x="235857" y="1513114"/>
                  <a:pt x="228600" y="1502228"/>
                </a:cubicBezTo>
                <a:cubicBezTo>
                  <a:pt x="221343" y="1480457"/>
                  <a:pt x="223056" y="1453141"/>
                  <a:pt x="206829" y="1436914"/>
                </a:cubicBezTo>
                <a:cubicBezTo>
                  <a:pt x="175806" y="1405891"/>
                  <a:pt x="190750" y="1423682"/>
                  <a:pt x="163286" y="1382485"/>
                </a:cubicBezTo>
                <a:cubicBezTo>
                  <a:pt x="166915" y="1349828"/>
                  <a:pt x="143504" y="1296309"/>
                  <a:pt x="174172" y="1284514"/>
                </a:cubicBezTo>
                <a:cubicBezTo>
                  <a:pt x="258908" y="1251923"/>
                  <a:pt x="356045" y="1283300"/>
                  <a:pt x="446315" y="1273628"/>
                </a:cubicBezTo>
                <a:cubicBezTo>
                  <a:pt x="464884" y="1271639"/>
                  <a:pt x="518621" y="1212208"/>
                  <a:pt x="522515" y="1208314"/>
                </a:cubicBezTo>
                <a:cubicBezTo>
                  <a:pt x="529772" y="1201057"/>
                  <a:pt x="534329" y="1189031"/>
                  <a:pt x="544286" y="1186542"/>
                </a:cubicBezTo>
                <a:cubicBezTo>
                  <a:pt x="558800" y="1182914"/>
                  <a:pt x="573444" y="1179767"/>
                  <a:pt x="587829" y="1175657"/>
                </a:cubicBezTo>
                <a:cubicBezTo>
                  <a:pt x="598862" y="1172505"/>
                  <a:pt x="609197" y="1166824"/>
                  <a:pt x="620486" y="1164771"/>
                </a:cubicBezTo>
                <a:cubicBezTo>
                  <a:pt x="807390" y="1130788"/>
                  <a:pt x="635735" y="1171843"/>
                  <a:pt x="751115" y="1143000"/>
                </a:cubicBezTo>
                <a:cubicBezTo>
                  <a:pt x="764632" y="1129483"/>
                  <a:pt x="789508" y="1107452"/>
                  <a:pt x="794657" y="1088571"/>
                </a:cubicBezTo>
                <a:cubicBezTo>
                  <a:pt x="802354" y="1060347"/>
                  <a:pt x="793662" y="1028218"/>
                  <a:pt x="805543" y="1001485"/>
                </a:cubicBezTo>
                <a:cubicBezTo>
                  <a:pt x="810203" y="991000"/>
                  <a:pt x="827068" y="993383"/>
                  <a:pt x="838200" y="990600"/>
                </a:cubicBezTo>
                <a:cubicBezTo>
                  <a:pt x="856150" y="986113"/>
                  <a:pt x="874486" y="983343"/>
                  <a:pt x="892629" y="979714"/>
                </a:cubicBezTo>
                <a:cubicBezTo>
                  <a:pt x="899886" y="972457"/>
                  <a:pt x="910357" y="967375"/>
                  <a:pt x="914400" y="957942"/>
                </a:cubicBezTo>
                <a:cubicBezTo>
                  <a:pt x="967384" y="834313"/>
                  <a:pt x="800250" y="910095"/>
                  <a:pt x="1132115" y="892628"/>
                </a:cubicBezTo>
                <a:cubicBezTo>
                  <a:pt x="1135743" y="852714"/>
                  <a:pt x="1137332" y="812561"/>
                  <a:pt x="1143000" y="772885"/>
                </a:cubicBezTo>
                <a:cubicBezTo>
                  <a:pt x="1144623" y="761526"/>
                  <a:pt x="1146718" y="749188"/>
                  <a:pt x="1153886" y="740228"/>
                </a:cubicBezTo>
                <a:cubicBezTo>
                  <a:pt x="1162059" y="730012"/>
                  <a:pt x="1176327" y="726630"/>
                  <a:pt x="1186543" y="718457"/>
                </a:cubicBezTo>
                <a:cubicBezTo>
                  <a:pt x="1194557" y="712046"/>
                  <a:pt x="1201058" y="703942"/>
                  <a:pt x="1208315" y="696685"/>
                </a:cubicBezTo>
                <a:cubicBezTo>
                  <a:pt x="1211943" y="685799"/>
                  <a:pt x="1213296" y="673867"/>
                  <a:pt x="1219200" y="664028"/>
                </a:cubicBezTo>
                <a:cubicBezTo>
                  <a:pt x="1224480" y="655227"/>
                  <a:pt x="1236382" y="651437"/>
                  <a:pt x="1240972" y="642257"/>
                </a:cubicBezTo>
                <a:cubicBezTo>
                  <a:pt x="1249522" y="625156"/>
                  <a:pt x="1259244" y="538195"/>
                  <a:pt x="1273629" y="533400"/>
                </a:cubicBezTo>
                <a:lnTo>
                  <a:pt x="1306286" y="522514"/>
                </a:lnTo>
                <a:cubicBezTo>
                  <a:pt x="1309915" y="489857"/>
                  <a:pt x="1311770" y="456953"/>
                  <a:pt x="1317172" y="424542"/>
                </a:cubicBezTo>
                <a:cubicBezTo>
                  <a:pt x="1319058" y="413224"/>
                  <a:pt x="1329943" y="403203"/>
                  <a:pt x="1328057" y="391885"/>
                </a:cubicBezTo>
                <a:cubicBezTo>
                  <a:pt x="1325906" y="378980"/>
                  <a:pt x="1313543" y="370114"/>
                  <a:pt x="1306286" y="359228"/>
                </a:cubicBezTo>
                <a:cubicBezTo>
                  <a:pt x="1309915" y="333828"/>
                  <a:pt x="1311403" y="308029"/>
                  <a:pt x="1317172" y="283028"/>
                </a:cubicBezTo>
                <a:cubicBezTo>
                  <a:pt x="1327939" y="236370"/>
                  <a:pt x="1329088" y="221243"/>
                  <a:pt x="1360715" y="195942"/>
                </a:cubicBezTo>
                <a:cubicBezTo>
                  <a:pt x="1370931" y="187769"/>
                  <a:pt x="1381670" y="180022"/>
                  <a:pt x="1393372" y="174171"/>
                </a:cubicBezTo>
                <a:cubicBezTo>
                  <a:pt x="1403635" y="169039"/>
                  <a:pt x="1415143" y="166914"/>
                  <a:pt x="1426029" y="163285"/>
                </a:cubicBezTo>
                <a:cubicBezTo>
                  <a:pt x="1451045" y="88234"/>
                  <a:pt x="1431572" y="114198"/>
                  <a:pt x="1469572" y="76200"/>
                </a:cubicBezTo>
                <a:cubicBezTo>
                  <a:pt x="1473200" y="65314"/>
                  <a:pt x="1474553" y="53382"/>
                  <a:pt x="1480457" y="43542"/>
                </a:cubicBezTo>
                <a:cubicBezTo>
                  <a:pt x="1490797" y="26309"/>
                  <a:pt x="1520056" y="9887"/>
                  <a:pt x="1534886" y="0"/>
                </a:cubicBezTo>
                <a:cubicBezTo>
                  <a:pt x="1553029" y="3628"/>
                  <a:pt x="1571365" y="6398"/>
                  <a:pt x="1589315" y="10885"/>
                </a:cubicBezTo>
                <a:cubicBezTo>
                  <a:pt x="1600447" y="13668"/>
                  <a:pt x="1610939" y="18619"/>
                  <a:pt x="1621972" y="21771"/>
                </a:cubicBezTo>
                <a:cubicBezTo>
                  <a:pt x="1636357" y="25881"/>
                  <a:pt x="1651001" y="29028"/>
                  <a:pt x="1665515" y="32657"/>
                </a:cubicBezTo>
                <a:cubicBezTo>
                  <a:pt x="1759105" y="95049"/>
                  <a:pt x="1640692" y="20246"/>
                  <a:pt x="1730829" y="65314"/>
                </a:cubicBezTo>
                <a:cubicBezTo>
                  <a:pt x="1742531" y="71165"/>
                  <a:pt x="1750535" y="85235"/>
                  <a:pt x="1763486" y="87085"/>
                </a:cubicBezTo>
                <a:cubicBezTo>
                  <a:pt x="1828244" y="96336"/>
                  <a:pt x="1894115" y="94342"/>
                  <a:pt x="1959429" y="97971"/>
                </a:cubicBezTo>
                <a:cubicBezTo>
                  <a:pt x="1981852" y="187663"/>
                  <a:pt x="1947609" y="108517"/>
                  <a:pt x="2068286" y="152400"/>
                </a:cubicBezTo>
                <a:cubicBezTo>
                  <a:pt x="2080581" y="156871"/>
                  <a:pt x="2079841" y="176884"/>
                  <a:pt x="2090057" y="185057"/>
                </a:cubicBezTo>
                <a:cubicBezTo>
                  <a:pt x="2099017" y="192225"/>
                  <a:pt x="2111829" y="192314"/>
                  <a:pt x="2122715" y="195942"/>
                </a:cubicBezTo>
                <a:cubicBezTo>
                  <a:pt x="2130541" y="227250"/>
                  <a:pt x="2126827" y="244130"/>
                  <a:pt x="2155372" y="261257"/>
                </a:cubicBezTo>
                <a:cubicBezTo>
                  <a:pt x="2165211" y="267160"/>
                  <a:pt x="2177143" y="268514"/>
                  <a:pt x="2188029" y="272142"/>
                </a:cubicBezTo>
                <a:cubicBezTo>
                  <a:pt x="2213429" y="268514"/>
                  <a:pt x="2239069" y="266289"/>
                  <a:pt x="2264229" y="261257"/>
                </a:cubicBezTo>
                <a:cubicBezTo>
                  <a:pt x="2275481" y="259007"/>
                  <a:pt x="2285685" y="252860"/>
                  <a:pt x="2296886" y="250371"/>
                </a:cubicBezTo>
                <a:cubicBezTo>
                  <a:pt x="2318432" y="245583"/>
                  <a:pt x="2340429" y="243114"/>
                  <a:pt x="2362200" y="239485"/>
                </a:cubicBezTo>
                <a:cubicBezTo>
                  <a:pt x="2372809" y="207659"/>
                  <a:pt x="2380490" y="148918"/>
                  <a:pt x="2449286" y="217714"/>
                </a:cubicBezTo>
                <a:cubicBezTo>
                  <a:pt x="2467429" y="235857"/>
                  <a:pt x="2448697" y="270965"/>
                  <a:pt x="2460172" y="293914"/>
                </a:cubicBezTo>
                <a:cubicBezTo>
                  <a:pt x="2465304" y="304177"/>
                  <a:pt x="2481406" y="303712"/>
                  <a:pt x="2492829" y="304800"/>
                </a:cubicBezTo>
                <a:cubicBezTo>
                  <a:pt x="2557949" y="311002"/>
                  <a:pt x="2623458" y="312057"/>
                  <a:pt x="2688772" y="315685"/>
                </a:cubicBezTo>
                <a:cubicBezTo>
                  <a:pt x="2703286" y="319314"/>
                  <a:pt x="2717930" y="322461"/>
                  <a:pt x="2732315" y="326571"/>
                </a:cubicBezTo>
                <a:cubicBezTo>
                  <a:pt x="2743348" y="329723"/>
                  <a:pt x="2753568" y="338724"/>
                  <a:pt x="2764972" y="337457"/>
                </a:cubicBezTo>
                <a:cubicBezTo>
                  <a:pt x="2787781" y="334923"/>
                  <a:pt x="2808515" y="322942"/>
                  <a:pt x="2830286" y="315685"/>
                </a:cubicBezTo>
                <a:lnTo>
                  <a:pt x="2862943" y="304800"/>
                </a:lnTo>
                <a:cubicBezTo>
                  <a:pt x="2873829" y="301171"/>
                  <a:pt x="2884196" y="295181"/>
                  <a:pt x="2895600" y="293914"/>
                </a:cubicBezTo>
                <a:lnTo>
                  <a:pt x="2993572" y="283028"/>
                </a:lnTo>
                <a:cubicBezTo>
                  <a:pt x="3020182" y="265288"/>
                  <a:pt x="3035905" y="260854"/>
                  <a:pt x="3048000" y="228600"/>
                </a:cubicBezTo>
                <a:cubicBezTo>
                  <a:pt x="3054497" y="211276"/>
                  <a:pt x="3049706" y="190235"/>
                  <a:pt x="3058886" y="174171"/>
                </a:cubicBezTo>
                <a:cubicBezTo>
                  <a:pt x="3074998" y="145975"/>
                  <a:pt x="3137534" y="144735"/>
                  <a:pt x="3156857" y="141514"/>
                </a:cubicBezTo>
                <a:cubicBezTo>
                  <a:pt x="3240314" y="145143"/>
                  <a:pt x="3324907" y="138207"/>
                  <a:pt x="3407229" y="152400"/>
                </a:cubicBezTo>
                <a:cubicBezTo>
                  <a:pt x="3433014" y="156846"/>
                  <a:pt x="3472543" y="195942"/>
                  <a:pt x="3472543" y="195942"/>
                </a:cubicBezTo>
                <a:cubicBezTo>
                  <a:pt x="3577772" y="192314"/>
                  <a:pt x="3683803" y="198531"/>
                  <a:pt x="3788229" y="185057"/>
                </a:cubicBezTo>
                <a:cubicBezTo>
                  <a:pt x="3801204" y="183383"/>
                  <a:pt x="3799784" y="160573"/>
                  <a:pt x="3810000" y="152400"/>
                </a:cubicBezTo>
                <a:cubicBezTo>
                  <a:pt x="3818960" y="145232"/>
                  <a:pt x="3831771" y="145143"/>
                  <a:pt x="3842657" y="141514"/>
                </a:cubicBezTo>
                <a:cubicBezTo>
                  <a:pt x="3878943" y="145143"/>
                  <a:pt x="3915330" y="147877"/>
                  <a:pt x="3951515" y="152400"/>
                </a:cubicBezTo>
                <a:cubicBezTo>
                  <a:pt x="3973416" y="155138"/>
                  <a:pt x="3994757" y="163285"/>
                  <a:pt x="4016829" y="163285"/>
                </a:cubicBezTo>
                <a:cubicBezTo>
                  <a:pt x="4132061" y="163285"/>
                  <a:pt x="4222580" y="152508"/>
                  <a:pt x="4332515" y="141514"/>
                </a:cubicBezTo>
                <a:lnTo>
                  <a:pt x="4430486" y="108857"/>
                </a:lnTo>
                <a:lnTo>
                  <a:pt x="4463143" y="97971"/>
                </a:lnTo>
                <a:cubicBezTo>
                  <a:pt x="4510314" y="101600"/>
                  <a:pt x="4557712" y="102989"/>
                  <a:pt x="4604657" y="108857"/>
                </a:cubicBezTo>
                <a:cubicBezTo>
                  <a:pt x="4616043" y="110280"/>
                  <a:pt x="4625919" y="118401"/>
                  <a:pt x="4637315" y="119742"/>
                </a:cubicBezTo>
                <a:cubicBezTo>
                  <a:pt x="4687896" y="125693"/>
                  <a:pt x="4738915" y="126999"/>
                  <a:pt x="4789715" y="130628"/>
                </a:cubicBezTo>
                <a:cubicBezTo>
                  <a:pt x="4809964" y="150878"/>
                  <a:pt x="4819525" y="157593"/>
                  <a:pt x="4833257" y="185057"/>
                </a:cubicBezTo>
                <a:cubicBezTo>
                  <a:pt x="4838389" y="195320"/>
                  <a:pt x="4833657" y="213054"/>
                  <a:pt x="4844143" y="217714"/>
                </a:cubicBezTo>
                <a:cubicBezTo>
                  <a:pt x="4870876" y="229595"/>
                  <a:pt x="4902200" y="224971"/>
                  <a:pt x="4931229" y="228600"/>
                </a:cubicBezTo>
                <a:cubicBezTo>
                  <a:pt x="4937146" y="258182"/>
                  <a:pt x="4932906" y="289310"/>
                  <a:pt x="4963886" y="304800"/>
                </a:cubicBezTo>
                <a:cubicBezTo>
                  <a:pt x="4984412" y="315063"/>
                  <a:pt x="5029200" y="326571"/>
                  <a:pt x="5029200" y="326571"/>
                </a:cubicBezTo>
                <a:cubicBezTo>
                  <a:pt x="5057952" y="412824"/>
                  <a:pt x="5047199" y="369248"/>
                  <a:pt x="5061857" y="457200"/>
                </a:cubicBezTo>
                <a:cubicBezTo>
                  <a:pt x="5070676" y="448381"/>
                  <a:pt x="5097445" y="415121"/>
                  <a:pt x="5116286" y="424542"/>
                </a:cubicBezTo>
                <a:cubicBezTo>
                  <a:pt x="5126549" y="429674"/>
                  <a:pt x="5123543" y="446314"/>
                  <a:pt x="5127172" y="457200"/>
                </a:cubicBezTo>
                <a:cubicBezTo>
                  <a:pt x="5123543" y="468086"/>
                  <a:pt x="5125623" y="483188"/>
                  <a:pt x="5116286" y="489857"/>
                </a:cubicBezTo>
                <a:cubicBezTo>
                  <a:pt x="5097612" y="503196"/>
                  <a:pt x="5050972" y="511628"/>
                  <a:pt x="5050972" y="511628"/>
                </a:cubicBezTo>
                <a:cubicBezTo>
                  <a:pt x="5047343" y="522514"/>
                  <a:pt x="5045990" y="534446"/>
                  <a:pt x="5040086" y="544285"/>
                </a:cubicBezTo>
                <a:cubicBezTo>
                  <a:pt x="5034806" y="553086"/>
                  <a:pt x="5018608" y="555798"/>
                  <a:pt x="5018315" y="566057"/>
                </a:cubicBezTo>
                <a:cubicBezTo>
                  <a:pt x="5014894" y="685806"/>
                  <a:pt x="4966247" y="823361"/>
                  <a:pt x="5029200" y="925285"/>
                </a:cubicBezTo>
                <a:cubicBezTo>
                  <a:pt x="5067384" y="987106"/>
                  <a:pt x="5174343" y="932542"/>
                  <a:pt x="5246915" y="936171"/>
                </a:cubicBezTo>
                <a:cubicBezTo>
                  <a:pt x="5271625" y="944408"/>
                  <a:pt x="5296420" y="945247"/>
                  <a:pt x="5301343" y="979714"/>
                </a:cubicBezTo>
                <a:cubicBezTo>
                  <a:pt x="5303459" y="994525"/>
                  <a:pt x="5294086" y="1008743"/>
                  <a:pt x="5290457" y="1023257"/>
                </a:cubicBezTo>
                <a:cubicBezTo>
                  <a:pt x="5400601" y="1059968"/>
                  <a:pt x="5189321" y="992601"/>
                  <a:pt x="5486400" y="1045028"/>
                </a:cubicBezTo>
                <a:cubicBezTo>
                  <a:pt x="5496507" y="1046812"/>
                  <a:pt x="5500915" y="1059543"/>
                  <a:pt x="5508172" y="1066800"/>
                </a:cubicBezTo>
                <a:cubicBezTo>
                  <a:pt x="5526315" y="1063171"/>
                  <a:pt x="5545047" y="1050063"/>
                  <a:pt x="5562600" y="1055914"/>
                </a:cubicBezTo>
                <a:cubicBezTo>
                  <a:pt x="5573486" y="1059543"/>
                  <a:pt x="5573486" y="1077096"/>
                  <a:pt x="5573486" y="1088571"/>
                </a:cubicBezTo>
                <a:cubicBezTo>
                  <a:pt x="5573486" y="1103532"/>
                  <a:pt x="5565534" y="1117443"/>
                  <a:pt x="5562600" y="1132114"/>
                </a:cubicBezTo>
                <a:cubicBezTo>
                  <a:pt x="5558271" y="1153757"/>
                  <a:pt x="5555343" y="1175657"/>
                  <a:pt x="5551715" y="1197428"/>
                </a:cubicBezTo>
                <a:cubicBezTo>
                  <a:pt x="5555343" y="1230085"/>
                  <a:pt x="5557198" y="1262989"/>
                  <a:pt x="5562600" y="1295400"/>
                </a:cubicBezTo>
                <a:cubicBezTo>
                  <a:pt x="5564486" y="1306718"/>
                  <a:pt x="5573486" y="1316582"/>
                  <a:pt x="5573486" y="1328057"/>
                </a:cubicBezTo>
                <a:cubicBezTo>
                  <a:pt x="5573486" y="1339532"/>
                  <a:pt x="5566229" y="1349828"/>
                  <a:pt x="5562600" y="1360714"/>
                </a:cubicBezTo>
                <a:cubicBezTo>
                  <a:pt x="5539581" y="1613941"/>
                  <a:pt x="5595628" y="1436864"/>
                  <a:pt x="5192486" y="1491342"/>
                </a:cubicBezTo>
                <a:cubicBezTo>
                  <a:pt x="5176019" y="1493567"/>
                  <a:pt x="5137175" y="1550037"/>
                  <a:pt x="5127172" y="1567542"/>
                </a:cubicBezTo>
                <a:cubicBezTo>
                  <a:pt x="5119121" y="1581631"/>
                  <a:pt x="5111427" y="1596018"/>
                  <a:pt x="5105400" y="1611085"/>
                </a:cubicBezTo>
                <a:cubicBezTo>
                  <a:pt x="5096877" y="1632393"/>
                  <a:pt x="5093893" y="1655874"/>
                  <a:pt x="5083629" y="1676400"/>
                </a:cubicBezTo>
                <a:cubicBezTo>
                  <a:pt x="5076372" y="1690914"/>
                  <a:pt x="5067884" y="1704875"/>
                  <a:pt x="5061857" y="1719942"/>
                </a:cubicBezTo>
                <a:cubicBezTo>
                  <a:pt x="5021207" y="1821567"/>
                  <a:pt x="5067585" y="1758903"/>
                  <a:pt x="5007429" y="1807028"/>
                </a:cubicBezTo>
                <a:cubicBezTo>
                  <a:pt x="4999415" y="1813439"/>
                  <a:pt x="4995091" y="1824757"/>
                  <a:pt x="4985657" y="1828800"/>
                </a:cubicBezTo>
                <a:cubicBezTo>
                  <a:pt x="4968651" y="1836088"/>
                  <a:pt x="4949372" y="1836057"/>
                  <a:pt x="4931229" y="1839685"/>
                </a:cubicBezTo>
                <a:cubicBezTo>
                  <a:pt x="4923972" y="1846942"/>
                  <a:pt x="4914047" y="1852277"/>
                  <a:pt x="4909457" y="1861457"/>
                </a:cubicBezTo>
                <a:cubicBezTo>
                  <a:pt x="4899194" y="1881983"/>
                  <a:pt x="4887686" y="1926771"/>
                  <a:pt x="4887686" y="1926771"/>
                </a:cubicBezTo>
                <a:cubicBezTo>
                  <a:pt x="4950298" y="1968512"/>
                  <a:pt x="4887884" y="1937657"/>
                  <a:pt x="4985657" y="1937657"/>
                </a:cubicBezTo>
                <a:cubicBezTo>
                  <a:pt x="5032968" y="1937657"/>
                  <a:pt x="5080000" y="1944914"/>
                  <a:pt x="5127172" y="1948542"/>
                </a:cubicBezTo>
                <a:cubicBezTo>
                  <a:pt x="5134429" y="1955799"/>
                  <a:pt x="5138943" y="1968006"/>
                  <a:pt x="5148943" y="1970314"/>
                </a:cubicBezTo>
                <a:cubicBezTo>
                  <a:pt x="5199287" y="1981932"/>
                  <a:pt x="5283488" y="1969297"/>
                  <a:pt x="5334000" y="2002971"/>
                </a:cubicBezTo>
                <a:cubicBezTo>
                  <a:pt x="5344886" y="2010228"/>
                  <a:pt x="5354702" y="2019429"/>
                  <a:pt x="5366657" y="2024742"/>
                </a:cubicBezTo>
                <a:cubicBezTo>
                  <a:pt x="5387628" y="2034063"/>
                  <a:pt x="5431972" y="2046514"/>
                  <a:pt x="5431972" y="2046514"/>
                </a:cubicBezTo>
                <a:cubicBezTo>
                  <a:pt x="5442858" y="2042885"/>
                  <a:pt x="5453154" y="2035628"/>
                  <a:pt x="5464629" y="2035628"/>
                </a:cubicBezTo>
                <a:cubicBezTo>
                  <a:pt x="5619293" y="2035628"/>
                  <a:pt x="5404008" y="2127400"/>
                  <a:pt x="5540829" y="2264228"/>
                </a:cubicBezTo>
                <a:lnTo>
                  <a:pt x="5562600" y="2286000"/>
                </a:lnTo>
                <a:cubicBezTo>
                  <a:pt x="5573486" y="2278743"/>
                  <a:pt x="5583302" y="2269542"/>
                  <a:pt x="5595257" y="2264228"/>
                </a:cubicBezTo>
                <a:cubicBezTo>
                  <a:pt x="5616228" y="2254907"/>
                  <a:pt x="5660572" y="2242457"/>
                  <a:pt x="5660572" y="2242457"/>
                </a:cubicBezTo>
                <a:cubicBezTo>
                  <a:pt x="5689600" y="2246085"/>
                  <a:pt x="5719637" y="2244936"/>
                  <a:pt x="5747657" y="2253342"/>
                </a:cubicBezTo>
                <a:cubicBezTo>
                  <a:pt x="5757488" y="2256291"/>
                  <a:pt x="5768156" y="2264930"/>
                  <a:pt x="5769429" y="2275114"/>
                </a:cubicBezTo>
                <a:cubicBezTo>
                  <a:pt x="5802564" y="2540190"/>
                  <a:pt x="5695623" y="2500485"/>
                  <a:pt x="5845629" y="2525485"/>
                </a:cubicBezTo>
                <a:cubicBezTo>
                  <a:pt x="5860143" y="2521857"/>
                  <a:pt x="5874787" y="2518710"/>
                  <a:pt x="5889172" y="2514600"/>
                </a:cubicBezTo>
                <a:cubicBezTo>
                  <a:pt x="5900205" y="2511448"/>
                  <a:pt x="5910354" y="2503714"/>
                  <a:pt x="5921829" y="2503714"/>
                </a:cubicBezTo>
                <a:cubicBezTo>
                  <a:pt x="6045254" y="2503714"/>
                  <a:pt x="6168572" y="2510971"/>
                  <a:pt x="6291943" y="2514600"/>
                </a:cubicBezTo>
                <a:cubicBezTo>
                  <a:pt x="6398709" y="2550188"/>
                  <a:pt x="6334387" y="2534465"/>
                  <a:pt x="6487886" y="2547257"/>
                </a:cubicBezTo>
                <a:cubicBezTo>
                  <a:pt x="6491515" y="2565400"/>
                  <a:pt x="6495959" y="2583398"/>
                  <a:pt x="6498772" y="2601685"/>
                </a:cubicBezTo>
                <a:cubicBezTo>
                  <a:pt x="6503220" y="2630599"/>
                  <a:pt x="6485604" y="2672119"/>
                  <a:pt x="6509657" y="2688771"/>
                </a:cubicBezTo>
                <a:cubicBezTo>
                  <a:pt x="6545582" y="2713642"/>
                  <a:pt x="6596743" y="2696028"/>
                  <a:pt x="6640286" y="2699657"/>
                </a:cubicBezTo>
                <a:cubicBezTo>
                  <a:pt x="6651172" y="2703285"/>
                  <a:pt x="6669791" y="2699509"/>
                  <a:pt x="6672943" y="2710542"/>
                </a:cubicBezTo>
                <a:cubicBezTo>
                  <a:pt x="6699001" y="2801744"/>
                  <a:pt x="6687730" y="2832555"/>
                  <a:pt x="6672943" y="2906485"/>
                </a:cubicBezTo>
                <a:cubicBezTo>
                  <a:pt x="6676572" y="2924628"/>
                  <a:pt x="6671984" y="2946700"/>
                  <a:pt x="6683829" y="2960914"/>
                </a:cubicBezTo>
                <a:cubicBezTo>
                  <a:pt x="6693407" y="2972407"/>
                  <a:pt x="6726510" y="2956864"/>
                  <a:pt x="6727372" y="2971800"/>
                </a:cubicBezTo>
                <a:cubicBezTo>
                  <a:pt x="6738033" y="3156585"/>
                  <a:pt x="6740722" y="3343472"/>
                  <a:pt x="6716486" y="3526971"/>
                </a:cubicBezTo>
                <a:cubicBezTo>
                  <a:pt x="6713481" y="3549722"/>
                  <a:pt x="6672943" y="3541485"/>
                  <a:pt x="6651172" y="3548742"/>
                </a:cubicBezTo>
                <a:cubicBezTo>
                  <a:pt x="6541426" y="3585324"/>
                  <a:pt x="6711654" y="3529510"/>
                  <a:pt x="6574972" y="3570514"/>
                </a:cubicBezTo>
                <a:cubicBezTo>
                  <a:pt x="6552991" y="3577108"/>
                  <a:pt x="6509657" y="3592285"/>
                  <a:pt x="6509657" y="3592285"/>
                </a:cubicBezTo>
                <a:cubicBezTo>
                  <a:pt x="6504345" y="3624157"/>
                  <a:pt x="6506437" y="3666708"/>
                  <a:pt x="6477000" y="3690257"/>
                </a:cubicBezTo>
                <a:cubicBezTo>
                  <a:pt x="6468040" y="3697425"/>
                  <a:pt x="6455229" y="3697514"/>
                  <a:pt x="6444343" y="3701142"/>
                </a:cubicBezTo>
                <a:cubicBezTo>
                  <a:pt x="6422572" y="3697514"/>
                  <a:pt x="6401060" y="3691592"/>
                  <a:pt x="6379029" y="3690257"/>
                </a:cubicBezTo>
                <a:cubicBezTo>
                  <a:pt x="6281170" y="3684326"/>
                  <a:pt x="6181903" y="3694982"/>
                  <a:pt x="6085115" y="3679371"/>
                </a:cubicBezTo>
                <a:cubicBezTo>
                  <a:pt x="6064851" y="3676103"/>
                  <a:pt x="6056086" y="3650342"/>
                  <a:pt x="6041572" y="3635828"/>
                </a:cubicBezTo>
                <a:lnTo>
                  <a:pt x="6019800" y="3614057"/>
                </a:lnTo>
                <a:cubicBezTo>
                  <a:pt x="5998609" y="3550481"/>
                  <a:pt x="6025496" y="3608867"/>
                  <a:pt x="5976257" y="3559628"/>
                </a:cubicBezTo>
                <a:cubicBezTo>
                  <a:pt x="5967006" y="3550377"/>
                  <a:pt x="5963737" y="3536222"/>
                  <a:pt x="5954486" y="3526971"/>
                </a:cubicBezTo>
                <a:cubicBezTo>
                  <a:pt x="5921535" y="3494020"/>
                  <a:pt x="5915650" y="3495883"/>
                  <a:pt x="5878286" y="3483428"/>
                </a:cubicBezTo>
                <a:cubicBezTo>
                  <a:pt x="5815743" y="3420886"/>
                  <a:pt x="5848198" y="3437114"/>
                  <a:pt x="5791200" y="3418114"/>
                </a:cubicBezTo>
                <a:cubicBezTo>
                  <a:pt x="5692110" y="3451145"/>
                  <a:pt x="5839610" y="3391475"/>
                  <a:pt x="5747657" y="3483428"/>
                </a:cubicBezTo>
                <a:cubicBezTo>
                  <a:pt x="5731430" y="3499655"/>
                  <a:pt x="5682343" y="3505200"/>
                  <a:pt x="5682343" y="3505200"/>
                </a:cubicBezTo>
                <a:cubicBezTo>
                  <a:pt x="5569544" y="3499560"/>
                  <a:pt x="5504459" y="3506993"/>
                  <a:pt x="5410200" y="3483428"/>
                </a:cubicBezTo>
                <a:cubicBezTo>
                  <a:pt x="5355479" y="3469747"/>
                  <a:pt x="5398096" y="3477376"/>
                  <a:pt x="5344886" y="3450771"/>
                </a:cubicBezTo>
                <a:cubicBezTo>
                  <a:pt x="5334623" y="3445639"/>
                  <a:pt x="5323115" y="3443514"/>
                  <a:pt x="5312229" y="3439885"/>
                </a:cubicBezTo>
                <a:cubicBezTo>
                  <a:pt x="5207423" y="3335079"/>
                  <a:pt x="5318916" y="3440879"/>
                  <a:pt x="5236029" y="3374571"/>
                </a:cubicBezTo>
                <a:cubicBezTo>
                  <a:pt x="5228015" y="3368160"/>
                  <a:pt x="5223058" y="3358080"/>
                  <a:pt x="5214257" y="3352800"/>
                </a:cubicBezTo>
                <a:cubicBezTo>
                  <a:pt x="5204418" y="3346896"/>
                  <a:pt x="5192486" y="3345543"/>
                  <a:pt x="5181600" y="3341914"/>
                </a:cubicBezTo>
                <a:cubicBezTo>
                  <a:pt x="5148290" y="3350242"/>
                  <a:pt x="5130458" y="3349513"/>
                  <a:pt x="5105400" y="3374571"/>
                </a:cubicBezTo>
                <a:cubicBezTo>
                  <a:pt x="5056161" y="3423810"/>
                  <a:pt x="5114549" y="3396921"/>
                  <a:pt x="5050972" y="3418114"/>
                </a:cubicBezTo>
                <a:cubicBezTo>
                  <a:pt x="5042956" y="3538352"/>
                  <a:pt x="5084577" y="3564597"/>
                  <a:pt x="5007429" y="3603171"/>
                </a:cubicBezTo>
                <a:cubicBezTo>
                  <a:pt x="4997166" y="3608303"/>
                  <a:pt x="4985658" y="3610428"/>
                  <a:pt x="4974772" y="3614057"/>
                </a:cubicBezTo>
                <a:cubicBezTo>
                  <a:pt x="4978400" y="3628571"/>
                  <a:pt x="4985657" y="3642639"/>
                  <a:pt x="4985657" y="3657600"/>
                </a:cubicBezTo>
                <a:cubicBezTo>
                  <a:pt x="4985657" y="3669074"/>
                  <a:pt x="4986131" y="3688634"/>
                  <a:pt x="4974772" y="3690257"/>
                </a:cubicBezTo>
                <a:cubicBezTo>
                  <a:pt x="4877718" y="3704122"/>
                  <a:pt x="4778829" y="3697514"/>
                  <a:pt x="4680857" y="3701142"/>
                </a:cubicBezTo>
                <a:cubicBezTo>
                  <a:pt x="4684486" y="3715656"/>
                  <a:pt x="4677550" y="3739954"/>
                  <a:pt x="4691743" y="3744685"/>
                </a:cubicBezTo>
                <a:cubicBezTo>
                  <a:pt x="4704155" y="3748822"/>
                  <a:pt x="4713515" y="3725111"/>
                  <a:pt x="4713515" y="3712028"/>
                </a:cubicBezTo>
                <a:lnTo>
                  <a:pt x="4691743" y="3690257"/>
                </a:lnTo>
                <a:cubicBezTo>
                  <a:pt x="4680857" y="3693885"/>
                  <a:pt x="4667200" y="3693028"/>
                  <a:pt x="4659086" y="3701142"/>
                </a:cubicBezTo>
                <a:cubicBezTo>
                  <a:pt x="4650972" y="3709256"/>
                  <a:pt x="4653332" y="3723537"/>
                  <a:pt x="4648200" y="3733800"/>
                </a:cubicBezTo>
                <a:cubicBezTo>
                  <a:pt x="4642349" y="3745502"/>
                  <a:pt x="4633686" y="3755571"/>
                  <a:pt x="4626429" y="3766457"/>
                </a:cubicBezTo>
                <a:cubicBezTo>
                  <a:pt x="4630058" y="3780971"/>
                  <a:pt x="4627463" y="3798741"/>
                  <a:pt x="4637315" y="3810000"/>
                </a:cubicBezTo>
                <a:cubicBezTo>
                  <a:pt x="4654545" y="3829692"/>
                  <a:pt x="4702629" y="3853542"/>
                  <a:pt x="4702629" y="3853542"/>
                </a:cubicBezTo>
                <a:cubicBezTo>
                  <a:pt x="4699000" y="3868056"/>
                  <a:pt x="4704821" y="3889819"/>
                  <a:pt x="4691743" y="3897085"/>
                </a:cubicBezTo>
                <a:cubicBezTo>
                  <a:pt x="4666170" y="3911292"/>
                  <a:pt x="4633811" y="3905541"/>
                  <a:pt x="4604657" y="3907971"/>
                </a:cubicBezTo>
                <a:cubicBezTo>
                  <a:pt x="4546688" y="3912802"/>
                  <a:pt x="4488543" y="3915228"/>
                  <a:pt x="4430486" y="3918857"/>
                </a:cubicBezTo>
                <a:cubicBezTo>
                  <a:pt x="4423229" y="3929743"/>
                  <a:pt x="4417229" y="3941581"/>
                  <a:pt x="4408715" y="3951514"/>
                </a:cubicBezTo>
                <a:cubicBezTo>
                  <a:pt x="4395357" y="3967099"/>
                  <a:pt x="4365172" y="3995057"/>
                  <a:pt x="4365172" y="3995057"/>
                </a:cubicBezTo>
                <a:cubicBezTo>
                  <a:pt x="4287446" y="3969148"/>
                  <a:pt x="4318952" y="3986015"/>
                  <a:pt x="4267200" y="3951514"/>
                </a:cubicBezTo>
                <a:cubicBezTo>
                  <a:pt x="4263572" y="3937000"/>
                  <a:pt x="4263006" y="3921352"/>
                  <a:pt x="4256315" y="3907971"/>
                </a:cubicBezTo>
                <a:cubicBezTo>
                  <a:pt x="4242451" y="3880243"/>
                  <a:pt x="4217550" y="3881952"/>
                  <a:pt x="4191000" y="3875314"/>
                </a:cubicBezTo>
                <a:cubicBezTo>
                  <a:pt x="4153002" y="3837315"/>
                  <a:pt x="4172473" y="3863277"/>
                  <a:pt x="4147457" y="3788228"/>
                </a:cubicBezTo>
                <a:cubicBezTo>
                  <a:pt x="4143828" y="3777342"/>
                  <a:pt x="4144686" y="3763684"/>
                  <a:pt x="4136572" y="3755571"/>
                </a:cubicBezTo>
                <a:lnTo>
                  <a:pt x="4114800" y="3733800"/>
                </a:lnTo>
                <a:cubicBezTo>
                  <a:pt x="4111172" y="3719286"/>
                  <a:pt x="4112214" y="3702705"/>
                  <a:pt x="4103915" y="3690257"/>
                </a:cubicBezTo>
                <a:cubicBezTo>
                  <a:pt x="4096658" y="3679371"/>
                  <a:pt x="4080508" y="3677736"/>
                  <a:pt x="4071257" y="3668485"/>
                </a:cubicBezTo>
                <a:cubicBezTo>
                  <a:pt x="4062006" y="3659234"/>
                  <a:pt x="4056743" y="3646714"/>
                  <a:pt x="4049486" y="3635828"/>
                </a:cubicBezTo>
                <a:cubicBezTo>
                  <a:pt x="4020457" y="3639457"/>
                  <a:pt x="3990624" y="3639017"/>
                  <a:pt x="3962400" y="3646714"/>
                </a:cubicBezTo>
                <a:cubicBezTo>
                  <a:pt x="3949778" y="3650156"/>
                  <a:pt x="3942826" y="3668485"/>
                  <a:pt x="3929743" y="3668485"/>
                </a:cubicBezTo>
                <a:cubicBezTo>
                  <a:pt x="3857284" y="3668485"/>
                  <a:pt x="3841215" y="3650967"/>
                  <a:pt x="3788229" y="3635828"/>
                </a:cubicBezTo>
                <a:cubicBezTo>
                  <a:pt x="3773844" y="3631718"/>
                  <a:pt x="3759200" y="3628571"/>
                  <a:pt x="3744686" y="3624942"/>
                </a:cubicBezTo>
                <a:cubicBezTo>
                  <a:pt x="3737429" y="3632199"/>
                  <a:pt x="3728195" y="3637913"/>
                  <a:pt x="3722915" y="3646714"/>
                </a:cubicBezTo>
                <a:cubicBezTo>
                  <a:pt x="3689916" y="3701712"/>
                  <a:pt x="3754690" y="3685466"/>
                  <a:pt x="3635829" y="3668485"/>
                </a:cubicBezTo>
                <a:cubicBezTo>
                  <a:pt x="3560024" y="3643218"/>
                  <a:pt x="3641170" y="3675675"/>
                  <a:pt x="3581400" y="3635828"/>
                </a:cubicBezTo>
                <a:cubicBezTo>
                  <a:pt x="3542771" y="3610076"/>
                  <a:pt x="3529298" y="3612345"/>
                  <a:pt x="3483429" y="3603171"/>
                </a:cubicBezTo>
                <a:cubicBezTo>
                  <a:pt x="3437279" y="3557023"/>
                  <a:pt x="3490642" y="3601948"/>
                  <a:pt x="3396343" y="3570514"/>
                </a:cubicBezTo>
                <a:cubicBezTo>
                  <a:pt x="3383931" y="3566377"/>
                  <a:pt x="3374572" y="3555999"/>
                  <a:pt x="3363686" y="3548742"/>
                </a:cubicBezTo>
                <a:cubicBezTo>
                  <a:pt x="3356429" y="3537856"/>
                  <a:pt x="3347228" y="3528040"/>
                  <a:pt x="3341915" y="3516085"/>
                </a:cubicBezTo>
                <a:cubicBezTo>
                  <a:pt x="3332594" y="3495114"/>
                  <a:pt x="3341914" y="3458028"/>
                  <a:pt x="3320143" y="3450771"/>
                </a:cubicBezTo>
                <a:cubicBezTo>
                  <a:pt x="3275075" y="3435748"/>
                  <a:pt x="3297033" y="3446250"/>
                  <a:pt x="3254829" y="3418114"/>
                </a:cubicBezTo>
                <a:cubicBezTo>
                  <a:pt x="3251200" y="3407228"/>
                  <a:pt x="3243943" y="3396932"/>
                  <a:pt x="3243943" y="3385457"/>
                </a:cubicBezTo>
                <a:cubicBezTo>
                  <a:pt x="3243943" y="3371788"/>
                  <a:pt x="3260581" y="3324657"/>
                  <a:pt x="3265715" y="3309257"/>
                </a:cubicBezTo>
                <a:cubicBezTo>
                  <a:pt x="3258458" y="3298371"/>
                  <a:pt x="3253194" y="3285851"/>
                  <a:pt x="3243943" y="3276600"/>
                </a:cubicBezTo>
                <a:cubicBezTo>
                  <a:pt x="3234692" y="3267349"/>
                  <a:pt x="3222988" y="3260679"/>
                  <a:pt x="3211286" y="3254828"/>
                </a:cubicBezTo>
                <a:cubicBezTo>
                  <a:pt x="3179989" y="3239179"/>
                  <a:pt x="3132519" y="3238072"/>
                  <a:pt x="3102429" y="3233057"/>
                </a:cubicBezTo>
                <a:cubicBezTo>
                  <a:pt x="3084178" y="3230015"/>
                  <a:pt x="3065950" y="3226659"/>
                  <a:pt x="3048000" y="3222171"/>
                </a:cubicBezTo>
                <a:cubicBezTo>
                  <a:pt x="2927850" y="3192133"/>
                  <a:pt x="3127568" y="3236244"/>
                  <a:pt x="2971800" y="3189514"/>
                </a:cubicBezTo>
                <a:cubicBezTo>
                  <a:pt x="2950659" y="3183172"/>
                  <a:pt x="2928129" y="3182957"/>
                  <a:pt x="2906486" y="3178628"/>
                </a:cubicBezTo>
                <a:cubicBezTo>
                  <a:pt x="2891815" y="3175694"/>
                  <a:pt x="2877548" y="3170987"/>
                  <a:pt x="2862943" y="3167742"/>
                </a:cubicBezTo>
                <a:cubicBezTo>
                  <a:pt x="2844882" y="3163728"/>
                  <a:pt x="2826465" y="3161344"/>
                  <a:pt x="2808515" y="3156857"/>
                </a:cubicBezTo>
                <a:cubicBezTo>
                  <a:pt x="2763678" y="3145648"/>
                  <a:pt x="2778444" y="3139308"/>
                  <a:pt x="2721429" y="3135085"/>
                </a:cubicBezTo>
                <a:cubicBezTo>
                  <a:pt x="2641736" y="3129182"/>
                  <a:pt x="2561772" y="3127828"/>
                  <a:pt x="2481943" y="3124200"/>
                </a:cubicBezTo>
                <a:cubicBezTo>
                  <a:pt x="2461240" y="3120059"/>
                  <a:pt x="2417173" y="3101884"/>
                  <a:pt x="2394857" y="3124200"/>
                </a:cubicBezTo>
                <a:cubicBezTo>
                  <a:pt x="2386743" y="3132314"/>
                  <a:pt x="2387600" y="3145971"/>
                  <a:pt x="2383972" y="3156857"/>
                </a:cubicBezTo>
                <a:cubicBezTo>
                  <a:pt x="2380343" y="3185885"/>
                  <a:pt x="2381492" y="3215921"/>
                  <a:pt x="2373086" y="3243942"/>
                </a:cubicBezTo>
                <a:cubicBezTo>
                  <a:pt x="2370137" y="3253772"/>
                  <a:pt x="2361578" y="3265714"/>
                  <a:pt x="2351315" y="3265714"/>
                </a:cubicBezTo>
                <a:cubicBezTo>
                  <a:pt x="2341052" y="3265714"/>
                  <a:pt x="2338344" y="3249222"/>
                  <a:pt x="2329543" y="3243942"/>
                </a:cubicBezTo>
                <a:cubicBezTo>
                  <a:pt x="2319704" y="3238039"/>
                  <a:pt x="2307772" y="3236685"/>
                  <a:pt x="2296886" y="3233057"/>
                </a:cubicBezTo>
                <a:cubicBezTo>
                  <a:pt x="2271486" y="3236685"/>
                  <a:pt x="2241212" y="3228547"/>
                  <a:pt x="2220686" y="3243942"/>
                </a:cubicBezTo>
                <a:cubicBezTo>
                  <a:pt x="2205884" y="3255043"/>
                  <a:pt x="2220063" y="3282976"/>
                  <a:pt x="2209800" y="3298371"/>
                </a:cubicBezTo>
                <a:cubicBezTo>
                  <a:pt x="2203435" y="3307918"/>
                  <a:pt x="2188029" y="3305628"/>
                  <a:pt x="2177143" y="3309257"/>
                </a:cubicBezTo>
                <a:cubicBezTo>
                  <a:pt x="2144486" y="3305628"/>
                  <a:pt x="2105458" y="3318086"/>
                  <a:pt x="2079172" y="3298371"/>
                </a:cubicBezTo>
                <a:cubicBezTo>
                  <a:pt x="2064370" y="3287270"/>
                  <a:pt x="2085189" y="3261792"/>
                  <a:pt x="2090057" y="3243942"/>
                </a:cubicBezTo>
                <a:cubicBezTo>
                  <a:pt x="2096095" y="3221802"/>
                  <a:pt x="2111829" y="3178628"/>
                  <a:pt x="2111829" y="3178628"/>
                </a:cubicBezTo>
                <a:cubicBezTo>
                  <a:pt x="2097315" y="3171371"/>
                  <a:pt x="2081268" y="3166593"/>
                  <a:pt x="2068286" y="3156857"/>
                </a:cubicBezTo>
                <a:cubicBezTo>
                  <a:pt x="2051865" y="3144541"/>
                  <a:pt x="2041822" y="3124700"/>
                  <a:pt x="2024743" y="3113314"/>
                </a:cubicBezTo>
                <a:lnTo>
                  <a:pt x="1992086" y="3091542"/>
                </a:lnTo>
                <a:cubicBezTo>
                  <a:pt x="1988692" y="3086451"/>
                  <a:pt x="1960684" y="3039812"/>
                  <a:pt x="1948543" y="3037114"/>
                </a:cubicBezTo>
                <a:cubicBezTo>
                  <a:pt x="1891427" y="3024422"/>
                  <a:pt x="1774372" y="3015342"/>
                  <a:pt x="1774372" y="3015342"/>
                </a:cubicBezTo>
                <a:cubicBezTo>
                  <a:pt x="1676400" y="3018971"/>
                  <a:pt x="1578093" y="3017352"/>
                  <a:pt x="1480457" y="3026228"/>
                </a:cubicBezTo>
                <a:cubicBezTo>
                  <a:pt x="1457602" y="3028306"/>
                  <a:pt x="1434238" y="3035270"/>
                  <a:pt x="1415143" y="3048000"/>
                </a:cubicBezTo>
                <a:cubicBezTo>
                  <a:pt x="1393127" y="3062677"/>
                  <a:pt x="1377191" y="3077438"/>
                  <a:pt x="1349829" y="3080657"/>
                </a:cubicBezTo>
                <a:cubicBezTo>
                  <a:pt x="1299248" y="3086608"/>
                  <a:pt x="1248229" y="3087914"/>
                  <a:pt x="1197429" y="3091542"/>
                </a:cubicBezTo>
                <a:cubicBezTo>
                  <a:pt x="1164780" y="3096984"/>
                  <a:pt x="1095552" y="3105032"/>
                  <a:pt x="1066800" y="3124200"/>
                </a:cubicBezTo>
                <a:lnTo>
                  <a:pt x="1034143" y="3145971"/>
                </a:lnTo>
                <a:cubicBezTo>
                  <a:pt x="1026886" y="3156857"/>
                  <a:pt x="1020545" y="3168412"/>
                  <a:pt x="1012372" y="3178628"/>
                </a:cubicBezTo>
                <a:cubicBezTo>
                  <a:pt x="995072" y="3200254"/>
                  <a:pt x="968228" y="3217179"/>
                  <a:pt x="947057" y="3233057"/>
                </a:cubicBezTo>
                <a:cubicBezTo>
                  <a:pt x="939800" y="3243943"/>
                  <a:pt x="934537" y="3256463"/>
                  <a:pt x="925286" y="3265714"/>
                </a:cubicBezTo>
                <a:cubicBezTo>
                  <a:pt x="916035" y="3274965"/>
                  <a:pt x="902845" y="3279312"/>
                  <a:pt x="892629" y="3287485"/>
                </a:cubicBezTo>
                <a:cubicBezTo>
                  <a:pt x="884615" y="3293896"/>
                  <a:pt x="878114" y="3302000"/>
                  <a:pt x="870857" y="3309257"/>
                </a:cubicBezTo>
                <a:cubicBezTo>
                  <a:pt x="801914" y="3305628"/>
                  <a:pt x="732784" y="3304622"/>
                  <a:pt x="664029" y="3298371"/>
                </a:cubicBezTo>
                <a:cubicBezTo>
                  <a:pt x="622137" y="3294563"/>
                  <a:pt x="634115" y="3284245"/>
                  <a:pt x="609600" y="3254828"/>
                </a:cubicBezTo>
                <a:cubicBezTo>
                  <a:pt x="599745" y="3243002"/>
                  <a:pt x="586798" y="3233998"/>
                  <a:pt x="576943" y="3222171"/>
                </a:cubicBezTo>
                <a:cubicBezTo>
                  <a:pt x="568568" y="3212120"/>
                  <a:pt x="565388" y="3197687"/>
                  <a:pt x="555172" y="3189514"/>
                </a:cubicBezTo>
                <a:cubicBezTo>
                  <a:pt x="546212" y="3182346"/>
                  <a:pt x="533401" y="3182257"/>
                  <a:pt x="522515" y="3178628"/>
                </a:cubicBezTo>
                <a:cubicBezTo>
                  <a:pt x="515258" y="3171371"/>
                  <a:pt x="508757" y="3163268"/>
                  <a:pt x="500743" y="3156857"/>
                </a:cubicBezTo>
                <a:cubicBezTo>
                  <a:pt x="490527" y="3148684"/>
                  <a:pt x="471259" y="3147777"/>
                  <a:pt x="468086" y="3135085"/>
                </a:cubicBezTo>
                <a:cubicBezTo>
                  <a:pt x="462733" y="3113672"/>
                  <a:pt x="472909" y="3090993"/>
                  <a:pt x="478972" y="3069771"/>
                </a:cubicBezTo>
                <a:cubicBezTo>
                  <a:pt x="480382" y="3064837"/>
                  <a:pt x="486229" y="3062514"/>
                  <a:pt x="489857" y="3058885"/>
                </a:cubicBezTo>
                <a:lnTo>
                  <a:pt x="489857" y="3004457"/>
                </a:lnTo>
              </a:path>
            </a:pathLst>
          </a:custGeom>
          <a:solidFill>
            <a:srgbClr val="ffcc99">
              <a:alpha val="33000"/>
            </a:srgbClr>
          </a:solidFill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1069"/>
          <p:cNvSpPr/>
          <p:nvPr/>
        </p:nvSpPr>
        <p:spPr>
          <a:xfrm>
            <a:off x="1143000" y="51055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овый комплекс «Южный ха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28"/>
          <p:cNvSpPr/>
          <p:nvPr/>
        </p:nvSpPr>
        <p:spPr>
          <a:xfrm>
            <a:off x="5148360" y="3429000"/>
            <a:ext cx="18576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Овал 29"/>
          <p:cNvSpPr/>
          <p:nvPr/>
        </p:nvSpPr>
        <p:spPr>
          <a:xfrm>
            <a:off x="990720" y="2057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2"/>
          <p:cNvSpPr/>
          <p:nvPr/>
        </p:nvSpPr>
        <p:spPr>
          <a:xfrm>
            <a:off x="0" y="2057400"/>
            <a:ext cx="1981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0"/>
          <p:cNvSpPr/>
          <p:nvPr/>
        </p:nvSpPr>
        <p:spPr>
          <a:xfrm>
            <a:off x="3505320" y="28195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нец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Овал 38"/>
          <p:cNvSpPr/>
          <p:nvPr/>
        </p:nvSpPr>
        <p:spPr>
          <a:xfrm>
            <a:off x="3124080" y="2666880"/>
            <a:ext cx="457200" cy="4572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0"/>
          <p:cNvSpPr/>
          <p:nvPr/>
        </p:nvSpPr>
        <p:spPr>
          <a:xfrm>
            <a:off x="76212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непроперо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41"/>
          <p:cNvSpPr/>
          <p:nvPr/>
        </p:nvSpPr>
        <p:spPr>
          <a:xfrm>
            <a:off x="5334120" y="3581280"/>
            <a:ext cx="457200" cy="4572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9"/>
          <p:cNvSpPr/>
          <p:nvPr/>
        </p:nvSpPr>
        <p:spPr>
          <a:xfrm>
            <a:off x="44197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ган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52"/>
          <p:cNvSpPr/>
          <p:nvPr/>
        </p:nvSpPr>
        <p:spPr>
          <a:xfrm>
            <a:off x="6781680" y="289548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54"/>
          <p:cNvSpPr/>
          <p:nvPr/>
        </p:nvSpPr>
        <p:spPr>
          <a:xfrm>
            <a:off x="6477120" y="2743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Кали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63"/>
          <p:cNvSpPr/>
          <p:nvPr/>
        </p:nvSpPr>
        <p:spPr>
          <a:xfrm>
            <a:off x="1981080" y="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66"/>
          <p:cNvSpPr/>
          <p:nvPr/>
        </p:nvSpPr>
        <p:spPr>
          <a:xfrm>
            <a:off x="2065680" y="2286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67"/>
          <p:cNvSpPr/>
          <p:nvPr/>
        </p:nvSpPr>
        <p:spPr>
          <a:xfrm>
            <a:off x="23623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рь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68"/>
          <p:cNvSpPr/>
          <p:nvPr/>
        </p:nvSpPr>
        <p:spPr>
          <a:xfrm>
            <a:off x="2438280" y="228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лгор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ая выноска 61"/>
          <p:cNvSpPr/>
          <p:nvPr/>
        </p:nvSpPr>
        <p:spPr>
          <a:xfrm>
            <a:off x="6732720" y="836640"/>
            <a:ext cx="2209680" cy="12952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врорегион «Донбасс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Овал 72"/>
          <p:cNvSpPr/>
          <p:nvPr/>
        </p:nvSpPr>
        <p:spPr>
          <a:xfrm>
            <a:off x="3124080" y="2666880"/>
            <a:ext cx="457200" cy="4572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Овал 75"/>
          <p:cNvSpPr/>
          <p:nvPr/>
        </p:nvSpPr>
        <p:spPr>
          <a:xfrm>
            <a:off x="5334120" y="3581280"/>
            <a:ext cx="457200" cy="4572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Овал 46"/>
          <p:cNvSpPr/>
          <p:nvPr/>
        </p:nvSpPr>
        <p:spPr>
          <a:xfrm>
            <a:off x="4191120" y="1981080"/>
            <a:ext cx="304560" cy="3049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5562720" y="3809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тов-на-До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1"/>
          <p:cNvSpPr/>
          <p:nvPr/>
        </p:nvSpPr>
        <p:spPr>
          <a:xfrm>
            <a:off x="755640" y="5157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63"/>
          <p:cNvSpPr/>
          <p:nvPr/>
        </p:nvSpPr>
        <p:spPr>
          <a:xfrm>
            <a:off x="1979640" y="-171360"/>
            <a:ext cx="936720" cy="171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http://im6-tub-ru.yandex.net/i?id=404199889-23-72&amp;n=17"/>
          <p:cNvPicPr/>
          <p:nvPr/>
        </p:nvPicPr>
        <p:blipFill>
          <a:blip r:embed="rId3"/>
          <a:stretch/>
        </p:blipFill>
        <p:spPr>
          <a:xfrm>
            <a:off x="4716360" y="1844640"/>
            <a:ext cx="1263600" cy="100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http://young.rzd.ru/dbmm/images/41/4080/2236395"/>
          <p:cNvPicPr/>
          <p:nvPr/>
        </p:nvPicPr>
        <p:blipFill>
          <a:blip r:embed="rId4"/>
          <a:stretch/>
        </p:blipFill>
        <p:spPr>
          <a:xfrm>
            <a:off x="5724360" y="2349360"/>
            <a:ext cx="1008360" cy="15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Картинка 2 из 1950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3429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im4-tub-ru.yandex.net/i?id=71254547-22-72"/>
          <p:cNvPicPr/>
          <p:nvPr/>
        </p:nvPicPr>
        <p:blipFill>
          <a:blip r:embed="rId7"/>
          <a:stretch/>
        </p:blipFill>
        <p:spPr>
          <a:xfrm>
            <a:off x="4211640" y="2781360"/>
            <a:ext cx="1224000" cy="1003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http://im7-tub-ru.yandex.net/i?id=290088776-56-72"/>
          <p:cNvPicPr/>
          <p:nvPr/>
        </p:nvPicPr>
        <p:blipFill>
          <a:blip r:embed="rId8"/>
          <a:stretch/>
        </p:blipFill>
        <p:spPr>
          <a:xfrm>
            <a:off x="2843280" y="1916280"/>
            <a:ext cx="1428840" cy="90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Картинка 6 из 1156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59280" y="907920"/>
            <a:ext cx="1295280" cy="9097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37"/>
          <p:cNvSpPr/>
          <p:nvPr/>
        </p:nvSpPr>
        <p:spPr>
          <a:xfrm>
            <a:off x="539640" y="-171360"/>
            <a:ext cx="835344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врорегион «Донбасс» – еврорегион                            производственно-технологического ти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Object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712000" cy="6195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31640" y="662040"/>
            <a:ext cx="8712360" cy="619596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8"/>
          <p:cNvSpPr/>
          <p:nvPr/>
        </p:nvSpPr>
        <p:spPr>
          <a:xfrm>
            <a:off x="755640" y="115920"/>
            <a:ext cx="806436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атистика ответов на запрос по еврорегионам с участием России и Украины на основных поисковых системах (тыс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Скругленный прямоугольник 1"/>
          <p:cNvSpPr/>
          <p:nvPr/>
        </p:nvSpPr>
        <p:spPr>
          <a:xfrm>
            <a:off x="1785960" y="1071720"/>
            <a:ext cx="6643800" cy="48574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хождение России в ВТО  формирует еще одно (наряду, например, с  СНГ) пространство, которое объединяет Россию и Украину, и тем самым, развивает потенциал проектов и программ приграничного сотрудничества в рамках Еврорегиона «Донбасс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http://im3-tub-ru.yandex.net/i?id=195209219-04-72"/>
          <p:cNvPicPr/>
          <p:nvPr/>
        </p:nvPicPr>
        <p:blipFill>
          <a:blip r:embed="rId1"/>
          <a:stretch/>
        </p:blipFill>
        <p:spPr>
          <a:xfrm>
            <a:off x="357120" y="428760"/>
            <a:ext cx="1428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кономический  потенциал Т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2"/>
          <p:cNvSpPr/>
          <p:nvPr/>
        </p:nvSpPr>
        <p:spPr>
          <a:xfrm>
            <a:off x="857160" y="121428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я в мировом ВВ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857160" y="2000160"/>
            <a:ext cx="3286080" cy="6429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857160" y="2857680"/>
            <a:ext cx="3286080" cy="7142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я в мировом экспор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857160" y="3786120"/>
            <a:ext cx="3286080" cy="85716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м рынка промышленной продук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857160" y="478620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м  рынка сельскохозяйственной прод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7"/>
          <p:cNvSpPr/>
          <p:nvPr/>
        </p:nvSpPr>
        <p:spPr>
          <a:xfrm>
            <a:off x="857160" y="5786280"/>
            <a:ext cx="32860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я в мировом экспорте энергоносител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8"/>
          <p:cNvSpPr/>
          <p:nvPr/>
        </p:nvSpPr>
        <p:spPr>
          <a:xfrm>
            <a:off x="5786280" y="1214280"/>
            <a:ext cx="2428920" cy="5716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,6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9"/>
          <p:cNvSpPr/>
          <p:nvPr/>
        </p:nvSpPr>
        <p:spPr>
          <a:xfrm>
            <a:off x="5786280" y="2071800"/>
            <a:ext cx="2428920" cy="6429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,4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68 млн.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10"/>
          <p:cNvSpPr/>
          <p:nvPr/>
        </p:nvSpPr>
        <p:spPr>
          <a:xfrm>
            <a:off x="5786280" y="2928960"/>
            <a:ext cx="2428920" cy="6429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,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кругленный прямоугольник 11"/>
          <p:cNvSpPr/>
          <p:nvPr/>
        </p:nvSpPr>
        <p:spPr>
          <a:xfrm>
            <a:off x="5786280" y="3786120"/>
            <a:ext cx="2428920" cy="85716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трлн. дол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12"/>
          <p:cNvSpPr/>
          <p:nvPr/>
        </p:nvSpPr>
        <p:spPr>
          <a:xfrm>
            <a:off x="5786280" y="4857840"/>
            <a:ext cx="2428920" cy="78588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0 млрд. дол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13"/>
          <p:cNvSpPr/>
          <p:nvPr/>
        </p:nvSpPr>
        <p:spPr>
          <a:xfrm>
            <a:off x="5857920" y="5786280"/>
            <a:ext cx="23572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4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ункционирование ТС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714240" y="1143000"/>
            <a:ext cx="7858440" cy="5000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диный таможенный тариф    (ЕТТ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714240" y="1785960"/>
            <a:ext cx="7858440" cy="5713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диная система нетарифн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714240" y="2500200"/>
            <a:ext cx="7858440" cy="5716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моженный коде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714240" y="3214800"/>
            <a:ext cx="7858440" cy="5000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диный торговый режим с третьими стран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кругленный прямоугольник 14"/>
          <p:cNvSpPr/>
          <p:nvPr/>
        </p:nvSpPr>
        <p:spPr>
          <a:xfrm>
            <a:off x="714240" y="3857760"/>
            <a:ext cx="7858440" cy="6429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ос таможенного контроля на внешние гра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15"/>
          <p:cNvSpPr/>
          <p:nvPr/>
        </p:nvSpPr>
        <p:spPr>
          <a:xfrm>
            <a:off x="714240" y="4643280"/>
            <a:ext cx="7858440" cy="7146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ханизм  зачисления и распределения сумм таможенных пошлин, налогов и сб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16"/>
          <p:cNvSpPr/>
          <p:nvPr/>
        </p:nvSpPr>
        <p:spPr>
          <a:xfrm>
            <a:off x="714240" y="5500800"/>
            <a:ext cx="792972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диные принципы и правила технического регулирован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диные регламенты (первое полугодие 2012 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160" y="360"/>
            <a:ext cx="240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апы формирования единой таможенной террит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214200" y="1071720"/>
            <a:ext cx="1571760" cy="5713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1.01.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214200" y="1928880"/>
            <a:ext cx="1571760" cy="6429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1.04.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7"/>
          <p:cNvSpPr/>
          <p:nvPr/>
        </p:nvSpPr>
        <p:spPr>
          <a:xfrm>
            <a:off x="214200" y="3714840"/>
            <a:ext cx="1571760" cy="6429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1.07.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8"/>
          <p:cNvSpPr/>
          <p:nvPr/>
        </p:nvSpPr>
        <p:spPr>
          <a:xfrm>
            <a:off x="214200" y="5929200"/>
            <a:ext cx="1571760" cy="5716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1.07.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9"/>
          <p:cNvSpPr/>
          <p:nvPr/>
        </p:nvSpPr>
        <p:spPr>
          <a:xfrm>
            <a:off x="2286000" y="1000080"/>
            <a:ext cx="6643800" cy="8571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ведение единого таможенно-тарифного и нетарифного регулир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10"/>
          <p:cNvSpPr/>
          <p:nvPr/>
        </p:nvSpPr>
        <p:spPr>
          <a:xfrm>
            <a:off x="2286000" y="1928880"/>
            <a:ext cx="6643800" cy="7142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стирование механизма зачисления и распределения сумм ввозных таможенных пошл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11"/>
          <p:cNvSpPr/>
          <p:nvPr/>
        </p:nvSpPr>
        <p:spPr>
          <a:xfrm>
            <a:off x="2214720" y="2786040"/>
            <a:ext cx="6786360" cy="30002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ведение в действие Таможенного кодекса таможенного сою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нос контроля на внешнюю границу Республики Белару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ведение механизма зачисления и распределения сумм ввозных таможенных пошлин и акциз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мена таможенного оформления товаров, происходящих из Республики Беларусь, Республики Казахстан,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кругленный прямоугольник 12"/>
          <p:cNvSpPr/>
          <p:nvPr/>
        </p:nvSpPr>
        <p:spPr>
          <a:xfrm>
            <a:off x="2357280" y="5929200"/>
            <a:ext cx="6500880" cy="6429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нос таможенной границы на внешнюю границу  Казахст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моженный коде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571680" y="1071720"/>
            <a:ext cx="8072280" cy="3643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ная административная помощ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единые правила декларирования товар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единые таможенные процед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единая методология определения таможенной стоим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единые правила начисления и взимания таможенных платеж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единые правила таможенного 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928800" y="5286240"/>
            <a:ext cx="7429320" cy="1071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дународная конвен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упрощению и гармонизации таможенных процед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Киотская конвен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Стрелка вверх 6"/>
          <p:cNvSpPr/>
          <p:nvPr/>
        </p:nvSpPr>
        <p:spPr>
          <a:xfrm>
            <a:off x="4500720" y="4857840"/>
            <a:ext cx="35712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 управления таможенным союзо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3143160" y="5286240"/>
            <a:ext cx="3429000" cy="10004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жгосударственный Совет  ЕврАзЭ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Высший  орган Т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5"/>
          <p:cNvSpPr/>
          <p:nvPr/>
        </p:nvSpPr>
        <p:spPr>
          <a:xfrm>
            <a:off x="2214720" y="928800"/>
            <a:ext cx="4786200" cy="11430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вразийская экономическая комис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наднациональный орга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10"/>
          <p:cNvSpPr/>
          <p:nvPr/>
        </p:nvSpPr>
        <p:spPr>
          <a:xfrm>
            <a:off x="1714680" y="2500200"/>
            <a:ext cx="285732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т Комисс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214960" y="2500200"/>
            <a:ext cx="285732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легия 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12"/>
          <p:cNvSpPr/>
          <p:nvPr/>
        </p:nvSpPr>
        <p:spPr>
          <a:xfrm>
            <a:off x="3143160" y="200016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трелка вниз 13"/>
          <p:cNvSpPr/>
          <p:nvPr/>
        </p:nvSpPr>
        <p:spPr>
          <a:xfrm>
            <a:off x="6286680" y="200016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кругленный прямоугольник 15"/>
          <p:cNvSpPr/>
          <p:nvPr/>
        </p:nvSpPr>
        <p:spPr>
          <a:xfrm>
            <a:off x="285840" y="1071720"/>
            <a:ext cx="1571400" cy="7855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д ЕврАзЭ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4" descr="flagbelarus"/>
          <p:cNvPicPr/>
          <p:nvPr/>
        </p:nvPicPr>
        <p:blipFill>
          <a:blip r:embed="rId1"/>
          <a:stretch/>
        </p:blipFill>
        <p:spPr>
          <a:xfrm>
            <a:off x="1857240" y="4143240"/>
            <a:ext cx="857520" cy="4464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8"/>
          <p:cNvSpPr/>
          <p:nvPr/>
        </p:nvSpPr>
        <p:spPr>
          <a:xfrm>
            <a:off x="1285920" y="4572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елоруссия  - 21, 5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5" descr="flagkazakhstan"/>
          <p:cNvPicPr/>
          <p:nvPr/>
        </p:nvPicPr>
        <p:blipFill>
          <a:blip r:embed="rId2"/>
          <a:stretch/>
        </p:blipFill>
        <p:spPr>
          <a:xfrm>
            <a:off x="4071960" y="4071960"/>
            <a:ext cx="1000080" cy="446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0"/>
          <p:cNvSpPr/>
          <p:nvPr/>
        </p:nvSpPr>
        <p:spPr>
          <a:xfrm>
            <a:off x="3571920" y="4500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азахстан -21, 5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7" descr="flagrussia"/>
          <p:cNvPicPr/>
          <p:nvPr/>
        </p:nvPicPr>
        <p:blipFill>
          <a:blip r:embed="rId3"/>
          <a:stretch/>
        </p:blipFill>
        <p:spPr>
          <a:xfrm>
            <a:off x="6357960" y="3929040"/>
            <a:ext cx="851040" cy="5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Прямоугольник 23"/>
          <p:cNvSpPr/>
          <p:nvPr/>
        </p:nvSpPr>
        <p:spPr>
          <a:xfrm>
            <a:off x="607212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оссия – 57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24"/>
          <p:cNvSpPr/>
          <p:nvPr/>
        </p:nvSpPr>
        <p:spPr>
          <a:xfrm>
            <a:off x="2928960" y="3500280"/>
            <a:ext cx="3643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ределение  гол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кругленный прямоугольник 6"/>
          <p:cNvSpPr/>
          <p:nvPr/>
        </p:nvSpPr>
        <p:spPr>
          <a:xfrm>
            <a:off x="3071880" y="2714760"/>
            <a:ext cx="3286080" cy="100008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диный таможенный тари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8"/>
          <p:cNvSpPr/>
          <p:nvPr/>
        </p:nvSpPr>
        <p:spPr>
          <a:xfrm>
            <a:off x="285840" y="857160"/>
            <a:ext cx="3214440" cy="1428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орусс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хранила пошлины на импорт п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5 %  товарным пози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9"/>
          <p:cNvSpPr/>
          <p:nvPr/>
        </p:nvSpPr>
        <p:spPr>
          <a:xfrm>
            <a:off x="5572080" y="785880"/>
            <a:ext cx="3429000" cy="14288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зах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хранил пошлины  на импорт п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5 % товарным пози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0"/>
          <p:cNvSpPr/>
          <p:nvPr/>
        </p:nvSpPr>
        <p:spPr>
          <a:xfrm>
            <a:off x="2857680" y="4500720"/>
            <a:ext cx="3786120" cy="12855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хранила пошлины на импо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82 %  товарных пози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Стрелка вниз 11"/>
          <p:cNvSpPr/>
          <p:nvPr/>
        </p:nvSpPr>
        <p:spPr>
          <a:xfrm>
            <a:off x="4572000" y="385776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трелка вверх 12"/>
          <p:cNvSpPr/>
          <p:nvPr/>
        </p:nvSpPr>
        <p:spPr>
          <a:xfrm>
            <a:off x="6286680" y="2286000"/>
            <a:ext cx="428400" cy="64296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трелка вверх 13"/>
          <p:cNvSpPr/>
          <p:nvPr/>
        </p:nvSpPr>
        <p:spPr>
          <a:xfrm>
            <a:off x="2714760" y="2286000"/>
            <a:ext cx="428400" cy="642960"/>
          </a:xfrm>
          <a:prstGeom prst="up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4" descr="flagbelarus"/>
          <p:cNvPicPr/>
          <p:nvPr/>
        </p:nvPicPr>
        <p:blipFill>
          <a:blip r:embed="rId1"/>
          <a:stretch/>
        </p:blipFill>
        <p:spPr>
          <a:xfrm>
            <a:off x="1285920" y="2357280"/>
            <a:ext cx="857160" cy="446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5" descr="flagkazakhstan"/>
          <p:cNvPicPr/>
          <p:nvPr/>
        </p:nvPicPr>
        <p:blipFill>
          <a:blip r:embed="rId2"/>
          <a:stretch/>
        </p:blipFill>
        <p:spPr>
          <a:xfrm>
            <a:off x="7143840" y="2357280"/>
            <a:ext cx="1000080" cy="4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flagrussia"/>
          <p:cNvPicPr/>
          <p:nvPr/>
        </p:nvPicPr>
        <p:blipFill>
          <a:blip r:embed="rId3"/>
          <a:stretch/>
        </p:blipFill>
        <p:spPr>
          <a:xfrm>
            <a:off x="4286160" y="5929200"/>
            <a:ext cx="851040" cy="5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2"/>
          <p:cNvSpPr/>
          <p:nvPr/>
        </p:nvSpPr>
        <p:spPr>
          <a:xfrm>
            <a:off x="1071720" y="928800"/>
            <a:ext cx="721512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ханизм распределения сумм таможенных пошлин  стран Т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3"/>
          <p:cNvSpPr/>
          <p:nvPr/>
        </p:nvSpPr>
        <p:spPr>
          <a:xfrm>
            <a:off x="642960" y="3143160"/>
            <a:ext cx="2357280" cy="12146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спублика Белару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, 7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кругленный прямоугольник 4"/>
          <p:cNvSpPr/>
          <p:nvPr/>
        </p:nvSpPr>
        <p:spPr>
          <a:xfrm>
            <a:off x="3500280" y="4357800"/>
            <a:ext cx="2357640" cy="13572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7,97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6143760" y="3143160"/>
            <a:ext cx="2357280" cy="12859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спублика Казах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,33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трелка вниз 6"/>
          <p:cNvSpPr/>
          <p:nvPr/>
        </p:nvSpPr>
        <p:spPr>
          <a:xfrm>
            <a:off x="1857240" y="2428920"/>
            <a:ext cx="357480" cy="57132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трелка вниз 8"/>
          <p:cNvSpPr/>
          <p:nvPr/>
        </p:nvSpPr>
        <p:spPr>
          <a:xfrm>
            <a:off x="7000920" y="242892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трелка вниз 9"/>
          <p:cNvSpPr/>
          <p:nvPr/>
        </p:nvSpPr>
        <p:spPr>
          <a:xfrm>
            <a:off x="4500720" y="2643120"/>
            <a:ext cx="500040" cy="14288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4" descr="flagbelarus"/>
          <p:cNvPicPr/>
          <p:nvPr/>
        </p:nvPicPr>
        <p:blipFill>
          <a:blip r:embed="rId1"/>
          <a:stretch/>
        </p:blipFill>
        <p:spPr>
          <a:xfrm>
            <a:off x="1143000" y="4572000"/>
            <a:ext cx="857160" cy="44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flagrussia"/>
          <p:cNvPicPr/>
          <p:nvPr/>
        </p:nvPicPr>
        <p:blipFill>
          <a:blip r:embed="rId2"/>
          <a:stretch/>
        </p:blipFill>
        <p:spPr>
          <a:xfrm>
            <a:off x="4357800" y="5929200"/>
            <a:ext cx="850680" cy="5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25" descr="flagkazakhstan"/>
          <p:cNvPicPr/>
          <p:nvPr/>
        </p:nvPicPr>
        <p:blipFill>
          <a:blip r:embed="rId3"/>
          <a:stretch/>
        </p:blipFill>
        <p:spPr>
          <a:xfrm>
            <a:off x="7000920" y="4643280"/>
            <a:ext cx="100008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5:25:40Z</dcterms:created>
  <dc:creator>Татьяна</dc:creator>
  <dc:description/>
  <dc:language>en-US</dc:language>
  <cp:lastModifiedBy>SHUBA</cp:lastModifiedBy>
  <dcterms:modified xsi:type="dcterms:W3CDTF">2012-02-16T08:36:57Z</dcterms:modified>
  <cp:revision>104</cp:revision>
  <dc:subject/>
  <dc:title>Слайд 1</dc:title>
</cp:coreProperties>
</file>