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A9E-42BF-4E8F-9377-3BB37648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123-5170-4C92-8FCC-D1CB7F3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E6B-9DF4-44CD-8270-13EDDEB9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47B-748D-4C4F-BA2B-353536F5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E4A-9611-47AF-BF3B-AFCC054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10B-3201-478D-AC02-DCFFD38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46F-04DD-420D-8A1B-ECBB9B9B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FFC-C102-4D93-A096-5558F090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21E-BABB-41FD-A5B7-761F9DB2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056-86BD-4E94-802D-F1C4C87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06D-FCEE-4614-B041-D76AD24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1A9-3CC1-41A2-9FCF-4DFEE1B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EC9A-3237-47DD-8172-2F54A9597C02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he European Union at the Beginning of the 21st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fessor Friedl Wei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University of Vien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uropean Neighbourhoo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ssociation Agreement to be signed in Febr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sue: democracy (Tymoshen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ssociated since 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ndidate sin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position in Europe (Sarkozy, et 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conomic succes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lling public support in Turkey for accession (currently below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sue: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3) Coping with the Economic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ving the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ving (?) the peripheral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iscal Pact and auster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aving (?) the periphera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vereign debt crisis hit countries of different „damnabili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eece: misleading information about extent of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in: balance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reland: supposed role model of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rsting of bub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croeconomic imbalance between core and peripheral stat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iscal 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gned by all Member States except the Chech Republic and UK on 30 Januar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bt Ceiling“ – no structural deficit higher than -0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rol by Commission and ECJ,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ck of growth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ritique (e.g. European Parliament): autocratic circumvention of European mechanisms for ideological age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4) 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ength of historic memory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ustained relevance of project of European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sion defined and re-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) Digesting Lissa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engthening the Europea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ccentuating the role of national parli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w organs: President of the European Council and the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High Representative of the Union for Foreign Aff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trengthening the European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decision procedure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rdinary legislativ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almost all areas of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the course of the financial crisis, the EP has successfully sharpened its profile of critically assessing (and sometimes opposing) crisis-management of Commission and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ccentuating the role of national parlia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of subsidi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yellow-card“ and „red-card“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tional parliaments can challenge legislative proposals of the Com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ew org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esident of the European Council and the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High Representative of the Union for Foreign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latively „side-lined“ in current economic/EURO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velopment of the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uropean External Acti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2) Is Enlargement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ther south-east European countries (Serbia, Montenegro, Bosnia, Macedonia, Kosovo, Albani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kra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ur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ferendum January 2012: 67% for a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iran Bay – border issue with Slovenia: process of arbitration agr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ccession on 1 July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8: ratification of stabilization and association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9: Application for EU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TY issue: Goran Hadzic - last suspected war criminal arrested Jul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mission endorsed official candidate status in October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en unresolved issue: Kos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Other south-east Europea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cedonia, Montenegro: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bania: application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snia, Kosovo: no formal application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5:06:29Z</dcterms:created>
  <dc:creator>Clemens Kaupa</dc:creator>
  <dc:description/>
  <dc:language>en-US</dc:language>
  <cp:lastModifiedBy>SHUBA</cp:lastModifiedBy>
  <dcterms:modified xsi:type="dcterms:W3CDTF">2012-02-16T08:41:03Z</dcterms:modified>
  <cp:revision>5</cp:revision>
  <dc:subject/>
  <dc:title>The European Union at the Beginning of the 21st Century</dc:title>
</cp:coreProperties>
</file>