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5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30.wmf" ContentType="image/x-wmf"/>
  <Override PartName="/ppt/media/image13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6.png" ContentType="image/png"/>
  <Override PartName="/ppt/media/image14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3"/>
          </p:nvPr>
        </p:nvSpPr>
        <p:spPr>
          <a:xfrm>
            <a:off x="38127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4c"/>
                </a:solidFill>
                <a:latin typeface="Tahoma"/>
              </a:rPr>
              <a:t>Click to move the slide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4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4"/>
          </p:nvPr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5"/>
          </p:nvPr>
        </p:nvSpPr>
        <p:spPr>
          <a:xfrm>
            <a:off x="38127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BA2CD-A26E-47AA-A7C2-98CC11A2B73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B092B-208C-400B-A9D1-E257DBA80B5E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8FE5F-D1C4-4D4D-8274-FBA79768CA3F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38264-10A9-4890-8C1A-E89DD5E66D78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F20ED-9B19-4FB9-AD69-204245734295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26971-E2D2-4944-8BE3-5C6482728563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8200" y="4681440"/>
            <a:ext cx="49338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84E4A-0F00-41D4-AA64-78A7CB96D82F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5E152-3C81-4F20-B34E-D08AFC219B42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88C1F-2E98-4B0C-B2B1-6389D47E2137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8884D-E449-4EF9-A2C4-A734FFCBA7A1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C4AF6-159E-4DE0-B830-8A4B66773594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28B5A-348F-4CD2-A2E0-C77F91D97D1B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08FF1-719C-4AFC-AA37-415B0FB0B1D8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7A36B-6886-4B59-BB8E-B23B1BEF0D25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3A48D-268A-419F-BF1A-5154B038E774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898200" y="4681440"/>
            <a:ext cx="49338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9A94E-D6D7-4DDF-A2B5-064319651917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0E21C-7115-4931-9FA6-A54129E99A40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7D695-E985-4D69-8918-2022A7DA1911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898200" y="4681440"/>
            <a:ext cx="49338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033D7-6021-430B-846D-66D3B352ABD5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898200" y="4681440"/>
            <a:ext cx="49338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AD4E5-604E-4645-84AC-865BB5456309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15EB9-34EF-4A82-A69C-79841F105FDB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D3E78-9E82-4E0A-9AD6-D05EE01C6BAA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98200" y="4681440"/>
            <a:ext cx="49338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9B9C9-3DBE-4A25-953F-760BF7AEAACA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9120" cy="36957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896400" y="4683240"/>
            <a:ext cx="4937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87960-D0FF-4714-A9C0-59FF0E66708F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9120" cy="36957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896400" y="4683240"/>
            <a:ext cx="4937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3C95A-10B1-4E83-BB09-93F304BF008A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878DA-36D1-444D-B537-D3E6D972A474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338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131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C40C2-3310-4B83-97BE-0E44F09AA730}" type="slidenum">
              <a:rPr b="0" lang="de-DE" sz="1200" spc="-1" strike="noStrike">
                <a:solidFill>
                  <a:srgbClr val="003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98200" y="4681440"/>
            <a:ext cx="49338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0421-0FE3-494F-86E3-10CE4F900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97000"/>
            <a:ext cx="86104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A592-7BB0-4E5C-AB0D-C2231AE69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076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9405-5CDE-4D32-8897-8B8EEA161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39920" y="18288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1240" y="18288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970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39920" y="38970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1240" y="38970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4CEA-2CB1-49D3-B4F4-5C828712A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" y="182880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600" y="533520"/>
            <a:ext cx="8610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82880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FFD8-CC89-4113-8654-4928D8C1F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4076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97000"/>
            <a:ext cx="86104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600" y="3897000"/>
            <a:ext cx="86104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4076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39920" y="18288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51240" y="18288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600" y="38970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39920" y="38970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51240" y="38970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E18B-7018-4D14-AAA3-FA9933F853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600" y="182880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4FE9-C46A-4CBA-9735-4F390FA4D1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AFE2B-70DE-497E-B694-48A1283F94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2341-D033-4784-9ABA-C267461A9E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2445-D1F2-485D-A128-F269EAB25A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B617-293A-49EB-9637-ECFC1018D0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28600" y="533520"/>
            <a:ext cx="8610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B8E7-EFDD-40D5-B577-02DC38F6B7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E263-E64C-471E-9C8E-5F03CDCD95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4076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70AB-7A0B-4C2B-AA81-0C588E2D39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28600" y="3897000"/>
            <a:ext cx="86104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5559-3F3D-4E58-933F-F53671EBDC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28600" y="3897000"/>
            <a:ext cx="86104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A927-6CE5-4067-B83F-912EB35B53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2860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4076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E485-4BC5-4F05-8520-BD2025FBE8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139920" y="18288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51240" y="18288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28600" y="38970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139920" y="38970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51240" y="38970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686C4-D593-42AD-88B8-237A2BD3E1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28600" y="182880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CC73-1F91-4150-ACCB-235B79DCC3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228600" y="533520"/>
            <a:ext cx="8610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2860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4076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28600" y="3897000"/>
            <a:ext cx="86104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28600" y="3897000"/>
            <a:ext cx="86104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2860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4076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39920" y="18288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51240" y="18288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228600" y="38970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39920" y="38970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51240" y="3897000"/>
            <a:ext cx="27723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FCAB-5614-417F-8A3C-F13DBA7CB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533520"/>
            <a:ext cx="8610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440A-DDE3-46C7-824D-4B4519891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426C-1F7F-47FE-9628-624561410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0760" y="38970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39A7-8E66-4228-811E-C0065D917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1828800"/>
            <a:ext cx="420156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97000"/>
            <a:ext cx="861048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816B-3415-4B68-B803-2CA5A32CD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eb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4c"/>
                </a:solidFill>
                <a:latin typeface="Tahoma"/>
              </a:rPr>
              <a:t>Click to edit the title text format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763120" y="152352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txBody>
          <a:bodyPr lIns="36000" rIns="36000" tIns="180000" bIns="360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A7E6-8906-4962-A7CC-D3ED0A1DBA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28600" y="182880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  <a:p>
            <a:pPr lvl="1" marL="668520" indent="-25704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  <a:p>
            <a:pPr lvl="2" marL="1028520" indent="-20556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  <a:p>
            <a:pPr lvl="3" marL="1405800" indent="-20556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  <a:p>
            <a:pPr lvl="4" marL="1782720" indent="-20556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  <a:p>
            <a:pPr lvl="5" marL="1782720" indent="-20556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  <a:p>
            <a:pPr lvl="6" marL="1782720" indent="-20556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4" name="Line 10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" name="Rectangle 20"/>
          <p:cNvSpPr/>
          <p:nvPr/>
        </p:nvSpPr>
        <p:spPr>
          <a:xfrm>
            <a:off x="7391520" y="152280"/>
            <a:ext cx="1752480" cy="228600"/>
          </a:xfrm>
          <a:prstGeom prst="rect">
            <a:avLst/>
          </a:prstGeom>
          <a:solidFill>
            <a:srgbClr val="00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80000" tIns="36000" bIns="36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77D2-2113-4940-9D50-C8931F203716}" type="datetime">
              <a:rPr b="1" lang="uk-UA" sz="11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" name="Text Box 21"/>
          <p:cNvSpPr/>
          <p:nvPr/>
        </p:nvSpPr>
        <p:spPr>
          <a:xfrm>
            <a:off x="0" y="150840"/>
            <a:ext cx="1143000" cy="23004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ffffff"/>
                </a:solidFill>
                <a:latin typeface="Tahoma"/>
              </a:rPr>
              <a:t>Група </a:t>
            </a: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GfK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7" name="Text Box 38"/>
          <p:cNvSpPr/>
          <p:nvPr/>
        </p:nvSpPr>
        <p:spPr>
          <a:xfrm>
            <a:off x="1143000" y="150840"/>
            <a:ext cx="1447920" cy="230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Custom Research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8" name="Text Box 41"/>
          <p:cNvSpPr/>
          <p:nvPr/>
        </p:nvSpPr>
        <p:spPr>
          <a:xfrm>
            <a:off x="2590920" y="150840"/>
            <a:ext cx="4800600" cy="230040"/>
          </a:xfrm>
          <a:prstGeom prst="rect">
            <a:avLst/>
          </a:prstGeom>
          <a:solidFill>
            <a:srgbClr val="598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uk-UA" sz="1100" spc="-1" strike="noStrike">
                <a:solidFill>
                  <a:srgbClr val="ffffff"/>
                </a:solidFill>
                <a:latin typeface="Tahoma"/>
              </a:rPr>
              <a:t>Дослідження книжкового ринку в Україні</a:t>
            </a: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9" name="Picture 43" descr="Logo-GfK-color"/>
          <p:cNvPicPr/>
          <p:nvPr/>
        </p:nvPicPr>
        <p:blipFill>
          <a:blip r:embed="rId2"/>
          <a:stretch/>
        </p:blipFill>
        <p:spPr>
          <a:xfrm>
            <a:off x="8169120" y="593712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8"/>
          <p:cNvSpPr/>
          <p:nvPr/>
        </p:nvSpPr>
        <p:spPr>
          <a:xfrm>
            <a:off x="0" y="6313320"/>
            <a:ext cx="9144000" cy="533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7" name="Rectangle 47"/>
          <p:cNvSpPr/>
          <p:nvPr/>
        </p:nvSpPr>
        <p:spPr>
          <a:xfrm>
            <a:off x="0" y="380880"/>
            <a:ext cx="9144000" cy="5943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8" name="Rectangle 57"/>
          <p:cNvSpPr/>
          <p:nvPr/>
        </p:nvSpPr>
        <p:spPr>
          <a:xfrm>
            <a:off x="7391520" y="152280"/>
            <a:ext cx="1752480" cy="228600"/>
          </a:xfrm>
          <a:prstGeom prst="rect">
            <a:avLst/>
          </a:prstGeom>
          <a:solidFill>
            <a:srgbClr val="00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80000" tIns="36000" bIns="36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AFB8-04DD-469D-B21C-716AC05DC823}" type="datetime">
              <a:rPr b="1" lang="uk-UA" sz="11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9" name="Text Box 58"/>
          <p:cNvSpPr/>
          <p:nvPr/>
        </p:nvSpPr>
        <p:spPr>
          <a:xfrm>
            <a:off x="0" y="150840"/>
            <a:ext cx="1143000" cy="23004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ffffff"/>
                </a:solidFill>
                <a:latin typeface="Tahoma"/>
              </a:rPr>
              <a:t>Група </a:t>
            </a: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GfK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0" name="Text Box 59"/>
          <p:cNvSpPr/>
          <p:nvPr/>
        </p:nvSpPr>
        <p:spPr>
          <a:xfrm>
            <a:off x="1143000" y="150840"/>
            <a:ext cx="1447920" cy="230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Custom Research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1" name="Text Box 60"/>
          <p:cNvSpPr/>
          <p:nvPr/>
        </p:nvSpPr>
        <p:spPr>
          <a:xfrm>
            <a:off x="2590920" y="150840"/>
            <a:ext cx="4800600" cy="230040"/>
          </a:xfrm>
          <a:prstGeom prst="rect">
            <a:avLst/>
          </a:prstGeom>
          <a:solidFill>
            <a:srgbClr val="598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uk-UA" sz="1100" spc="-1" strike="noStrike">
                <a:solidFill>
                  <a:srgbClr val="ffffff"/>
                </a:solidFill>
                <a:latin typeface="Tahoma"/>
              </a:rPr>
              <a:t>Дослідження книжкового ринку в Україні</a:t>
            </a: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“ 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52" name="Picture 62" descr="Logo-GfK-color"/>
          <p:cNvPicPr/>
          <p:nvPr/>
        </p:nvPicPr>
        <p:blipFill>
          <a:blip r:embed="rId2"/>
          <a:stretch/>
        </p:blipFill>
        <p:spPr>
          <a:xfrm>
            <a:off x="8169120" y="5937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4c"/>
                </a:solidFill>
                <a:latin typeface="Tahoma"/>
              </a:rPr>
              <a:t>Click to edit the title text format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28600" y="182880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  <a:p>
            <a:pPr lvl="1" marL="668520" indent="-25704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  <a:p>
            <a:pPr lvl="2" marL="1028520" indent="-20556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  <a:p>
            <a:pPr lvl="3" marL="1405800" indent="-20556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  <a:p>
            <a:pPr lvl="4" marL="1782720" indent="-20556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  <a:p>
            <a:pPr lvl="5" marL="1782720" indent="-20556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  <a:p>
            <a:pPr lvl="6" marL="1782720" indent="-205560">
              <a:lnSpc>
                <a:spcPct val="110000"/>
              </a:lnSpc>
              <a:spcBef>
                <a:spcPts val="79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4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eb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4c"/>
                </a:solidFill>
                <a:latin typeface="Tahoma"/>
              </a:rPr>
              <a:t>Click to edit the title text format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Num" idx="2"/>
          </p:nvPr>
        </p:nvSpPr>
        <p:spPr>
          <a:xfrm>
            <a:off x="8763120" y="152352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txBody>
          <a:bodyPr lIns="36000" rIns="36000" tIns="180000" bIns="360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69A8-0C12-45D2-BED9-BD31977B46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228600" y="182880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4c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334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4c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334c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4c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334c"/>
              </a:solidFill>
              <a:latin typeface="Tahoma"/>
            </a:endParaRPr>
          </a:p>
          <a:p>
            <a:pPr lvl="3" marL="1562040" indent="-228600">
              <a:lnSpc>
                <a:spcPct val="110000"/>
              </a:lnSpc>
              <a:spcBef>
                <a:spcPts val="451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4c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334c"/>
              </a:solidFill>
              <a:latin typeface="Tahoma"/>
            </a:endParaRPr>
          </a:p>
          <a:p>
            <a:pPr lvl="4" marL="1981080" indent="-228600">
              <a:lnSpc>
                <a:spcPct val="110000"/>
              </a:lnSpc>
              <a:spcBef>
                <a:spcPts val="451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4c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334c"/>
              </a:solidFill>
              <a:latin typeface="Tahoma"/>
            </a:endParaRPr>
          </a:p>
          <a:p>
            <a:pPr lvl="5" marL="1981080" indent="-228600">
              <a:lnSpc>
                <a:spcPct val="110000"/>
              </a:lnSpc>
              <a:spcBef>
                <a:spcPts val="451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4c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334c"/>
              </a:solidFill>
              <a:latin typeface="Tahoma"/>
            </a:endParaRPr>
          </a:p>
          <a:p>
            <a:pPr lvl="6" marL="1981080" indent="-228600">
              <a:lnSpc>
                <a:spcPct val="110000"/>
              </a:lnSpc>
              <a:spcBef>
                <a:spcPts val="451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4c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152280"/>
            <a:ext cx="1752480" cy="228600"/>
          </a:xfrm>
          <a:prstGeom prst="rect">
            <a:avLst/>
          </a:prstGeom>
          <a:solidFill>
            <a:srgbClr val="00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80000" tIns="36000" bIns="36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C1D9-66F8-4C7A-BDC4-80253C6C5F24}" type="datetime">
              <a:rPr b="1" lang="uk-UA" sz="11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0840"/>
            <a:ext cx="1143000" cy="23004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ffffff"/>
                </a:solidFill>
                <a:latin typeface="Tahoma"/>
              </a:rPr>
              <a:t>Група </a:t>
            </a: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GfK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150840"/>
            <a:ext cx="1447920" cy="230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Custom Research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150840"/>
            <a:ext cx="4800600" cy="230040"/>
          </a:xfrm>
          <a:prstGeom prst="rect">
            <a:avLst/>
          </a:prstGeom>
          <a:solidFill>
            <a:srgbClr val="598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uk-UA" sz="1100" spc="-1" strike="noStrike">
                <a:solidFill>
                  <a:srgbClr val="ffffff"/>
                </a:solidFill>
                <a:latin typeface="Tahoma"/>
              </a:rPr>
              <a:t>Дослідження книжкового ринку в Україні</a:t>
            </a: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169120" y="593712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313320"/>
            <a:ext cx="9144000" cy="533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0880"/>
            <a:ext cx="9144000" cy="5943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8954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e2c4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c5e2c4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152280"/>
            <a:ext cx="1752480" cy="228600"/>
          </a:xfrm>
          <a:prstGeom prst="rect">
            <a:avLst/>
          </a:prstGeom>
          <a:solidFill>
            <a:srgbClr val="00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80000" tIns="36000" bIns="36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F1F6-8EEC-4A5D-A02C-25EC9C454705}" type="datetime">
              <a:rPr b="1" lang="uk-UA" sz="1100" spc="-1" strike="noStrike">
                <a:solidFill>
                  <a:srgbClr val="ffffff"/>
                </a:solidFill>
                <a:latin typeface="Tahoma"/>
              </a:rPr>
              <a:t>30.07.26</a:t>
            </a:fld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50840"/>
            <a:ext cx="1143000" cy="23004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ffffff"/>
                </a:solidFill>
                <a:latin typeface="Tahoma"/>
              </a:rPr>
              <a:t>Група </a:t>
            </a: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GfK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50840"/>
            <a:ext cx="1447920" cy="230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Custom Research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150840"/>
            <a:ext cx="4800600" cy="230040"/>
          </a:xfrm>
          <a:prstGeom prst="rect">
            <a:avLst/>
          </a:prstGeom>
          <a:solidFill>
            <a:srgbClr val="598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uk-UA" sz="1100" spc="-1" strike="noStrike">
                <a:solidFill>
                  <a:srgbClr val="ffffff"/>
                </a:solidFill>
                <a:latin typeface="Tahoma"/>
              </a:rPr>
              <a:t>Дослідження книжкового ринку в Україні</a:t>
            </a:r>
            <a:r>
              <a:rPr b="1" lang="de-DE" sz="1100" spc="-1" strike="noStrike">
                <a:solidFill>
                  <a:srgbClr val="ffffff"/>
                </a:solidFill>
                <a:latin typeface="Tahoma"/>
              </a:rPr>
              <a:t>“ 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169120" y="593712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4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0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Local%20Settings/inna_v/inna_v/&#1056;&#1072;&#1073;&#1086;&#1095;&#1080;&#1081;%20&#1089;&#1090;&#1086;&#1083;/wave3/report/www.gfk.com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Inna.Volosevych@gfk.ua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34136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beeee"/>
                </a:solidFill>
                <a:latin typeface="Tahoma"/>
              </a:rPr>
              <a:t>Дослідження ринку </a:t>
            </a:r>
            <a:br>
              <a:rPr sz="3600"/>
            </a:br>
            <a:r>
              <a:rPr b="1" lang="uk-UA" sz="3600" spc="-1" strike="noStrike">
                <a:solidFill>
                  <a:srgbClr val="ebeeee"/>
                </a:solidFill>
                <a:latin typeface="Tahoma"/>
              </a:rPr>
              <a:t>книжок в Україні</a:t>
            </a:r>
            <a:endParaRPr b="0" lang="en-US" sz="36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79280" y="2832120"/>
            <a:ext cx="640080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Травень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2400" spc="-1" strike="noStrike">
              <a:solidFill>
                <a:srgbClr val="00334c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08000" y="5643720"/>
            <a:ext cx="8424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ebeeee"/>
                </a:solidFill>
                <a:latin typeface="Tahoma"/>
              </a:rPr>
              <a:t>Дослідження проведено з ініціативи </a:t>
            </a:r>
            <a:br>
              <a:rPr sz="1400"/>
            </a:br>
            <a:r>
              <a:rPr b="1" lang="uk-UA" sz="1400" spc="-1" strike="noStrike">
                <a:solidFill>
                  <a:srgbClr val="ebeeee"/>
                </a:solidFill>
                <a:latin typeface="Tahoma"/>
              </a:rPr>
              <a:t>Міжнародного фонду “Відродження”</a:t>
            </a:r>
            <a:r>
              <a:rPr b="1" lang="en-GB" sz="1400" spc="-1" strike="noStrike">
                <a:solidFill>
                  <a:srgbClr val="ebeeee"/>
                </a:solidFill>
                <a:latin typeface="Tahoma"/>
              </a:rPr>
              <a:t> </a:t>
            </a:r>
            <a:r>
              <a:rPr b="1" lang="uk-UA" sz="1400" spc="-1" strike="noStrike">
                <a:solidFill>
                  <a:srgbClr val="ebeeee"/>
                </a:solidFill>
                <a:latin typeface="Tahoma"/>
              </a:rPr>
              <a:t> та </a:t>
            </a:r>
            <a:r>
              <a:rPr b="1" lang="en-GB" sz="1400" spc="-1" strike="noStrike">
                <a:solidFill>
                  <a:srgbClr val="ebeeee"/>
                </a:solidFill>
                <a:latin typeface="Tahoma"/>
              </a:rPr>
              <a:t>the Fund for Central and East European Book Project (Amsterdam)</a:t>
            </a:r>
            <a:r>
              <a:rPr b="1" lang="uk-UA" sz="1400" spc="-1" strike="noStrike">
                <a:solidFill>
                  <a:srgbClr val="ebeeee"/>
                </a:solidFill>
                <a:latin typeface="Tahoma"/>
              </a:rPr>
              <a:t>, за підтримки програми МАТРА Міністерства закордонних справ Нідерландів</a:t>
            </a:r>
            <a:r>
              <a:rPr b="1" lang="en-GB" sz="1400" spc="-1" strike="noStrike">
                <a:solidFill>
                  <a:srgbClr val="ebeeee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Характеристики покупців книжок (2)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78508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4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Опис демографічних характеристик покупців книжок: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Жінки 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продовжують купувати книжки частіше, ніж чоловіки: 43% жінок купували принаймні 1 книжку, тоді як частка покупців книжок серед чоловіків становила лише 27%. Чоловіки у березні 2007 року в середньому купували більше книжок, ніж у березні 2008 (</a:t>
            </a:r>
            <a:r>
              <a:rPr b="0" lang="en-US" sz="1200" spc="-1" strike="noStrike">
                <a:solidFill>
                  <a:srgbClr val="00334c"/>
                </a:solidFill>
                <a:latin typeface="Tahoma"/>
              </a:rPr>
              <a:t>2,8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та 2,3 книги відповідно) - середня кількість куплених книжок у березні 2008 року порівняно з березнем 2007 року зменшилася саме за рахунок чоловіків.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Найбільша частка покупців книжок зазвичай серед громадян у віці від 20 до 39 років</a:t>
            </a:r>
            <a:r>
              <a:rPr b="0" lang="uk-UA" sz="1200" spc="-1" strike="noStrike">
                <a:solidFill>
                  <a:srgbClr val="ff660c"/>
                </a:solidFill>
                <a:latin typeface="Tahoma"/>
              </a:rPr>
              <a:t>.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Проте, у березні 2008 року саме серед респондентів цього віку відбувся значущий спад купівлі книжок – біля 10% для кожної з категорій 20-29 та 30-39 років. Також зменшилася і середня кількість придбаних ними книг – з 3-ох до 2,1-2,2. Окрім того, на 9% порівняно з груднем 2007 збільшилася кількість респондентів у віці 50-59 років, що протягом останніх трьох місяців купували книги, хоча середня кількість придбаних ними книг також суттєво зменшилася – з 4,2 до 2,8. Таким чином, жодна з вікових категорій не вирізняється за рівнем купівлі книг у березні 2008 року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Відповідно до вікового розподілу, спад купівлі книг відбувся серед студентів (з 44% до 33% за рік) та громадян, що працюють (з 41% до 35% за рік), а збільшення частки покупців – серед пенсіонерів (з 18% до 38% за рік). Таким чином, пенсіонери перестали бути тією категорією, яка найменше купує книги. Так само, як і вікові групи, категорії статусу зайнятості не відрізняються одна від одної за рівнем купівлі книг в останній хвилі опитування. 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Впродовж усіх хвиль опитування частки покупців книжок в різних регіонах України коливаються і чіткої тенденції щодо того, що в якомусь регіоні переважно купують більше чи менше книжок, ніж в інших регіонах, не простежується. Проте, в березні 2008 року порівняно з минулим роком відбулося значуще зменшення часток покупців серед жителів Східного та Західного регіонів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Серед </a:t>
            </a: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респондентів, що проживають у сім’ях з дітьми, молодшими за 16 років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кількість покупців книг зменшилася на 8% за рік, проте вони продовжують частіше купувати книжки, ніж ті, в сім’ях яких немає дітей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Частка покупців книжок у </a:t>
            </a: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містах з населенням 51-500 тис.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зменшилася протягом року з 43% до 34%, таким чином жителі згаданих міст поруч із жителями села купують книги менше, ніж жителі решти міст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Серед жителів з найнижчим рівнем життя за суб'єктивною оцінкою найменше покупців книжок. Порівняно з минулим роком респонденти середнього та вище рівня життя купували менше книг (на 9%)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940360" y="6138720"/>
            <a:ext cx="2171880" cy="71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9280" y="6453360"/>
            <a:ext cx="5591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6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E9E3-92DA-4900-A29B-F9F7096C72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6012000" y="6138720"/>
            <a:ext cx="2171520" cy="7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Object 3"/>
          <p:cNvGraphicFramePr/>
          <p:nvPr/>
        </p:nvGraphicFramePr>
        <p:xfrm>
          <a:off x="119160" y="4037040"/>
          <a:ext cx="3228840" cy="19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160" y="4037040"/>
                    <a:ext cx="322884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Покупці книжок: демографічні характеристики (1)</a:t>
            </a:r>
            <a:br>
              <a:rPr sz="2200"/>
            </a:b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graphicFrame>
        <p:nvGraphicFramePr>
          <p:cNvPr id="243" name="Object 5"/>
          <p:cNvGraphicFramePr/>
          <p:nvPr/>
        </p:nvGraphicFramePr>
        <p:xfrm>
          <a:off x="5076720" y="1587600"/>
          <a:ext cx="3218040" cy="205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1587600"/>
                    <a:ext cx="3218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6"/>
          <p:cNvSpPr/>
          <p:nvPr/>
        </p:nvSpPr>
        <p:spPr>
          <a:xfrm>
            <a:off x="324000" y="1557360"/>
            <a:ext cx="40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ЗАГАЛЬНА ЧАСТКА ПОКУПЦІВ КНИЖОК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003640" y="155736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ЧАСТКА ПОКУПЦІВ</a:t>
            </a:r>
            <a:r>
              <a:rPr b="1" lang="en-US" sz="1200" spc="-1" strike="noStrike">
                <a:solidFill>
                  <a:srgbClr val="00334c"/>
                </a:solidFill>
                <a:latin typeface="Tahoma"/>
              </a:rPr>
              <a:t>: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 ВІК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96720" y="396072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ЧАСТКА ПОКУПЦІВ</a:t>
            </a:r>
            <a:r>
              <a:rPr b="1" lang="en-US" sz="1200" spc="-1" strike="noStrike">
                <a:solidFill>
                  <a:srgbClr val="00334c"/>
                </a:solidFill>
                <a:latin typeface="Tahoma"/>
              </a:rPr>
              <a:t>: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 ЗАЙНЯТІСТЬ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696000" y="4017960"/>
            <a:ext cx="17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249" name="Object 10"/>
          <p:cNvGraphicFramePr/>
          <p:nvPr/>
        </p:nvGraphicFramePr>
        <p:xfrm>
          <a:off x="539640" y="1916280"/>
          <a:ext cx="3257640" cy="1731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1916280"/>
                    <a:ext cx="32576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11"/>
          <p:cNvSpPr/>
          <p:nvPr/>
        </p:nvSpPr>
        <p:spPr>
          <a:xfrm>
            <a:off x="179280" y="6021360"/>
            <a:ext cx="828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4c"/>
                </a:solidFill>
                <a:latin typeface="Tahoma"/>
              </a:rPr>
              <a:t>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Примітка</a:t>
            </a:r>
            <a:r>
              <a:rPr b="0" lang="de-DE" sz="800" spc="-1" strike="noStrike">
                <a:solidFill>
                  <a:srgbClr val="00334c"/>
                </a:solidFill>
                <a:latin typeface="Tahoma"/>
              </a:rPr>
              <a:t>: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*працюючі включають категорії самозайнятих та працівників за наймом. **Не працюючі: домогосподарки, тимчасово не працюючі. Така трансформація зумовлена надто низькою наповненістю вищевказаних категорій для статистичного аналізу їх окремо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708360" y="2060640"/>
            <a:ext cx="142920" cy="144360"/>
          </a:xfrm>
          <a:prstGeom prst="rect">
            <a:avLst/>
          </a:prstGeom>
          <a:solidFill>
            <a:srgbClr val="ffcca8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53" name="Rectangle 17"/>
          <p:cNvSpPr/>
          <p:nvPr/>
        </p:nvSpPr>
        <p:spPr>
          <a:xfrm>
            <a:off x="3708360" y="2276640"/>
            <a:ext cx="142920" cy="144360"/>
          </a:xfrm>
          <a:prstGeom prst="rect">
            <a:avLst/>
          </a:prstGeom>
          <a:solidFill>
            <a:srgbClr val="ff9442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3933720" y="1990800"/>
            <a:ext cx="106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334c"/>
                </a:solidFill>
                <a:latin typeface="Tahoma"/>
              </a:rPr>
              <a:t>Березень 07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255" name="Object 20"/>
          <p:cNvGraphicFramePr/>
          <p:nvPr/>
        </p:nvGraphicFramePr>
        <p:xfrm>
          <a:off x="4956120" y="4268880"/>
          <a:ext cx="3419640" cy="175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6" name="Object 2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6120" y="4268880"/>
                    <a:ext cx="34196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21"/>
          <p:cNvSpPr/>
          <p:nvPr/>
        </p:nvSpPr>
        <p:spPr>
          <a:xfrm>
            <a:off x="4932360" y="39625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ЧАСТКА ПОКУПЦІВ</a:t>
            </a:r>
            <a:r>
              <a:rPr b="1" lang="en-US" sz="1200" spc="-1" strike="noStrike">
                <a:solidFill>
                  <a:srgbClr val="00334c"/>
                </a:solidFill>
                <a:latin typeface="Tahoma"/>
              </a:rPr>
              <a:t>: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 ТИП НАСЕЛЕНОГО ПУНКТУ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7885080" y="5300640"/>
            <a:ext cx="1152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Понад 500 тис.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2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20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, 51-500 тис.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263, До 50 тис.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22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5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, Села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29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2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348000" y="3357720"/>
            <a:ext cx="151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4c"/>
                </a:solidFill>
                <a:latin typeface="Tahoma"/>
              </a:rPr>
              <a:t>Березень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07, </a:t>
            </a:r>
            <a:r>
              <a:rPr b="0" lang="uk-UA" sz="800" spc="-1" strike="noStrike">
                <a:solidFill>
                  <a:srgbClr val="00334c"/>
                </a:solidFill>
                <a:latin typeface="Arial"/>
              </a:rPr>
              <a:t>Грудень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0</a:t>
            </a:r>
            <a:r>
              <a:rPr b="0" lang="uk-UA" sz="800" spc="-1" strike="noStrike">
                <a:solidFill>
                  <a:srgbClr val="00334c"/>
                </a:solidFill>
                <a:latin typeface="Arial"/>
              </a:rPr>
              <a:t>8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, Березень 08 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1000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7885080" y="3094200"/>
            <a:ext cx="1116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15-1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117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,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20-2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236, 30-3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219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,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40-4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233, 50-5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19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5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61" name="Text Box 25"/>
          <p:cNvSpPr/>
          <p:nvPr/>
        </p:nvSpPr>
        <p:spPr>
          <a:xfrm>
            <a:off x="3564000" y="5300640"/>
            <a:ext cx="12952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Студенти/учні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131, Працюючі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648, Не працюючі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143, Пенсіонери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7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262" name="Picture 26" descr=""/>
          <p:cNvPicPr/>
          <p:nvPr/>
        </p:nvPicPr>
        <p:blipFill>
          <a:blip r:embed="rId10"/>
          <a:stretch/>
        </p:blipFill>
        <p:spPr>
          <a:xfrm>
            <a:off x="179280" y="6526080"/>
            <a:ext cx="5591160" cy="2764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27"/>
          <p:cNvSpPr/>
          <p:nvPr/>
        </p:nvSpPr>
        <p:spPr>
          <a:xfrm>
            <a:off x="324000" y="120960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до всіх респондентів в кожній хвилі опитування та категорії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3822840" y="2214720"/>
            <a:ext cx="1114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334c"/>
                </a:solidFill>
                <a:latin typeface="Tahoma"/>
              </a:rPr>
              <a:t>Грудень 08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65" name="Rectangle 33"/>
          <p:cNvSpPr/>
          <p:nvPr/>
        </p:nvSpPr>
        <p:spPr>
          <a:xfrm>
            <a:off x="3708360" y="2508120"/>
            <a:ext cx="142920" cy="144720"/>
          </a:xfrm>
          <a:prstGeom prst="rect">
            <a:avLst/>
          </a:prstGeom>
          <a:solidFill>
            <a:srgbClr val="8aa1ab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3841920" y="2454120"/>
            <a:ext cx="1114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334c"/>
                </a:solidFill>
                <a:latin typeface="Tahoma"/>
              </a:rPr>
              <a:t>Березень 08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67" name="Oval 38"/>
          <p:cNvSpPr/>
          <p:nvPr/>
        </p:nvSpPr>
        <p:spPr>
          <a:xfrm>
            <a:off x="7405560" y="2220840"/>
            <a:ext cx="217440" cy="21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68" name="Oval 41"/>
          <p:cNvSpPr/>
          <p:nvPr/>
        </p:nvSpPr>
        <p:spPr>
          <a:xfrm>
            <a:off x="2700360" y="4221000"/>
            <a:ext cx="217440" cy="21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69" name="Oval 42"/>
          <p:cNvSpPr/>
          <p:nvPr/>
        </p:nvSpPr>
        <p:spPr>
          <a:xfrm>
            <a:off x="7307280" y="4287960"/>
            <a:ext cx="217440" cy="215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70" name="Oval 44"/>
          <p:cNvSpPr/>
          <p:nvPr/>
        </p:nvSpPr>
        <p:spPr>
          <a:xfrm>
            <a:off x="5721480" y="1270080"/>
            <a:ext cx="145800" cy="142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71" name="Text Box 45"/>
          <p:cNvSpPr/>
          <p:nvPr/>
        </p:nvSpPr>
        <p:spPr>
          <a:xfrm>
            <a:off x="5857920" y="1173240"/>
            <a:ext cx="2303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ий відсоток значуще більший за відповідний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72" name="Oval 40"/>
          <p:cNvSpPr/>
          <p:nvPr/>
        </p:nvSpPr>
        <p:spPr>
          <a:xfrm>
            <a:off x="6765840" y="3295800"/>
            <a:ext cx="217440" cy="21564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73" name="Oval 40"/>
          <p:cNvSpPr/>
          <p:nvPr/>
        </p:nvSpPr>
        <p:spPr>
          <a:xfrm>
            <a:off x="2050920" y="5516640"/>
            <a:ext cx="371520" cy="28872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74" name="Oval 41"/>
          <p:cNvSpPr/>
          <p:nvPr/>
        </p:nvSpPr>
        <p:spPr>
          <a:xfrm>
            <a:off x="3059280" y="1989000"/>
            <a:ext cx="217440" cy="21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75" name="Oval 41"/>
          <p:cNvSpPr/>
          <p:nvPr/>
        </p:nvSpPr>
        <p:spPr>
          <a:xfrm>
            <a:off x="7585200" y="2514600"/>
            <a:ext cx="217440" cy="21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76" name="Oval 41"/>
          <p:cNvSpPr/>
          <p:nvPr/>
        </p:nvSpPr>
        <p:spPr>
          <a:xfrm>
            <a:off x="2700360" y="5084640"/>
            <a:ext cx="217440" cy="21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5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C64E-90EE-4FCD-B233-216203863F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6012000" y="6094440"/>
            <a:ext cx="2171520" cy="7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9" name="Object 3"/>
          <p:cNvGraphicFramePr/>
          <p:nvPr/>
        </p:nvGraphicFramePr>
        <p:xfrm>
          <a:off x="395280" y="4724280"/>
          <a:ext cx="2219400" cy="151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724280"/>
                    <a:ext cx="221940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4"/>
          <p:cNvSpPr/>
          <p:nvPr/>
        </p:nvSpPr>
        <p:spPr>
          <a:xfrm>
            <a:off x="468360" y="4508640"/>
            <a:ext cx="25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ЧАСТКА ПОКУПЦІВ</a:t>
            </a:r>
            <a:r>
              <a:rPr b="1" lang="en-US" sz="1200" spc="-1" strike="noStrike">
                <a:solidFill>
                  <a:srgbClr val="00334c"/>
                </a:solidFill>
                <a:latin typeface="Tahoma"/>
              </a:rPr>
              <a:t>: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 СТАТЬ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Покупці книжок: демографічні характеристики (2)</a:t>
            </a:r>
            <a:br>
              <a:rPr sz="2200"/>
            </a:b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graphicFrame>
        <p:nvGraphicFramePr>
          <p:cNvPr id="283" name="Object 6"/>
          <p:cNvGraphicFramePr/>
          <p:nvPr/>
        </p:nvGraphicFramePr>
        <p:xfrm>
          <a:off x="0" y="1773360"/>
          <a:ext cx="3780000" cy="25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773360"/>
                    <a:ext cx="378000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Text Box 7"/>
          <p:cNvSpPr/>
          <p:nvPr/>
        </p:nvSpPr>
        <p:spPr>
          <a:xfrm>
            <a:off x="395280" y="1628640"/>
            <a:ext cx="269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ЧАСТКА ПОКУПЦІВ</a:t>
            </a:r>
            <a:r>
              <a:rPr b="1" lang="en-US" sz="1200" spc="-1" strike="noStrike">
                <a:solidFill>
                  <a:srgbClr val="00334c"/>
                </a:solidFill>
                <a:latin typeface="Tahoma"/>
              </a:rPr>
              <a:t>: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 РЕГІОН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286" name="Object 8"/>
          <p:cNvGraphicFramePr/>
          <p:nvPr/>
        </p:nvGraphicFramePr>
        <p:xfrm>
          <a:off x="4932360" y="1695600"/>
          <a:ext cx="3575160" cy="247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32360" y="1695600"/>
                    <a:ext cx="3575160" cy="24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13"/>
          <p:cNvSpPr/>
          <p:nvPr/>
        </p:nvSpPr>
        <p:spPr>
          <a:xfrm>
            <a:off x="5148360" y="1557360"/>
            <a:ext cx="33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ЧАСТКА ПОКУПЦІВ</a:t>
            </a:r>
            <a:r>
              <a:rPr b="1" lang="en-US" sz="1200" spc="-1" strike="noStrike">
                <a:solidFill>
                  <a:srgbClr val="00334c"/>
                </a:solidFill>
                <a:latin typeface="Tahoma"/>
              </a:rPr>
              <a:t>: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           СУБ</a:t>
            </a:r>
            <a:r>
              <a:rPr b="1" lang="en-US" sz="1200" spc="-1" strike="noStrike">
                <a:solidFill>
                  <a:srgbClr val="00334c"/>
                </a:solidFill>
                <a:latin typeface="Tahoma"/>
              </a:rPr>
              <a:t>’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ЄКТИВНА ОЦІНКА РІВНЯ ЖИТТЯ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89" name="Text Box 23"/>
          <p:cNvSpPr/>
          <p:nvPr/>
        </p:nvSpPr>
        <p:spPr>
          <a:xfrm>
            <a:off x="3348000" y="3429000"/>
            <a:ext cx="1224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Східний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3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29,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Київ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62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Західний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22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5,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Північний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11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4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Південний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154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,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Центральний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11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6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90" name="Text Box 24"/>
          <p:cNvSpPr/>
          <p:nvPr/>
        </p:nvSpPr>
        <p:spPr>
          <a:xfrm>
            <a:off x="7451640" y="3500280"/>
            <a:ext cx="1440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Середній та вище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567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Нижче середнього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2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39,                 Низький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17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5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291" name="Object 26"/>
          <p:cNvGraphicFramePr/>
          <p:nvPr/>
        </p:nvGraphicFramePr>
        <p:xfrm>
          <a:off x="5413320" y="4653000"/>
          <a:ext cx="2543400" cy="1447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2" name="Object 2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13320" y="4653000"/>
                    <a:ext cx="25434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Text Box 27"/>
          <p:cNvSpPr/>
          <p:nvPr/>
        </p:nvSpPr>
        <p:spPr>
          <a:xfrm>
            <a:off x="5230800" y="4437000"/>
            <a:ext cx="39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ЧАСТКА ПОКУПЦІВ</a:t>
            </a:r>
            <a:r>
              <a:rPr b="1" lang="en-US" sz="1200" spc="-1" strike="noStrike">
                <a:solidFill>
                  <a:srgbClr val="00334c"/>
                </a:solidFill>
                <a:latin typeface="Tahoma"/>
              </a:rPr>
              <a:t>: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 НАЯВНІСТЬ ДІТЕЙ В СІМ’Ї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3059280" y="5661000"/>
            <a:ext cx="165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Чоловіки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482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,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Жінки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51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95" name="Text Box 31"/>
          <p:cNvSpPr/>
          <p:nvPr/>
        </p:nvSpPr>
        <p:spPr>
          <a:xfrm>
            <a:off x="7596360" y="5661000"/>
            <a:ext cx="140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З дітьми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41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9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,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без дітей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5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8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296" name="Picture 33" descr=""/>
          <p:cNvPicPr/>
          <p:nvPr/>
        </p:nvPicPr>
        <p:blipFill>
          <a:blip r:embed="rId10"/>
          <a:stretch/>
        </p:blipFill>
        <p:spPr>
          <a:xfrm>
            <a:off x="179280" y="6526080"/>
            <a:ext cx="5591160" cy="2764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4"/>
          <p:cNvSpPr/>
          <p:nvPr/>
        </p:nvSpPr>
        <p:spPr>
          <a:xfrm>
            <a:off x="324000" y="119700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до всіх респондентів в кожній хвилі опитування та категорії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98" name="Text Box 38"/>
          <p:cNvSpPr/>
          <p:nvPr/>
        </p:nvSpPr>
        <p:spPr>
          <a:xfrm>
            <a:off x="3738600" y="2282760"/>
            <a:ext cx="129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334c"/>
                </a:solidFill>
                <a:latin typeface="Tahoma"/>
              </a:rPr>
              <a:t>Грудень 07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99" name="Rectangle 39"/>
          <p:cNvSpPr/>
          <p:nvPr/>
        </p:nvSpPr>
        <p:spPr>
          <a:xfrm>
            <a:off x="3708360" y="2060640"/>
            <a:ext cx="142920" cy="144360"/>
          </a:xfrm>
          <a:prstGeom prst="rect">
            <a:avLst/>
          </a:prstGeom>
          <a:solidFill>
            <a:srgbClr val="ff9442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3708360" y="2349360"/>
            <a:ext cx="142920" cy="144720"/>
          </a:xfrm>
          <a:prstGeom prst="rect">
            <a:avLst/>
          </a:prstGeom>
          <a:solidFill>
            <a:srgbClr val="8aa1ab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01" name="Rectangle 41"/>
          <p:cNvSpPr/>
          <p:nvPr/>
        </p:nvSpPr>
        <p:spPr>
          <a:xfrm>
            <a:off x="3708360" y="2625840"/>
            <a:ext cx="142920" cy="144360"/>
          </a:xfrm>
          <a:prstGeom prst="rect">
            <a:avLst/>
          </a:prstGeom>
          <a:solidFill>
            <a:srgbClr val="59808c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02" name="Text Box 42"/>
          <p:cNvSpPr/>
          <p:nvPr/>
        </p:nvSpPr>
        <p:spPr>
          <a:xfrm>
            <a:off x="3924360" y="1990800"/>
            <a:ext cx="107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334c"/>
                </a:solidFill>
                <a:latin typeface="Tahoma"/>
              </a:rPr>
              <a:t>Березень 07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03" name="Text Box 45"/>
          <p:cNvSpPr/>
          <p:nvPr/>
        </p:nvSpPr>
        <p:spPr>
          <a:xfrm>
            <a:off x="3835440" y="2565360"/>
            <a:ext cx="1114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334c"/>
                </a:solidFill>
                <a:latin typeface="Tahoma"/>
              </a:rPr>
              <a:t>Березень 08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04" name="Oval 46"/>
          <p:cNvSpPr/>
          <p:nvPr/>
        </p:nvSpPr>
        <p:spPr>
          <a:xfrm>
            <a:off x="5721480" y="1270080"/>
            <a:ext cx="145800" cy="142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05" name="Text Box 47"/>
          <p:cNvSpPr/>
          <p:nvPr/>
        </p:nvSpPr>
        <p:spPr>
          <a:xfrm>
            <a:off x="5857920" y="1173240"/>
            <a:ext cx="2303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ий відсоток значуще більший за відповідний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06" name="Oval 56"/>
          <p:cNvSpPr/>
          <p:nvPr/>
        </p:nvSpPr>
        <p:spPr>
          <a:xfrm>
            <a:off x="6848640" y="5622840"/>
            <a:ext cx="217440" cy="21600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07" name="Oval 41"/>
          <p:cNvSpPr/>
          <p:nvPr/>
        </p:nvSpPr>
        <p:spPr>
          <a:xfrm>
            <a:off x="7424640" y="2033640"/>
            <a:ext cx="217440" cy="21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08" name="Oval 41"/>
          <p:cNvSpPr/>
          <p:nvPr/>
        </p:nvSpPr>
        <p:spPr>
          <a:xfrm>
            <a:off x="2676600" y="3041640"/>
            <a:ext cx="217440" cy="21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09" name="Oval 41"/>
          <p:cNvSpPr/>
          <p:nvPr/>
        </p:nvSpPr>
        <p:spPr>
          <a:xfrm>
            <a:off x="2462040" y="3429000"/>
            <a:ext cx="217800" cy="21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10" name="Oval 41"/>
          <p:cNvSpPr/>
          <p:nvPr/>
        </p:nvSpPr>
        <p:spPr>
          <a:xfrm>
            <a:off x="7427880" y="4808520"/>
            <a:ext cx="217440" cy="21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5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AB0F-0A0E-44B5-917A-9E43BFAF01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48564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Кількість придбаних книжок</a:t>
            </a:r>
            <a:br>
              <a:rPr sz="2200"/>
            </a:b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graphicFrame>
        <p:nvGraphicFramePr>
          <p:cNvPr id="313" name="Object 3"/>
          <p:cNvGraphicFramePr/>
          <p:nvPr/>
        </p:nvGraphicFramePr>
        <p:xfrm>
          <a:off x="252360" y="1919160"/>
          <a:ext cx="3921120" cy="37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919160"/>
                    <a:ext cx="392112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932360" y="3900600"/>
          <a:ext cx="3529080" cy="1400040"/>
        </p:xfrm>
        <a:graphic>
          <a:graphicData uri="http://schemas.openxmlformats.org/drawingml/2006/table">
            <a:tbl>
              <a:tblPr/>
              <a:tblGrid>
                <a:gridCol w="825480"/>
                <a:gridCol w="830160"/>
                <a:gridCol w="936720"/>
                <a:gridCol w="93672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15-19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1368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1368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1368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1368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0-29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3,1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30-39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3,1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40-49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3,4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50-59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1368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1368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1368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13680">
                      <a:solidFill>
                        <a:srgbClr val="0033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Text Box 4"/>
          <p:cNvSpPr/>
          <p:nvPr/>
        </p:nvSpPr>
        <p:spPr>
          <a:xfrm>
            <a:off x="539640" y="1557360"/>
            <a:ext cx="36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Скільки книжок Ви купили потягом </a:t>
            </a:r>
            <a:br>
              <a:rPr sz="1200"/>
            </a:b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останніх 3 місяців?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317" name="Picture 69" descr=""/>
          <p:cNvPicPr/>
          <p:nvPr/>
        </p:nvPicPr>
        <p:blipFill>
          <a:blip r:embed="rId3"/>
          <a:stretch/>
        </p:blipFill>
        <p:spPr>
          <a:xfrm>
            <a:off x="6012000" y="6094440"/>
            <a:ext cx="2171520" cy="719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0" descr=""/>
          <p:cNvPicPr/>
          <p:nvPr/>
        </p:nvPicPr>
        <p:blipFill>
          <a:blip r:embed="rId4"/>
          <a:stretch/>
        </p:blipFill>
        <p:spPr>
          <a:xfrm>
            <a:off x="179280" y="6526080"/>
            <a:ext cx="5591160" cy="2764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71"/>
          <p:cNvSpPr/>
          <p:nvPr/>
        </p:nvSpPr>
        <p:spPr>
          <a:xfrm>
            <a:off x="100800" y="1125360"/>
            <a:ext cx="61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тих, хто купував книжки протягом останніх 3-ох місяців, </a:t>
            </a:r>
            <a:r>
              <a:rPr b="0" lang="en-US" sz="1200" spc="-1" strike="noStrike">
                <a:solidFill>
                  <a:srgbClr val="00334c"/>
                </a:solidFill>
                <a:latin typeface="Tahoma"/>
              </a:rPr>
              <a:t>N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(Березень 08)=356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932360" y="1698480"/>
          <a:ext cx="3529080" cy="2017800"/>
        </p:xfrm>
        <a:graphic>
          <a:graphicData uri="http://schemas.openxmlformats.org/drawingml/2006/table">
            <a:tbl>
              <a:tblPr/>
              <a:tblGrid>
                <a:gridCol w="792000"/>
                <a:gridCol w="863640"/>
                <a:gridCol w="936720"/>
                <a:gridCol w="936720"/>
              </a:tblGrid>
              <a:tr h="4950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Середня кількість книжок, що їх купили протягом останніх 3 місяців</a:t>
                      </a:r>
                      <a:endParaRPr b="0" lang="en-US" sz="12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1368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Березень 07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Грудень 07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Березень 08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Жінки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Чоловіки 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Загалом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1368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3,1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1368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1368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13680">
                      <a:solidFill>
                        <a:srgbClr val="0033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Oval 238"/>
          <p:cNvSpPr/>
          <p:nvPr/>
        </p:nvSpPr>
        <p:spPr>
          <a:xfrm>
            <a:off x="1387440" y="4138560"/>
            <a:ext cx="249120" cy="35424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22" name="Oval 239"/>
          <p:cNvSpPr/>
          <p:nvPr/>
        </p:nvSpPr>
        <p:spPr>
          <a:xfrm>
            <a:off x="1122480" y="6046920"/>
            <a:ext cx="145800" cy="142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23" name="Text Box 240"/>
          <p:cNvSpPr/>
          <p:nvPr/>
        </p:nvSpPr>
        <p:spPr>
          <a:xfrm>
            <a:off x="1239840" y="6035760"/>
            <a:ext cx="39798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біль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мен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24" name="Oval 241"/>
          <p:cNvSpPr/>
          <p:nvPr/>
        </p:nvSpPr>
        <p:spPr>
          <a:xfrm>
            <a:off x="1125360" y="6234120"/>
            <a:ext cx="146160" cy="14292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25" name="Oval 92"/>
          <p:cNvSpPr/>
          <p:nvPr/>
        </p:nvSpPr>
        <p:spPr>
          <a:xfrm>
            <a:off x="5845320" y="5051520"/>
            <a:ext cx="647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26" name="Oval 92"/>
          <p:cNvSpPr/>
          <p:nvPr/>
        </p:nvSpPr>
        <p:spPr>
          <a:xfrm>
            <a:off x="5840280" y="4183200"/>
            <a:ext cx="648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27" name="Oval 92"/>
          <p:cNvSpPr/>
          <p:nvPr/>
        </p:nvSpPr>
        <p:spPr>
          <a:xfrm>
            <a:off x="5845320" y="3933720"/>
            <a:ext cx="647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28" name="Oval 92"/>
          <p:cNvSpPr/>
          <p:nvPr/>
        </p:nvSpPr>
        <p:spPr>
          <a:xfrm>
            <a:off x="5834160" y="3422520"/>
            <a:ext cx="647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29" name="Oval 92"/>
          <p:cNvSpPr/>
          <p:nvPr/>
        </p:nvSpPr>
        <p:spPr>
          <a:xfrm>
            <a:off x="5823000" y="3035160"/>
            <a:ext cx="647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30" name="Oval 92"/>
          <p:cNvSpPr/>
          <p:nvPr/>
        </p:nvSpPr>
        <p:spPr>
          <a:xfrm>
            <a:off x="6699240" y="3922560"/>
            <a:ext cx="647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31" name="Oval 92"/>
          <p:cNvSpPr/>
          <p:nvPr/>
        </p:nvSpPr>
        <p:spPr>
          <a:xfrm>
            <a:off x="6721560" y="4172040"/>
            <a:ext cx="647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32" name="Oval 92"/>
          <p:cNvSpPr/>
          <p:nvPr/>
        </p:nvSpPr>
        <p:spPr>
          <a:xfrm>
            <a:off x="6721560" y="4741920"/>
            <a:ext cx="647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33" name="Oval 241"/>
          <p:cNvSpPr/>
          <p:nvPr/>
        </p:nvSpPr>
        <p:spPr>
          <a:xfrm>
            <a:off x="1276200" y="3635280"/>
            <a:ext cx="216000" cy="21456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34" name="Oval 238"/>
          <p:cNvSpPr/>
          <p:nvPr/>
        </p:nvSpPr>
        <p:spPr>
          <a:xfrm>
            <a:off x="1569960" y="4648320"/>
            <a:ext cx="249480" cy="353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35" name="Oval 238"/>
          <p:cNvSpPr/>
          <p:nvPr/>
        </p:nvSpPr>
        <p:spPr>
          <a:xfrm>
            <a:off x="1249200" y="5151600"/>
            <a:ext cx="249480" cy="353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2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907640" y="2351160"/>
            <a:ext cx="720108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a8"/>
                </a:solidFill>
                <a:latin typeface="Tahoma"/>
              </a:rPr>
              <a:t>Які книжки купують українці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grpSp>
        <p:nvGrpSpPr>
          <p:cNvPr id="339" name="Group 5"/>
          <p:cNvGrpSpPr/>
          <p:nvPr/>
        </p:nvGrpSpPr>
        <p:grpSpPr>
          <a:xfrm>
            <a:off x="324000" y="2060640"/>
            <a:ext cx="1439640" cy="1439640"/>
            <a:chOff x="324000" y="2060640"/>
            <a:chExt cx="1439640" cy="1439640"/>
          </a:xfrm>
        </p:grpSpPr>
        <p:sp>
          <p:nvSpPr>
            <p:cNvPr id="340" name="AutoShape 6"/>
            <p:cNvSpPr/>
            <p:nvPr/>
          </p:nvSpPr>
          <p:spPr>
            <a:xfrm>
              <a:off x="324000" y="2060640"/>
              <a:ext cx="1439640" cy="1439640"/>
            </a:xfrm>
            <a:prstGeom prst="pie">
              <a:avLst/>
            </a:prstGeom>
            <a:solidFill>
              <a:srgbClr val="ff9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341" name="Rectangle 7"/>
            <p:cNvSpPr/>
            <p:nvPr/>
          </p:nvSpPr>
          <p:spPr>
            <a:xfrm>
              <a:off x="789120" y="2346120"/>
              <a:ext cx="6141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600" spc="-1" strike="noStrike">
                  <a:solidFill>
                    <a:srgbClr val="ffe1cd"/>
                  </a:solidFill>
                  <a:latin typeface="Tahoma"/>
                </a:rPr>
                <a:t>4</a:t>
              </a:r>
              <a:endParaRPr b="0" lang="en-US" sz="56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Які книжки купують українці (1)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5694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Книжка як подарунок:</a:t>
            </a:r>
            <a:endParaRPr b="0" lang="en-US" sz="10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У березні 2008 5% більше покупців купували книги на подарунок іншим. Таким чином, частка опитаних, які придбали книжки лише для себе та власних дітей зменшилася з 80% до 74%. Така зміна відбулася в основному за рахунок жінок та опитаних віком 20-29 років. </a:t>
            </a:r>
            <a:endParaRPr b="0" lang="en-US" sz="10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Види книжок</a:t>
            </a: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:</a:t>
            </a:r>
            <a:endParaRPr b="0" lang="en-US" sz="10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В усіх хвилях опитування найчастіше українці купували </a:t>
            </a:r>
            <a:r>
              <a:rPr b="1" lang="uk-UA" sz="1000" spc="-1" strike="noStrike">
                <a:solidFill>
                  <a:srgbClr val="ff913a"/>
                </a:solidFill>
                <a:latin typeface="Tahoma"/>
              </a:rPr>
              <a:t>художню літературу</a:t>
            </a: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 (у березні 2008 41% покупців книжок зазначили, що остання книга, яку вони купили, належала до цієї категорії). Більше того, протягом року художня література стала більш популярною, особливо серед жінок, а книги категорії “інша не художня література” купували менше (значущий спад в основному за рахунок чоловіків). Проте, респонденти віком 50-59 років значно менше купували цей вид літератури (їх частка зменшилася з 49% до 28% порівняно з груднем 2007) на користь іншої не художньої літератури. </a:t>
            </a:r>
            <a:endParaRPr b="0" lang="en-US" sz="10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Порівняно із груднем 2007 року меншою </a:t>
            </a:r>
            <a:r>
              <a:rPr b="1" lang="uk-UA" sz="1000" spc="-1" strike="noStrike">
                <a:solidFill>
                  <a:srgbClr val="ff9442"/>
                </a:solidFill>
                <a:latin typeface="Tahoma"/>
              </a:rPr>
              <a:t>популярністю користувалася навчальна та наукова література</a:t>
            </a: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 – 21% порівняно з 27% у грудні. Зміна відбулася за рахунок жінок. Імовірніше за усе, це пов'язано із сезонними коливаннями ринку, коли на осінній період припадає найбільша активність придбання навчальної літератури.  </a:t>
            </a:r>
            <a:endParaRPr b="0" lang="en-US" sz="10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Інші категорії  літератури значуще не змінилися: близько 9% купували</a:t>
            </a:r>
            <a:r>
              <a:rPr b="0" lang="uk-UA" sz="1000" spc="-1" strike="noStrike">
                <a:solidFill>
                  <a:srgbClr val="ff913a"/>
                </a:solidFill>
                <a:latin typeface="Tahoma"/>
              </a:rPr>
              <a:t> </a:t>
            </a:r>
            <a:r>
              <a:rPr b="1" lang="uk-UA" sz="1000" spc="-1" strike="noStrike">
                <a:solidFill>
                  <a:srgbClr val="ff913a"/>
                </a:solidFill>
                <a:latin typeface="Tahoma"/>
              </a:rPr>
              <a:t>словники, атласи й енциклопедії, </a:t>
            </a: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близько 18% - </a:t>
            </a:r>
            <a:r>
              <a:rPr b="1" lang="uk-UA" sz="1000" spc="-1" strike="noStrike">
                <a:solidFill>
                  <a:srgbClr val="ff913a"/>
                </a:solidFill>
                <a:latin typeface="Tahoma"/>
              </a:rPr>
              <a:t>книги для дітей.</a:t>
            </a: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 Жінки продовжували купувати дитячі книжки частіше (24%), ніж чоловіки (15%). Книги для дітей найрідше купують 15-19-літні, інші вікові категорії респондентів в усіх хвилях купують їх приблизно з однаковою частотою. </a:t>
            </a:r>
            <a:endParaRPr b="0" lang="en-US" sz="10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Ціни на книжки:</a:t>
            </a:r>
            <a:endParaRPr b="0" lang="en-US" sz="10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Протягом другого півріччя 2007 року відбулося суттєве подорожчання книг усіх видів, тому ціни придбаних книг у березні 2008 значуще вищі за минулорічні. Так, середня вартість останньої придбаної книги зросла з 23 до 27 гривень.  За навчальні та наукові книги респонденти платили на 4 гривні більше, ніж у березні 2007 року, а за дитячу літературу -  на 5 гривень більше. Художню літературу опитані купували в середньому за 26 гривень, що значуще не відрізняється від цін березня 2007 року. </a:t>
            </a:r>
            <a:endParaRPr b="0" lang="en-US" sz="10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Порівнюючи березень 2008 року з минулим кварталом, можна відзначити, що пік росту цін відбувався саме у грудні 2007 року, оскільки  вартість купленої художньої та навчальної літератури значуще знизилася з грудня 2007 до березня 2008 року: художньої літератури – з 30 до 26 гривень, а навчальної – з 33 до 28 гривень.  </a:t>
            </a:r>
            <a:endParaRPr b="0" lang="en-US" sz="10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Ціни придбаних книжок значуще не відрізняються в жодному з регіонів (Київ не враховувався через недостатню для аналізу кількість респондентів). Найнижчі ціни у селах, а також в містах 50-500 тис. </a:t>
            </a:r>
            <a:endParaRPr b="0" lang="en-US" sz="10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4c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867280" y="6021360"/>
            <a:ext cx="2171880" cy="7192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108000" y="6581880"/>
            <a:ext cx="5591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Які книжки купують українці (2)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5694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Мова: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Протягом року  розрив між часткою придбаних книжок російською та українською мовами суттєво зменшився. Кількість придбаних російськомовних книг переважає відповідну кількість україномовних вже не на 26% як у березні 2007 року, а на 17% - їх частки становлять відповідно 40% та 57%. Проте, протягом останнього кварталу частка книг, придбаних російською мовою збільшилася з 52 до 57%, а українською – зменшилася з 46% до 40%. Така зміна ймовірно пов'язана зі спадом попиту на навчальну літературу порівняно з груднем 2007. За рік частка громадян, що протягом останніх 3 місяців купували книжки тільки російською мовою зменшилася на 6% (з 61% до 55%), а тих, хто купував книги лише українською -  залишилася сталою в порівнянні з попередніми періодами (близько 26%).  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Найчастіше українською мовою продовжують купувати дитячі та навчальні й наукові книжки, близько половини опитаних купує їх українською. Частка покупців художньої літератури/поезії українською мовою зменшилася протягом року і становить лише 22% порівняно з 44% у березні 2007 року. 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На Сході частка придбаних книг українською мовою незмінно є найменшою – 7%, на Півдні вона повернулася до рівня минулого року і склала 8% (у грудні частка придбаних книг українською мовою складала 20%), в Центрі – 54%, на Заході – 82%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Пошук книжок: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Частка осіб, які ніколи не заходять до книжкового магазину, щоб купити певну книжку залишається стабільною - близько 35%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Для 23% опитаних проблема пошуку потрібної книжки в грудні 2007 була актуальною (з них 14% лише інколи знаходять те, що шукають, 7% - рідко знаходять, 2% - ніколи не знаходять). Натомість 42% завжди або часто знаходять потрібну їм книгу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Чоловіки значно рідше спеціально шукають певну книгу, ніж жінки. Вікових відмінностей у березні 2008 року не виявлено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940360" y="6138720"/>
            <a:ext cx="2171880" cy="719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5591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омер слайда 6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8C03-913B-44FB-A5F1-167B65E3B6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6012000" y="6094440"/>
            <a:ext cx="2171520" cy="719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Для кого купували книгу протягом останніх трьох місяців: розподіл за статтю та віком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graphicFrame>
        <p:nvGraphicFramePr>
          <p:cNvPr id="353" name="Object 4"/>
          <p:cNvGraphicFramePr/>
          <p:nvPr/>
        </p:nvGraphicFramePr>
        <p:xfrm>
          <a:off x="611280" y="1700280"/>
          <a:ext cx="3133800" cy="14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00280"/>
                    <a:ext cx="313380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5"/>
          <p:cNvGraphicFramePr/>
          <p:nvPr/>
        </p:nvGraphicFramePr>
        <p:xfrm>
          <a:off x="612720" y="3141720"/>
          <a:ext cx="4200480" cy="141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2720" y="3141720"/>
                    <a:ext cx="420048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7"/>
          <p:cNvGraphicFramePr/>
          <p:nvPr/>
        </p:nvGraphicFramePr>
        <p:xfrm>
          <a:off x="3851280" y="3213000"/>
          <a:ext cx="236232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51280" y="3213000"/>
                    <a:ext cx="2362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9"/>
          <p:cNvGraphicFramePr/>
          <p:nvPr/>
        </p:nvGraphicFramePr>
        <p:xfrm>
          <a:off x="3851280" y="1773360"/>
          <a:ext cx="239076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1280" y="1773360"/>
                    <a:ext cx="2390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 Box 10"/>
          <p:cNvSpPr/>
          <p:nvPr/>
        </p:nvSpPr>
        <p:spPr>
          <a:xfrm rot="16200000">
            <a:off x="-1902240" y="3773520"/>
            <a:ext cx="4537080" cy="246240"/>
          </a:xfrm>
          <a:prstGeom prst="rect">
            <a:avLst/>
          </a:prstGeom>
          <a:solidFill>
            <a:srgbClr val="d9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     </a:t>
            </a:r>
            <a:r>
              <a:rPr b="1" lang="uk-UA" sz="1000" spc="-1" strike="noStrike">
                <a:solidFill>
                  <a:srgbClr val="00334c"/>
                </a:solidFill>
                <a:latin typeface="Arial"/>
              </a:rPr>
              <a:t>Березень</a:t>
            </a: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 0</a:t>
            </a:r>
            <a:r>
              <a:rPr b="1" lang="uk-UA" sz="1000" spc="-1" strike="noStrike">
                <a:solidFill>
                  <a:srgbClr val="00334c"/>
                </a:solidFill>
                <a:latin typeface="Arial"/>
              </a:rPr>
              <a:t>7</a:t>
            </a: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          </a:t>
            </a:r>
            <a:r>
              <a:rPr b="1" lang="uk-UA" sz="1000" spc="-1" strike="noStrike">
                <a:solidFill>
                  <a:srgbClr val="00334c"/>
                </a:solidFill>
                <a:latin typeface="Arial"/>
              </a:rPr>
              <a:t>  </a:t>
            </a: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  </a:t>
            </a:r>
            <a:r>
              <a:rPr b="1" lang="uk-UA" sz="1000" spc="-1" strike="noStrike">
                <a:solidFill>
                  <a:srgbClr val="00334c"/>
                </a:solidFill>
                <a:latin typeface="Arial"/>
              </a:rPr>
              <a:t> </a:t>
            </a: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       </a:t>
            </a:r>
            <a:r>
              <a:rPr b="1" lang="uk-UA" sz="1000" spc="-1" strike="noStrike">
                <a:solidFill>
                  <a:srgbClr val="00334c"/>
                </a:solidFill>
                <a:latin typeface="Arial"/>
              </a:rPr>
              <a:t>Грудень</a:t>
            </a: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 0</a:t>
            </a:r>
            <a:r>
              <a:rPr b="1" lang="uk-UA" sz="1000" spc="-1" strike="noStrike">
                <a:solidFill>
                  <a:srgbClr val="00334c"/>
                </a:solidFill>
                <a:latin typeface="Arial"/>
              </a:rPr>
              <a:t>7                 </a:t>
            </a: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   Березень 08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5961240" y="5613480"/>
            <a:ext cx="14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00334c"/>
                </a:solidFill>
                <a:latin typeface="Tahoma"/>
              </a:rPr>
              <a:t>І для себе, і для інших в якості подарунка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4657680" y="559764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00334c"/>
                </a:solidFill>
                <a:latin typeface="Tahoma"/>
              </a:rPr>
              <a:t>Лише для себе / cвоїх дітей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7572240" y="55976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00334c"/>
                </a:solidFill>
                <a:latin typeface="Tahoma"/>
              </a:rPr>
              <a:t>Тільки як подарунок для інших людей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65" name="Rectangle 14"/>
          <p:cNvSpPr/>
          <p:nvPr/>
        </p:nvSpPr>
        <p:spPr>
          <a:xfrm>
            <a:off x="4527720" y="5668920"/>
            <a:ext cx="106200" cy="115920"/>
          </a:xfrm>
          <a:prstGeom prst="rect">
            <a:avLst/>
          </a:prstGeom>
          <a:solidFill>
            <a:srgbClr val="ffcca8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66" name="Rectangle 15"/>
          <p:cNvSpPr/>
          <p:nvPr/>
        </p:nvSpPr>
        <p:spPr>
          <a:xfrm>
            <a:off x="5830920" y="5670720"/>
            <a:ext cx="108000" cy="115560"/>
          </a:xfrm>
          <a:prstGeom prst="rect">
            <a:avLst/>
          </a:prstGeom>
          <a:solidFill>
            <a:srgbClr val="ff9442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7451640" y="5654520"/>
            <a:ext cx="106560" cy="115920"/>
          </a:xfrm>
          <a:prstGeom prst="rect">
            <a:avLst/>
          </a:prstGeom>
          <a:solidFill>
            <a:srgbClr val="59808c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368" name="Object 17"/>
          <p:cNvGraphicFramePr/>
          <p:nvPr/>
        </p:nvGraphicFramePr>
        <p:xfrm>
          <a:off x="6429240" y="3213000"/>
          <a:ext cx="2714760" cy="1000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9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29240" y="3213000"/>
                    <a:ext cx="27147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9"/>
          <p:cNvGraphicFramePr/>
          <p:nvPr/>
        </p:nvGraphicFramePr>
        <p:xfrm>
          <a:off x="6383160" y="1817640"/>
          <a:ext cx="2600640" cy="819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71" name="Object 1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83160" y="1817640"/>
                    <a:ext cx="26006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Text Box 20"/>
          <p:cNvSpPr/>
          <p:nvPr/>
        </p:nvSpPr>
        <p:spPr>
          <a:xfrm>
            <a:off x="1476360" y="155736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ВІК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73" name="Text Box 21"/>
          <p:cNvSpPr/>
          <p:nvPr/>
        </p:nvSpPr>
        <p:spPr>
          <a:xfrm>
            <a:off x="4284720" y="155736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СТАТЬ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74" name="Text Box 22"/>
          <p:cNvSpPr/>
          <p:nvPr/>
        </p:nvSpPr>
        <p:spPr>
          <a:xfrm>
            <a:off x="6372360" y="155736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ЗАГАЛОМ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375" name="Picture 23" descr=""/>
          <p:cNvPicPr/>
          <p:nvPr/>
        </p:nvPicPr>
        <p:blipFill>
          <a:blip r:embed="rId14"/>
          <a:stretch/>
        </p:blipFill>
        <p:spPr>
          <a:xfrm>
            <a:off x="179280" y="6526080"/>
            <a:ext cx="5591160" cy="2764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24"/>
          <p:cNvSpPr/>
          <p:nvPr/>
        </p:nvSpPr>
        <p:spPr>
          <a:xfrm>
            <a:off x="1450800" y="6237360"/>
            <a:ext cx="20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15-19 N=39, 20-29 N=81,  30-39 N=83,  40-49 N=65, 50-59 N=6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77" name="Text Box 25"/>
          <p:cNvSpPr/>
          <p:nvPr/>
        </p:nvSpPr>
        <p:spPr>
          <a:xfrm>
            <a:off x="4500720" y="6242040"/>
            <a:ext cx="143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Чоловіки N=134,                                                                Жінки N=222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7020000" y="6186600"/>
            <a:ext cx="1584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Загалом  N=356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79" name="Rectangle 27"/>
          <p:cNvSpPr/>
          <p:nvPr/>
        </p:nvSpPr>
        <p:spPr>
          <a:xfrm>
            <a:off x="0" y="112536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до всіх, хто купував книжки протягом останніх 3-ох місяців, в кожній хвилі опитування та категорії.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11280" y="4653000"/>
          <a:ext cx="4209840" cy="141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280" y="4653000"/>
                    <a:ext cx="420984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3780000" y="4653000"/>
          <a:ext cx="2361960" cy="91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80000" y="4653000"/>
                    <a:ext cx="23619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6429240" y="4653000"/>
          <a:ext cx="271476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9240" y="4653000"/>
                    <a:ext cx="27147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Oval 39"/>
          <p:cNvSpPr/>
          <p:nvPr/>
        </p:nvSpPr>
        <p:spPr>
          <a:xfrm>
            <a:off x="2195640" y="350028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87" name="Oval 46"/>
          <p:cNvSpPr/>
          <p:nvPr/>
        </p:nvSpPr>
        <p:spPr>
          <a:xfrm>
            <a:off x="3154320" y="376704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88" name="Oval 39"/>
          <p:cNvSpPr/>
          <p:nvPr/>
        </p:nvSpPr>
        <p:spPr>
          <a:xfrm>
            <a:off x="3373560" y="376704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89" name="Oval 46"/>
          <p:cNvSpPr/>
          <p:nvPr/>
        </p:nvSpPr>
        <p:spPr>
          <a:xfrm>
            <a:off x="5867280" y="378936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90" name="Oval 39"/>
          <p:cNvSpPr/>
          <p:nvPr/>
        </p:nvSpPr>
        <p:spPr>
          <a:xfrm>
            <a:off x="7020000" y="357336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91" name="Oval 46"/>
          <p:cNvSpPr/>
          <p:nvPr/>
        </p:nvSpPr>
        <p:spPr>
          <a:xfrm>
            <a:off x="7921800" y="358452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12000" y="765000"/>
            <a:ext cx="28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334c"/>
                </a:solidFill>
                <a:latin typeface="Arial"/>
              </a:rPr>
              <a:t>Менше стали дарувати ті респонденти, які раніше купували книги і собі, і на подарунок. 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93" name="Oval 39"/>
          <p:cNvSpPr/>
          <p:nvPr/>
        </p:nvSpPr>
        <p:spPr>
          <a:xfrm>
            <a:off x="2195640" y="501336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94" name="Oval 46"/>
          <p:cNvSpPr/>
          <p:nvPr/>
        </p:nvSpPr>
        <p:spPr>
          <a:xfrm>
            <a:off x="3070080" y="5816520"/>
            <a:ext cx="21780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95" name="Oval 39"/>
          <p:cNvSpPr/>
          <p:nvPr/>
        </p:nvSpPr>
        <p:spPr>
          <a:xfrm>
            <a:off x="5054760" y="5229360"/>
            <a:ext cx="2174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96" name="Oval 46"/>
          <p:cNvSpPr/>
          <p:nvPr/>
        </p:nvSpPr>
        <p:spPr>
          <a:xfrm>
            <a:off x="5807160" y="524016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97" name="Oval 39"/>
          <p:cNvSpPr/>
          <p:nvPr/>
        </p:nvSpPr>
        <p:spPr>
          <a:xfrm>
            <a:off x="6988320" y="501336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398" name="Oval 46"/>
          <p:cNvSpPr/>
          <p:nvPr/>
        </p:nvSpPr>
        <p:spPr>
          <a:xfrm>
            <a:off x="7889760" y="5024520"/>
            <a:ext cx="217440" cy="21564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grpSp>
        <p:nvGrpSpPr>
          <p:cNvPr id="399" name="Group 32"/>
          <p:cNvGrpSpPr/>
          <p:nvPr/>
        </p:nvGrpSpPr>
        <p:grpSpPr>
          <a:xfrm>
            <a:off x="4500720" y="2781360"/>
            <a:ext cx="5327640" cy="339480"/>
            <a:chOff x="4500720" y="2781360"/>
            <a:chExt cx="5327640" cy="339480"/>
          </a:xfrm>
        </p:grpSpPr>
        <p:sp>
          <p:nvSpPr>
            <p:cNvPr id="400" name="Text Box 33"/>
            <p:cNvSpPr/>
            <p:nvPr/>
          </p:nvSpPr>
          <p:spPr>
            <a:xfrm>
              <a:off x="4572000" y="2781360"/>
              <a:ext cx="52563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334c"/>
                  </a:solidFill>
                  <a:latin typeface="Tahoma"/>
                </a:rPr>
                <a:t>Вказує, що даний відсоток значуще більший за відповідний йому у березні 08</a:t>
              </a:r>
              <a:endParaRPr b="0" lang="en-US" sz="800" spc="-1" strike="noStrike">
                <a:solidFill>
                  <a:srgbClr val="00334c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334c"/>
                  </a:solidFill>
                  <a:latin typeface="Tahoma"/>
                </a:rPr>
                <a:t>Вказує, що даний відсоток значуще менший за відповідний йому у березні 08</a:t>
              </a:r>
              <a:endParaRPr b="0" lang="en-US" sz="8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401" name="Oval 34"/>
            <p:cNvSpPr/>
            <p:nvPr/>
          </p:nvSpPr>
          <p:spPr>
            <a:xfrm>
              <a:off x="4503600" y="2820960"/>
              <a:ext cx="93960" cy="97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402" name="Oval 35"/>
            <p:cNvSpPr/>
            <p:nvPr/>
          </p:nvSpPr>
          <p:spPr>
            <a:xfrm>
              <a:off x="4500720" y="2963880"/>
              <a:ext cx="93600" cy="97920"/>
            </a:xfrm>
            <a:prstGeom prst="ellipse">
              <a:avLst/>
            </a:prstGeom>
            <a:noFill/>
            <a:ln w="19080">
              <a:solidFill>
                <a:srgbClr val="003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</p:grpSp>
      <p:sp>
        <p:nvSpPr>
          <p:cNvPr id="403" name="Oval 46"/>
          <p:cNvSpPr/>
          <p:nvPr/>
        </p:nvSpPr>
        <p:spPr>
          <a:xfrm>
            <a:off x="3192480" y="350028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04" name="Oval 39"/>
          <p:cNvSpPr/>
          <p:nvPr/>
        </p:nvSpPr>
        <p:spPr>
          <a:xfrm>
            <a:off x="5103720" y="378936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05" name="Oval 46"/>
          <p:cNvSpPr/>
          <p:nvPr/>
        </p:nvSpPr>
        <p:spPr>
          <a:xfrm>
            <a:off x="3363840" y="501336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Номер слайда 6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9851-594C-4FFD-84C8-C77FCD8EEE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Яку книгу Ви купили останнього разу: розподіл за віком та статтю</a:t>
            </a:r>
            <a:br>
              <a:rPr sz="2200"/>
            </a:b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graphicFrame>
        <p:nvGraphicFramePr>
          <p:cNvPr id="408" name="Object 3"/>
          <p:cNvGraphicFramePr/>
          <p:nvPr/>
        </p:nvGraphicFramePr>
        <p:xfrm>
          <a:off x="611280" y="3213000"/>
          <a:ext cx="3133800" cy="14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213000"/>
                    <a:ext cx="3133800" cy="14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8"/>
          <p:cNvGraphicFramePr/>
          <p:nvPr/>
        </p:nvGraphicFramePr>
        <p:xfrm>
          <a:off x="3851280" y="3241800"/>
          <a:ext cx="240984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241800"/>
                    <a:ext cx="24098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Text Box 10"/>
          <p:cNvSpPr/>
          <p:nvPr/>
        </p:nvSpPr>
        <p:spPr>
          <a:xfrm>
            <a:off x="4662360" y="573408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00334c"/>
                </a:solidFill>
                <a:latin typeface="Tahoma"/>
              </a:rPr>
              <a:t>Навчальна/ наукова книга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4662360" y="5529240"/>
            <a:ext cx="185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00334c"/>
                </a:solidFill>
                <a:latin typeface="Tahoma"/>
              </a:rPr>
              <a:t>Художня література/ поезія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4653000" y="595008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00334c"/>
                </a:solidFill>
                <a:latin typeface="Tahoma"/>
              </a:rPr>
              <a:t>Книга для дітей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6681960" y="5487840"/>
            <a:ext cx="225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00334c"/>
                </a:solidFill>
                <a:latin typeface="Tahoma"/>
              </a:rPr>
              <a:t>Інша не художня книга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6681960" y="5684760"/>
            <a:ext cx="261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00334c"/>
                </a:solidFill>
                <a:latin typeface="Tahoma"/>
              </a:rPr>
              <a:t>Енциклопедії/ словники/ атласи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4532400" y="5572080"/>
            <a:ext cx="106200" cy="115920"/>
          </a:xfrm>
          <a:prstGeom prst="rect">
            <a:avLst/>
          </a:prstGeom>
          <a:solidFill>
            <a:srgbClr val="ffcca8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18" name="Rectangle 16"/>
          <p:cNvSpPr/>
          <p:nvPr/>
        </p:nvSpPr>
        <p:spPr>
          <a:xfrm>
            <a:off x="4532400" y="5791320"/>
            <a:ext cx="106200" cy="115920"/>
          </a:xfrm>
          <a:prstGeom prst="rect">
            <a:avLst/>
          </a:prstGeom>
          <a:solidFill>
            <a:srgbClr val="ff9442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19" name="Rectangle 17"/>
          <p:cNvSpPr/>
          <p:nvPr/>
        </p:nvSpPr>
        <p:spPr>
          <a:xfrm>
            <a:off x="4532400" y="6006960"/>
            <a:ext cx="106200" cy="115920"/>
          </a:xfrm>
          <a:prstGeom prst="rect">
            <a:avLst/>
          </a:prstGeom>
          <a:solidFill>
            <a:srgbClr val="59808c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20" name="Rectangle 18"/>
          <p:cNvSpPr/>
          <p:nvPr/>
        </p:nvSpPr>
        <p:spPr>
          <a:xfrm>
            <a:off x="6561000" y="5756400"/>
            <a:ext cx="114480" cy="115920"/>
          </a:xfrm>
          <a:prstGeom prst="rect">
            <a:avLst/>
          </a:prstGeom>
          <a:solidFill>
            <a:srgbClr val="d9e1e1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21" name="Rectangle 19"/>
          <p:cNvSpPr/>
          <p:nvPr/>
        </p:nvSpPr>
        <p:spPr>
          <a:xfrm>
            <a:off x="6561000" y="5557680"/>
            <a:ext cx="114480" cy="11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422" name="Object 20"/>
          <p:cNvGraphicFramePr/>
          <p:nvPr/>
        </p:nvGraphicFramePr>
        <p:xfrm>
          <a:off x="6429240" y="3214800"/>
          <a:ext cx="271476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3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240" y="3214800"/>
                    <a:ext cx="27147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Text Box 23"/>
          <p:cNvSpPr/>
          <p:nvPr/>
        </p:nvSpPr>
        <p:spPr>
          <a:xfrm>
            <a:off x="1476360" y="155736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ВІК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4284720" y="155736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СТАТЬ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6372360" y="155736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ЗАГАЛОМ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427" name="Picture 26" descr=""/>
          <p:cNvPicPr/>
          <p:nvPr/>
        </p:nvPicPr>
        <p:blipFill>
          <a:blip r:embed="rId7"/>
          <a:stretch/>
        </p:blipFill>
        <p:spPr>
          <a:xfrm>
            <a:off x="6012000" y="6094440"/>
            <a:ext cx="2171520" cy="719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7" descr=""/>
          <p:cNvPicPr/>
          <p:nvPr/>
        </p:nvPicPr>
        <p:blipFill>
          <a:blip r:embed="rId8"/>
          <a:stretch/>
        </p:blipFill>
        <p:spPr>
          <a:xfrm>
            <a:off x="179280" y="6526080"/>
            <a:ext cx="5591160" cy="27648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0"/>
          <p:cNvSpPr/>
          <p:nvPr/>
        </p:nvSpPr>
        <p:spPr>
          <a:xfrm>
            <a:off x="0" y="112536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до всіх, хто купував книжки протягом останніх 3-ох місяців, в кожній хвилі опитування та категорії.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grpSp>
        <p:nvGrpSpPr>
          <p:cNvPr id="430" name="Group 32"/>
          <p:cNvGrpSpPr/>
          <p:nvPr/>
        </p:nvGrpSpPr>
        <p:grpSpPr>
          <a:xfrm>
            <a:off x="4500720" y="2781360"/>
            <a:ext cx="5327640" cy="339480"/>
            <a:chOff x="4500720" y="2781360"/>
            <a:chExt cx="5327640" cy="339480"/>
          </a:xfrm>
        </p:grpSpPr>
        <p:sp>
          <p:nvSpPr>
            <p:cNvPr id="431" name="Text Box 33"/>
            <p:cNvSpPr/>
            <p:nvPr/>
          </p:nvSpPr>
          <p:spPr>
            <a:xfrm>
              <a:off x="4572000" y="2781360"/>
              <a:ext cx="52563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334c"/>
                  </a:solidFill>
                  <a:latin typeface="Tahoma"/>
                </a:rPr>
                <a:t>Вказує, що даний відсоток значуще більший за відповідний йому у березні 08</a:t>
              </a:r>
              <a:endParaRPr b="0" lang="en-US" sz="800" spc="-1" strike="noStrike">
                <a:solidFill>
                  <a:srgbClr val="00334c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334c"/>
                  </a:solidFill>
                  <a:latin typeface="Tahoma"/>
                </a:rPr>
                <a:t>Вказує, що даний відсоток значуще менший за відповідний йому у березні 08</a:t>
              </a:r>
              <a:endParaRPr b="0" lang="en-US" sz="8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432" name="Oval 34"/>
            <p:cNvSpPr/>
            <p:nvPr/>
          </p:nvSpPr>
          <p:spPr>
            <a:xfrm>
              <a:off x="4503600" y="2820960"/>
              <a:ext cx="93960" cy="97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433" name="Oval 35"/>
            <p:cNvSpPr/>
            <p:nvPr/>
          </p:nvSpPr>
          <p:spPr>
            <a:xfrm>
              <a:off x="4500720" y="2963880"/>
              <a:ext cx="93600" cy="97920"/>
            </a:xfrm>
            <a:prstGeom prst="ellipse">
              <a:avLst/>
            </a:prstGeom>
            <a:noFill/>
            <a:ln w="19080">
              <a:solidFill>
                <a:srgbClr val="003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</p:grpSp>
      <p:sp>
        <p:nvSpPr>
          <p:cNvPr id="434" name="Oval 39"/>
          <p:cNvSpPr/>
          <p:nvPr/>
        </p:nvSpPr>
        <p:spPr>
          <a:xfrm>
            <a:off x="1846440" y="4365720"/>
            <a:ext cx="2174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35" name="Text Box 45"/>
          <p:cNvSpPr/>
          <p:nvPr/>
        </p:nvSpPr>
        <p:spPr>
          <a:xfrm>
            <a:off x="7020000" y="6186600"/>
            <a:ext cx="1584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Загалом  N=356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36" name="Oval 46"/>
          <p:cNvSpPr/>
          <p:nvPr/>
        </p:nvSpPr>
        <p:spPr>
          <a:xfrm>
            <a:off x="3203640" y="4365720"/>
            <a:ext cx="217440" cy="21564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 rot="16200000">
            <a:off x="-1902240" y="3773520"/>
            <a:ext cx="4537080" cy="246240"/>
          </a:xfrm>
          <a:prstGeom prst="rect">
            <a:avLst/>
          </a:prstGeom>
          <a:solidFill>
            <a:srgbClr val="d9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     </a:t>
            </a:r>
            <a:r>
              <a:rPr b="1" lang="uk-UA" sz="1000" spc="-1" strike="noStrike">
                <a:solidFill>
                  <a:srgbClr val="00334c"/>
                </a:solidFill>
                <a:latin typeface="Arial"/>
              </a:rPr>
              <a:t>Березень</a:t>
            </a: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 0</a:t>
            </a:r>
            <a:r>
              <a:rPr b="1" lang="uk-UA" sz="1000" spc="-1" strike="noStrike">
                <a:solidFill>
                  <a:srgbClr val="00334c"/>
                </a:solidFill>
                <a:latin typeface="Arial"/>
              </a:rPr>
              <a:t>7</a:t>
            </a: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          </a:t>
            </a:r>
            <a:r>
              <a:rPr b="1" lang="uk-UA" sz="1000" spc="-1" strike="noStrike">
                <a:solidFill>
                  <a:srgbClr val="00334c"/>
                </a:solidFill>
                <a:latin typeface="Arial"/>
              </a:rPr>
              <a:t>  </a:t>
            </a: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  </a:t>
            </a:r>
            <a:r>
              <a:rPr b="1" lang="uk-UA" sz="1000" spc="-1" strike="noStrike">
                <a:solidFill>
                  <a:srgbClr val="00334c"/>
                </a:solidFill>
                <a:latin typeface="Arial"/>
              </a:rPr>
              <a:t> </a:t>
            </a: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       Грудень  0</a:t>
            </a:r>
            <a:r>
              <a:rPr b="1" lang="uk-UA" sz="1000" spc="-1" strike="noStrike">
                <a:solidFill>
                  <a:srgbClr val="00334c"/>
                </a:solidFill>
                <a:latin typeface="Arial"/>
              </a:rPr>
              <a:t>7                 </a:t>
            </a: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   Березень 08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611280" y="4724280"/>
          <a:ext cx="3133800" cy="141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4724280"/>
                    <a:ext cx="3133800" cy="14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611280" y="1700280"/>
          <a:ext cx="3133800" cy="14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1700280"/>
                    <a:ext cx="313380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3851280" y="4581360"/>
          <a:ext cx="2409840" cy="895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51280" y="4581360"/>
                    <a:ext cx="2409840" cy="8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3851280" y="1773360"/>
          <a:ext cx="2409840" cy="89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51280" y="1773360"/>
                    <a:ext cx="24098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6451560" y="4589640"/>
          <a:ext cx="2714760" cy="1000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51560" y="4589640"/>
                    <a:ext cx="27147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6429240" y="1773360"/>
          <a:ext cx="271476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9240" y="1773360"/>
                    <a:ext cx="27147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Text Box 24"/>
          <p:cNvSpPr/>
          <p:nvPr/>
        </p:nvSpPr>
        <p:spPr>
          <a:xfrm>
            <a:off x="1450800" y="6237360"/>
            <a:ext cx="20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15-19 N=39, 20-29 N=81,  30-39 N=83,  40-49 N=65, 50-59 N=6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51" name="Text Box 25"/>
          <p:cNvSpPr/>
          <p:nvPr/>
        </p:nvSpPr>
        <p:spPr>
          <a:xfrm>
            <a:off x="4500720" y="6242040"/>
            <a:ext cx="143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Чоловіки N=134,                                                                Жінки N=222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52" name="Oval 39"/>
          <p:cNvSpPr/>
          <p:nvPr/>
        </p:nvSpPr>
        <p:spPr>
          <a:xfrm>
            <a:off x="5219640" y="378936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53" name="Oval 39"/>
          <p:cNvSpPr/>
          <p:nvPr/>
        </p:nvSpPr>
        <p:spPr>
          <a:xfrm>
            <a:off x="7236000" y="357336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54" name="Oval 39"/>
          <p:cNvSpPr/>
          <p:nvPr/>
        </p:nvSpPr>
        <p:spPr>
          <a:xfrm>
            <a:off x="5867280" y="474192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55" name="Oval 46"/>
          <p:cNvSpPr/>
          <p:nvPr/>
        </p:nvSpPr>
        <p:spPr>
          <a:xfrm>
            <a:off x="4686480" y="514656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3851280" y="4581360"/>
          <a:ext cx="2409840" cy="895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51280" y="4581360"/>
                    <a:ext cx="2409840" cy="8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Oval 46"/>
          <p:cNvSpPr/>
          <p:nvPr/>
        </p:nvSpPr>
        <p:spPr>
          <a:xfrm>
            <a:off x="4683240" y="514656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59" name="Oval 39"/>
          <p:cNvSpPr/>
          <p:nvPr/>
        </p:nvSpPr>
        <p:spPr>
          <a:xfrm>
            <a:off x="7910640" y="496872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60" name="Oval 46"/>
          <p:cNvSpPr/>
          <p:nvPr/>
        </p:nvSpPr>
        <p:spPr>
          <a:xfrm>
            <a:off x="6626160" y="495288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61" name="Oval 39"/>
          <p:cNvSpPr/>
          <p:nvPr/>
        </p:nvSpPr>
        <p:spPr>
          <a:xfrm>
            <a:off x="5867280" y="4737240"/>
            <a:ext cx="2174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6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4F6C-B334-4CF0-99F3-46FCCF6A3B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40464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Скільки коштувала книжка, яку Ви купили останньою?</a:t>
            </a:r>
            <a:br>
              <a:rPr sz="2200"/>
            </a:b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graphicFrame>
        <p:nvGraphicFramePr>
          <p:cNvPr id="464" name="Object 3"/>
          <p:cNvGraphicFramePr/>
          <p:nvPr/>
        </p:nvGraphicFramePr>
        <p:xfrm>
          <a:off x="522360" y="2216160"/>
          <a:ext cx="3502080" cy="34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2216160"/>
                    <a:ext cx="350208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4"/>
          <p:cNvGraphicFramePr/>
          <p:nvPr/>
        </p:nvGraphicFramePr>
        <p:xfrm>
          <a:off x="6669000" y="4575240"/>
          <a:ext cx="245736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9000" y="4575240"/>
                    <a:ext cx="245736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4735440" y="1646280"/>
          <a:ext cx="4229280" cy="1962000"/>
        </p:xfrm>
        <a:graphic>
          <a:graphicData uri="http://schemas.openxmlformats.org/drawingml/2006/table">
            <a:tbl>
              <a:tblPr/>
              <a:tblGrid>
                <a:gridCol w="1386000"/>
                <a:gridCol w="874800"/>
                <a:gridCol w="947520"/>
                <a:gridCol w="1020960"/>
              </a:tblGrid>
              <a:tr h="4950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Середня вартість книжки, що її купили останньою***</a:t>
                      </a:r>
                      <a:endParaRPr b="0" lang="en-US" sz="12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1368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Березень 07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Грудень 07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Березень 08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Художня література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3,3 </a:t>
                      </a: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грн.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9.7 </a:t>
                      </a: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грн.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5.9 </a:t>
                      </a: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грн.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Навчальна/ наукова література 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4,0 </a:t>
                      </a: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грн.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32.8 </a:t>
                      </a: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грн.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7.9 </a:t>
                      </a: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грн.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Дитяча книга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15,5 </a:t>
                      </a: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грн.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2.0 </a:t>
                      </a: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грн.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1.5 </a:t>
                      </a:r>
                      <a:r>
                        <a:rPr b="0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грн.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5760">
                      <a:solidFill>
                        <a:srgbClr val="00334c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Загалом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1368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3,0 </a:t>
                      </a:r>
                      <a:r>
                        <a:rPr b="1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грн.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1368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9.8 грн.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4c"/>
                      </a:solidFill>
                    </a:lnL>
                    <a:lnR w="576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13680">
                      <a:solidFill>
                        <a:srgbClr val="0033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27.8 грн.</a:t>
                      </a:r>
                      <a:endParaRPr b="0" lang="en-US" sz="10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4c"/>
                      </a:solidFill>
                    </a:lnL>
                    <a:lnR w="13680">
                      <a:solidFill>
                        <a:srgbClr val="00334c"/>
                      </a:solidFill>
                    </a:lnR>
                    <a:lnT w="5760">
                      <a:solidFill>
                        <a:srgbClr val="00334c"/>
                      </a:solidFill>
                    </a:lnT>
                    <a:lnB w="13680">
                      <a:solidFill>
                        <a:srgbClr val="0033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Text Box 44"/>
          <p:cNvSpPr/>
          <p:nvPr/>
        </p:nvSpPr>
        <p:spPr>
          <a:xfrm>
            <a:off x="396720" y="1542960"/>
            <a:ext cx="37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Скільки коштувала книжка, яку Ви купили останньою?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70" name="Text Box 45"/>
          <p:cNvSpPr/>
          <p:nvPr/>
        </p:nvSpPr>
        <p:spPr>
          <a:xfrm>
            <a:off x="4716360" y="5641920"/>
            <a:ext cx="42483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**- об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’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єднує Центр та Північ 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471" name="Object 46"/>
          <p:cNvGraphicFramePr/>
          <p:nvPr/>
        </p:nvGraphicFramePr>
        <p:xfrm>
          <a:off x="4500720" y="4508640"/>
          <a:ext cx="2162160" cy="116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2" name="Object 4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4508640"/>
                    <a:ext cx="21621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Text Box 47"/>
          <p:cNvSpPr/>
          <p:nvPr/>
        </p:nvSpPr>
        <p:spPr>
          <a:xfrm>
            <a:off x="4643280" y="3990960"/>
            <a:ext cx="20163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334c"/>
                </a:solidFill>
                <a:latin typeface="Tahoma"/>
              </a:rPr>
              <a:t>РОЗПОДІЛ ЗА РЕГІОНОМ 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334c"/>
                </a:solidFill>
                <a:latin typeface="Tahoma"/>
              </a:rPr>
              <a:t>(середня вартість, грн.)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74" name="Text Box 48"/>
          <p:cNvSpPr/>
          <p:nvPr/>
        </p:nvSpPr>
        <p:spPr>
          <a:xfrm>
            <a:off x="7056360" y="4005360"/>
            <a:ext cx="2087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334c"/>
                </a:solidFill>
                <a:latin typeface="Tahoma"/>
              </a:rPr>
              <a:t>РОЗПОДІЛ ЗА РОЗМІРОМ НАСЕЛЕНОГО ПУНКТУ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334c"/>
                </a:solidFill>
                <a:latin typeface="Tahoma"/>
              </a:rPr>
              <a:t>(середня вартість, грн.)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475" name="Picture 49" descr=""/>
          <p:cNvPicPr/>
          <p:nvPr/>
        </p:nvPicPr>
        <p:blipFill>
          <a:blip r:embed="rId7"/>
          <a:stretch/>
        </p:blipFill>
        <p:spPr>
          <a:xfrm>
            <a:off x="6012000" y="6094440"/>
            <a:ext cx="2171520" cy="7192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0" descr=""/>
          <p:cNvPicPr/>
          <p:nvPr/>
        </p:nvPicPr>
        <p:blipFill>
          <a:blip r:embed="rId8"/>
          <a:stretch/>
        </p:blipFill>
        <p:spPr>
          <a:xfrm>
            <a:off x="179280" y="6526080"/>
            <a:ext cx="5591160" cy="27648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54"/>
          <p:cNvSpPr/>
          <p:nvPr/>
        </p:nvSpPr>
        <p:spPr>
          <a:xfrm>
            <a:off x="137520" y="1052640"/>
            <a:ext cx="61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тих, хто купував книжки протягом останніх 3-ох місяців, </a:t>
            </a:r>
            <a:r>
              <a:rPr b="0" lang="en-US" sz="12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(Березень 08)=356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78" name="Text Box 70"/>
          <p:cNvSpPr/>
          <p:nvPr/>
        </p:nvSpPr>
        <p:spPr>
          <a:xfrm>
            <a:off x="4745160" y="3664080"/>
            <a:ext cx="424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***- окремо не аналізуються категорії нехудожня література та енциклопедії/ словники/атласи, оскільки кількість покупців цих категорії книжок недостатня для детальнішого статистичного аналізу 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79" name="Oval 74"/>
          <p:cNvSpPr/>
          <p:nvPr/>
        </p:nvSpPr>
        <p:spPr>
          <a:xfrm>
            <a:off x="2549520" y="2819520"/>
            <a:ext cx="2174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80" name="Oval 81"/>
          <p:cNvSpPr/>
          <p:nvPr/>
        </p:nvSpPr>
        <p:spPr>
          <a:xfrm>
            <a:off x="2352600" y="3922560"/>
            <a:ext cx="368280" cy="38124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81" name="Oval 82"/>
          <p:cNvSpPr/>
          <p:nvPr/>
        </p:nvSpPr>
        <p:spPr>
          <a:xfrm>
            <a:off x="2492280" y="5051520"/>
            <a:ext cx="217440" cy="21564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82" name="Oval 83"/>
          <p:cNvSpPr/>
          <p:nvPr/>
        </p:nvSpPr>
        <p:spPr>
          <a:xfrm>
            <a:off x="1332000" y="6103800"/>
            <a:ext cx="145800" cy="142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83" name="Text Box 84"/>
          <p:cNvSpPr/>
          <p:nvPr/>
        </p:nvSpPr>
        <p:spPr>
          <a:xfrm>
            <a:off x="1449360" y="6093000"/>
            <a:ext cx="2303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84" name="Oval 85"/>
          <p:cNvSpPr/>
          <p:nvPr/>
        </p:nvSpPr>
        <p:spPr>
          <a:xfrm>
            <a:off x="1335240" y="6291360"/>
            <a:ext cx="145800" cy="14292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85" name="Oval 92"/>
          <p:cNvSpPr/>
          <p:nvPr/>
        </p:nvSpPr>
        <p:spPr>
          <a:xfrm>
            <a:off x="6208560" y="3122640"/>
            <a:ext cx="64800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86" name="Oval 93"/>
          <p:cNvSpPr/>
          <p:nvPr/>
        </p:nvSpPr>
        <p:spPr>
          <a:xfrm>
            <a:off x="6195960" y="3375000"/>
            <a:ext cx="6476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87" name="Text Box 240"/>
          <p:cNvSpPr/>
          <p:nvPr/>
        </p:nvSpPr>
        <p:spPr>
          <a:xfrm>
            <a:off x="1547640" y="6093000"/>
            <a:ext cx="4104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біль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мен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88" name="Oval 92"/>
          <p:cNvSpPr/>
          <p:nvPr/>
        </p:nvSpPr>
        <p:spPr>
          <a:xfrm>
            <a:off x="6205680" y="2763720"/>
            <a:ext cx="6476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89" name="Oval 92"/>
          <p:cNvSpPr/>
          <p:nvPr/>
        </p:nvSpPr>
        <p:spPr>
          <a:xfrm>
            <a:off x="7093080" y="2770200"/>
            <a:ext cx="647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90" name="Oval 92"/>
          <p:cNvSpPr/>
          <p:nvPr/>
        </p:nvSpPr>
        <p:spPr>
          <a:xfrm>
            <a:off x="7108920" y="2425680"/>
            <a:ext cx="647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91" name="Oval 74"/>
          <p:cNvSpPr/>
          <p:nvPr/>
        </p:nvSpPr>
        <p:spPr>
          <a:xfrm>
            <a:off x="1714680" y="2276640"/>
            <a:ext cx="2174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92" name="Oval 74"/>
          <p:cNvSpPr/>
          <p:nvPr/>
        </p:nvSpPr>
        <p:spPr>
          <a:xfrm>
            <a:off x="2770200" y="336852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93" name="Oval 74"/>
          <p:cNvSpPr/>
          <p:nvPr/>
        </p:nvSpPr>
        <p:spPr>
          <a:xfrm>
            <a:off x="3535200" y="5202360"/>
            <a:ext cx="2178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3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6A15-EFE3-4D14-A3F6-BAD57823DB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Про проект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63280" y="1655280"/>
            <a:ext cx="7056360" cy="4149720"/>
          </a:xfrm>
          <a:prstGeom prst="rect">
            <a:avLst/>
          </a:prstGeom>
          <a:noFill/>
          <a:ln w="9360">
            <a:solidFill>
              <a:srgbClr val="ff660c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Проект «Дослідження книжкового ринку» є складовою Українського книжкового проекту (2006-2008)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Ініціатором дослідження є Міжнародний фонд </a:t>
            </a:r>
            <a:r>
              <a:rPr b="0" lang="ru-RU" sz="1200" spc="-1" strike="noStrike">
                <a:solidFill>
                  <a:srgbClr val="00334c"/>
                </a:solidFill>
                <a:latin typeface="Tahoma"/>
              </a:rPr>
              <a:t>«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Відродження» та Fund for Central and East European Book Projects, Amsterdam. Дослідження провадиться за підтримки програми МАТРА Міністерства закордонних справ Нідерландів.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Дослідження проводить компанія </a:t>
            </a:r>
            <a:r>
              <a:rPr b="0" lang="en-US" sz="1200" spc="-1" strike="noStrike">
                <a:solidFill>
                  <a:srgbClr val="00334c"/>
                </a:solidFill>
                <a:latin typeface="Tahoma"/>
              </a:rPr>
              <a:t>GfK Ukraine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(</a:t>
            </a:r>
            <a:r>
              <a:rPr b="0" lang="uk-UA" sz="1200" spc="-1" strike="noStrike" u="sng">
                <a:solidFill>
                  <a:srgbClr val="8aa1ab"/>
                </a:solidFill>
                <a:uFillTx/>
                <a:latin typeface="Tahoma"/>
                <a:hlinkClick r:id="rId1"/>
              </a:rPr>
              <a:t>www.gfk.com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), яка була обрана за результатами тендеру, що відбувся навесні 2006-го року між п'ятьма маркетинговими компаніями.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Комплексне дослідження українського книжкового ринку складатиметься з трьох частин і має на меті: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дослідити</a:t>
            </a:r>
            <a:r>
              <a:rPr b="0" lang="ru-RU" sz="1200" spc="-1" strike="noStrike">
                <a:solidFill>
                  <a:srgbClr val="00334c"/>
                </a:solidFill>
                <a:latin typeface="Tahoma"/>
              </a:rPr>
              <a:t>,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яка частка українського населення купує книжки, та якими є мотивації цих покупок;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вивчити канали реалізації книжок;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проаналізувати відмінності між покупцями за каналами реалізації та соціально-демографічними характеристиками;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вивчити сезонні коливання на книжковому ринку;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зібрати та проаналізувати інформацію про видавців і роздрібних та гуртових продавців, які працюють на ринку України.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6012000" y="5950080"/>
            <a:ext cx="2171520" cy="71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3"/>
          <a:stretch/>
        </p:blipFill>
        <p:spPr>
          <a:xfrm>
            <a:off x="144360" y="1557360"/>
            <a:ext cx="1548000" cy="10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4"/>
          <a:stretch/>
        </p:blipFill>
        <p:spPr>
          <a:xfrm>
            <a:off x="179280" y="6381720"/>
            <a:ext cx="5591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Номер слайда 4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65D6-34A2-4213-9361-48EAE02C6F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Якою мовою були книжки, що Ви купили? 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graphicFrame>
        <p:nvGraphicFramePr>
          <p:cNvPr id="496" name="Object 3"/>
          <p:cNvGraphicFramePr/>
          <p:nvPr/>
        </p:nvGraphicFramePr>
        <p:xfrm>
          <a:off x="324000" y="2133720"/>
          <a:ext cx="426564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33720"/>
                    <a:ext cx="426564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4"/>
          <p:cNvSpPr/>
          <p:nvPr/>
        </p:nvSpPr>
        <p:spPr>
          <a:xfrm>
            <a:off x="5148360" y="1700280"/>
            <a:ext cx="3384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Розподіл загальної кількості книжок, куплених протягом останніх 3 місяців, за мовою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11280" y="1700280"/>
            <a:ext cx="34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Якою мовою Ви купували книжки протягом останніх 3 місяців?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500" name="Picture 6" descr=""/>
          <p:cNvPicPr/>
          <p:nvPr/>
        </p:nvPicPr>
        <p:blipFill>
          <a:blip r:embed="rId3"/>
          <a:stretch/>
        </p:blipFill>
        <p:spPr>
          <a:xfrm>
            <a:off x="6012000" y="6094440"/>
            <a:ext cx="2171520" cy="719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"/>
          <p:cNvPicPr/>
          <p:nvPr/>
        </p:nvPicPr>
        <p:blipFill>
          <a:blip r:embed="rId4"/>
          <a:stretch/>
        </p:blipFill>
        <p:spPr>
          <a:xfrm>
            <a:off x="179280" y="6526080"/>
            <a:ext cx="5591160" cy="2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2" name="Object 8"/>
          <p:cNvGraphicFramePr/>
          <p:nvPr/>
        </p:nvGraphicFramePr>
        <p:xfrm>
          <a:off x="4915080" y="2133720"/>
          <a:ext cx="4228920" cy="307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5080" y="2133720"/>
                    <a:ext cx="42289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Group 9"/>
          <p:cNvGrpSpPr/>
          <p:nvPr/>
        </p:nvGrpSpPr>
        <p:grpSpPr>
          <a:xfrm>
            <a:off x="2556000" y="5516640"/>
            <a:ext cx="4297320" cy="285120"/>
            <a:chOff x="2556000" y="5516640"/>
            <a:chExt cx="4297320" cy="285120"/>
          </a:xfrm>
        </p:grpSpPr>
        <p:sp>
          <p:nvSpPr>
            <p:cNvPr id="505" name="Text Box 10"/>
            <p:cNvSpPr/>
            <p:nvPr/>
          </p:nvSpPr>
          <p:spPr>
            <a:xfrm>
              <a:off x="5556240" y="5540400"/>
              <a:ext cx="1297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334c"/>
                  </a:solidFill>
                  <a:latin typeface="Tahoma"/>
                </a:rPr>
                <a:t>Березень 08</a:t>
              </a:r>
              <a:endParaRPr b="0" lang="en-US" sz="11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506" name="Rectangle 11"/>
            <p:cNvSpPr/>
            <p:nvPr/>
          </p:nvSpPr>
          <p:spPr>
            <a:xfrm>
              <a:off x="2556000" y="5586480"/>
              <a:ext cx="142920" cy="144360"/>
            </a:xfrm>
            <a:prstGeom prst="rect">
              <a:avLst/>
            </a:prstGeom>
            <a:solidFill>
              <a:srgbClr val="ff9442"/>
            </a:solidFill>
            <a:ln w="9360">
              <a:solidFill>
                <a:srgbClr val="003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507" name="Rectangle 12"/>
            <p:cNvSpPr/>
            <p:nvPr/>
          </p:nvSpPr>
          <p:spPr>
            <a:xfrm>
              <a:off x="4049640" y="5568840"/>
              <a:ext cx="142920" cy="144720"/>
            </a:xfrm>
            <a:prstGeom prst="rect">
              <a:avLst/>
            </a:prstGeom>
            <a:solidFill>
              <a:srgbClr val="8aa1ab"/>
            </a:solidFill>
            <a:ln w="9360">
              <a:solidFill>
                <a:srgbClr val="003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508" name="Rectangle 13"/>
            <p:cNvSpPr/>
            <p:nvPr/>
          </p:nvSpPr>
          <p:spPr>
            <a:xfrm>
              <a:off x="5494320" y="5583240"/>
              <a:ext cx="142920" cy="144360"/>
            </a:xfrm>
            <a:prstGeom prst="rect">
              <a:avLst/>
            </a:prstGeom>
            <a:solidFill>
              <a:srgbClr val="59808c"/>
            </a:solidFill>
            <a:ln w="9360">
              <a:solidFill>
                <a:srgbClr val="0033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2681280" y="5533920"/>
              <a:ext cx="115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334c"/>
                  </a:solidFill>
                  <a:latin typeface="Tahoma"/>
                </a:rPr>
                <a:t>Березень 0</a:t>
              </a:r>
              <a:r>
                <a:rPr b="1" lang="uk-UA" sz="1100" spc="-1" strike="noStrike">
                  <a:solidFill>
                    <a:srgbClr val="00334c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510" name="Text Box 15"/>
            <p:cNvSpPr/>
            <p:nvPr/>
          </p:nvSpPr>
          <p:spPr>
            <a:xfrm>
              <a:off x="4197240" y="5516640"/>
              <a:ext cx="1166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334c"/>
                  </a:solidFill>
                  <a:latin typeface="Tahoma"/>
                </a:rPr>
                <a:t>Грудень 07</a:t>
              </a:r>
              <a:endParaRPr b="0" lang="en-US" sz="11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</p:grpSp>
      <p:sp>
        <p:nvSpPr>
          <p:cNvPr id="511" name="Rectangle 19"/>
          <p:cNvSpPr/>
          <p:nvPr/>
        </p:nvSpPr>
        <p:spPr>
          <a:xfrm>
            <a:off x="250920" y="11714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12" name="Rectangle 21"/>
          <p:cNvSpPr/>
          <p:nvPr/>
        </p:nvSpPr>
        <p:spPr>
          <a:xfrm>
            <a:off x="250920" y="1197000"/>
            <a:ext cx="66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тих, хто купував книжки протягом останніх 3-ох місяців, </a:t>
            </a:r>
            <a:r>
              <a:rPr b="0" lang="en-US" sz="12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(Березень 08)=356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13" name="Oval 23"/>
          <p:cNvSpPr/>
          <p:nvPr/>
        </p:nvSpPr>
        <p:spPr>
          <a:xfrm>
            <a:off x="4222800" y="3551400"/>
            <a:ext cx="2174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14" name="Oval 25"/>
          <p:cNvSpPr/>
          <p:nvPr/>
        </p:nvSpPr>
        <p:spPr>
          <a:xfrm>
            <a:off x="1293840" y="6103800"/>
            <a:ext cx="146160" cy="142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15" name="Text Box 26"/>
          <p:cNvSpPr/>
          <p:nvPr/>
        </p:nvSpPr>
        <p:spPr>
          <a:xfrm>
            <a:off x="1411200" y="6093000"/>
            <a:ext cx="2303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16" name="Oval 27"/>
          <p:cNvSpPr/>
          <p:nvPr/>
        </p:nvSpPr>
        <p:spPr>
          <a:xfrm>
            <a:off x="1287360" y="6291360"/>
            <a:ext cx="146160" cy="14292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17" name="Oval 23"/>
          <p:cNvSpPr/>
          <p:nvPr/>
        </p:nvSpPr>
        <p:spPr>
          <a:xfrm>
            <a:off x="7656480" y="300816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18" name="Oval 24"/>
          <p:cNvSpPr/>
          <p:nvPr/>
        </p:nvSpPr>
        <p:spPr>
          <a:xfrm>
            <a:off x="7224840" y="277020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19" name="Text Box 240"/>
          <p:cNvSpPr/>
          <p:nvPr/>
        </p:nvSpPr>
        <p:spPr>
          <a:xfrm>
            <a:off x="1476360" y="6093000"/>
            <a:ext cx="4103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біль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мен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20" name="Oval 23"/>
          <p:cNvSpPr/>
          <p:nvPr/>
        </p:nvSpPr>
        <p:spPr>
          <a:xfrm>
            <a:off x="8242200" y="357336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21" name="Oval 24"/>
          <p:cNvSpPr/>
          <p:nvPr/>
        </p:nvSpPr>
        <p:spPr>
          <a:xfrm>
            <a:off x="7910640" y="380052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Номер слайда 4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184C-0F67-42FB-8375-50D80A7744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42696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Види книжок: розподіл за мовою</a:t>
            </a:r>
            <a:br>
              <a:rPr sz="2200"/>
            </a:b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graphicFrame>
        <p:nvGraphicFramePr>
          <p:cNvPr id="524" name="Object 3"/>
          <p:cNvGraphicFramePr/>
          <p:nvPr/>
        </p:nvGraphicFramePr>
        <p:xfrm>
          <a:off x="971640" y="2060640"/>
          <a:ext cx="6599160" cy="38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60640"/>
                    <a:ext cx="659916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Text Box 4"/>
          <p:cNvSpPr/>
          <p:nvPr/>
        </p:nvSpPr>
        <p:spPr>
          <a:xfrm>
            <a:off x="2484360" y="1714680"/>
            <a:ext cx="53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Якою мовою була книжка, яку Ви купили останнього разу</a:t>
            </a:r>
            <a:r>
              <a:rPr b="1" lang="en-US" sz="1200" spc="-1" strike="noStrike">
                <a:solidFill>
                  <a:srgbClr val="00334c"/>
                </a:solidFill>
                <a:latin typeface="Tahoma"/>
              </a:rPr>
              <a:t>?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250920" y="6330960"/>
            <a:ext cx="5689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Примітка</a:t>
            </a:r>
            <a:r>
              <a:rPr b="0" lang="de-DE" sz="800" spc="-1" strike="noStrike">
                <a:solidFill>
                  <a:srgbClr val="00334c"/>
                </a:solidFill>
                <a:latin typeface="Tahoma"/>
              </a:rPr>
              <a:t>: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*</a:t>
            </a:r>
            <a:r>
              <a:rPr b="0" lang="de-DE" sz="800" spc="-1" strike="noStrike">
                <a:solidFill>
                  <a:srgbClr val="00334c"/>
                </a:solidFill>
                <a:latin typeface="Tahoma"/>
              </a:rPr>
              <a:t>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За винятком підручників для середньої  школи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23840" y="227664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ДИТЯЧІ КНИГИ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123840" y="3284640"/>
            <a:ext cx="1582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НАВЧАЛЬНІ / НАУКОВІ КНИГИ*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23840" y="43275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ХУДОЖНЯ ЛІТЕРАТУРА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531" name="Picture 10" descr=""/>
          <p:cNvPicPr/>
          <p:nvPr/>
        </p:nvPicPr>
        <p:blipFill>
          <a:blip r:embed="rId3"/>
          <a:stretch/>
        </p:blipFill>
        <p:spPr>
          <a:xfrm>
            <a:off x="6012000" y="6094440"/>
            <a:ext cx="2171520" cy="7192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1" descr=""/>
          <p:cNvPicPr/>
          <p:nvPr/>
        </p:nvPicPr>
        <p:blipFill>
          <a:blip r:embed="rId4"/>
          <a:stretch/>
        </p:blipFill>
        <p:spPr>
          <a:xfrm>
            <a:off x="179280" y="6526080"/>
            <a:ext cx="5591160" cy="276480"/>
          </a:xfrm>
          <a:prstGeom prst="rect">
            <a:avLst/>
          </a:prstGeom>
          <a:ln w="0">
            <a:noFill/>
          </a:ln>
        </p:spPr>
      </p:pic>
      <p:sp>
        <p:nvSpPr>
          <p:cNvPr id="533" name="Line 12"/>
          <p:cNvSpPr/>
          <p:nvPr/>
        </p:nvSpPr>
        <p:spPr>
          <a:xfrm>
            <a:off x="179280" y="6237360"/>
            <a:ext cx="129708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34" name="Rectangle 13"/>
          <p:cNvSpPr/>
          <p:nvPr/>
        </p:nvSpPr>
        <p:spPr>
          <a:xfrm>
            <a:off x="179280" y="1060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179280" y="57340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0" y="112536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до всіх, хто купував книжки протягом останніх 3-ох місяців, в кожній хвилі опитування та категорії.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37" name="Oval 23"/>
          <p:cNvSpPr/>
          <p:nvPr/>
        </p:nvSpPr>
        <p:spPr>
          <a:xfrm>
            <a:off x="3780000" y="429264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38" name="Oval 23"/>
          <p:cNvSpPr/>
          <p:nvPr/>
        </p:nvSpPr>
        <p:spPr>
          <a:xfrm>
            <a:off x="6054840" y="429264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39" name="Oval 25"/>
          <p:cNvSpPr/>
          <p:nvPr/>
        </p:nvSpPr>
        <p:spPr>
          <a:xfrm>
            <a:off x="2592360" y="5734080"/>
            <a:ext cx="146160" cy="142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40" name="Text Box 26"/>
          <p:cNvSpPr/>
          <p:nvPr/>
        </p:nvSpPr>
        <p:spPr>
          <a:xfrm>
            <a:off x="2708280" y="5694480"/>
            <a:ext cx="230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41" name="Oval 27"/>
          <p:cNvSpPr/>
          <p:nvPr/>
        </p:nvSpPr>
        <p:spPr>
          <a:xfrm>
            <a:off x="2584440" y="5892840"/>
            <a:ext cx="146160" cy="14292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42" name="Text Box 240"/>
          <p:cNvSpPr/>
          <p:nvPr/>
        </p:nvSpPr>
        <p:spPr>
          <a:xfrm>
            <a:off x="2773440" y="5694480"/>
            <a:ext cx="4103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біль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мен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179280" y="5229360"/>
            <a:ext cx="2016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4c"/>
                </a:solidFill>
                <a:latin typeface="Tahoma"/>
              </a:rPr>
              <a:t>Березень 08: Покупці д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итячої літератури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=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74; навчальної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334c"/>
                </a:solidFill>
                <a:latin typeface="Tahoma"/>
              </a:rPr>
              <a:t>та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наукової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=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65;</a:t>
            </a:r>
            <a:r>
              <a:rPr b="0" lang="ru-RU" sz="800" spc="-1" strike="noStrike">
                <a:solidFill>
                  <a:srgbClr val="00334c"/>
                </a:solidFill>
                <a:latin typeface="Tahoma"/>
              </a:rPr>
              <a:t> художньо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ї</a:t>
            </a:r>
            <a:r>
              <a:rPr b="0" lang="ru-RU" sz="800" spc="-1" strike="noStrike">
                <a:solidFill>
                  <a:srgbClr val="00334c"/>
                </a:solidFill>
                <a:latin typeface="Tahoma"/>
              </a:rPr>
              <a:t> л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ітератури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=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147.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омер слайда 4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AEE5-B403-48EE-B4AA-010B672440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8600" y="371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Мова книжок: розподіл за регіонами</a:t>
            </a:r>
            <a:br>
              <a:rPr sz="2200"/>
            </a:b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graphicFrame>
        <p:nvGraphicFramePr>
          <p:cNvPr id="546" name="Object 3"/>
          <p:cNvGraphicFramePr/>
          <p:nvPr/>
        </p:nvGraphicFramePr>
        <p:xfrm>
          <a:off x="1979640" y="2205000"/>
          <a:ext cx="550548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205000"/>
                    <a:ext cx="550548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Text Box 4"/>
          <p:cNvSpPr/>
          <p:nvPr/>
        </p:nvSpPr>
        <p:spPr>
          <a:xfrm>
            <a:off x="468360" y="515772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СХІДНИЙ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469800" y="412128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ПІВДЕН</a:t>
            </a:r>
            <a:r>
              <a:rPr b="1" lang="ru-RU" sz="1000" spc="-1" strike="noStrike">
                <a:solidFill>
                  <a:srgbClr val="00334c"/>
                </a:solidFill>
                <a:latin typeface="Tahoma"/>
              </a:rPr>
              <a:t>НИЙ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469800" y="23209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ЦЕНТР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68360" y="318456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ЗАХІДНИЙ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1908000" y="1641600"/>
            <a:ext cx="55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Якою мовою була остання куплена Вами книга?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553" name="Picture 9" descr=""/>
          <p:cNvPicPr/>
          <p:nvPr/>
        </p:nvPicPr>
        <p:blipFill>
          <a:blip r:embed="rId3"/>
          <a:stretch/>
        </p:blipFill>
        <p:spPr>
          <a:xfrm>
            <a:off x="6012000" y="6094440"/>
            <a:ext cx="2171520" cy="7192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0" descr=""/>
          <p:cNvPicPr/>
          <p:nvPr/>
        </p:nvPicPr>
        <p:blipFill>
          <a:blip r:embed="rId4"/>
          <a:stretch/>
        </p:blipFill>
        <p:spPr>
          <a:xfrm>
            <a:off x="179280" y="6526080"/>
            <a:ext cx="5591160" cy="2764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1"/>
          <p:cNvSpPr/>
          <p:nvPr/>
        </p:nvSpPr>
        <p:spPr>
          <a:xfrm>
            <a:off x="184320" y="10382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0" y="112536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до всіх, хто купував книжки протягом останніх 3-ох місяців, в кожній хвилі опитування та категорії.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179280" y="5589720"/>
            <a:ext cx="20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4c"/>
                </a:solidFill>
                <a:latin typeface="Tahoma"/>
              </a:rPr>
              <a:t>Березень 08: Центр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=</a:t>
            </a:r>
            <a:r>
              <a:rPr b="0" lang="uk-UA" sz="800" spc="-1" strike="noStrike">
                <a:solidFill>
                  <a:srgbClr val="00334c"/>
                </a:solidFill>
                <a:latin typeface="Arial"/>
              </a:rPr>
              <a:t>77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; Захід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=</a:t>
            </a:r>
            <a:r>
              <a:rPr b="0" lang="uk-UA" sz="800" spc="-1" strike="noStrike">
                <a:solidFill>
                  <a:srgbClr val="00334c"/>
                </a:solidFill>
                <a:latin typeface="Arial"/>
              </a:rPr>
              <a:t>72</a:t>
            </a:r>
            <a:r>
              <a:rPr b="0" lang="ru-RU" sz="800" spc="-1" strike="noStrike">
                <a:solidFill>
                  <a:srgbClr val="00334c"/>
                </a:solidFill>
                <a:latin typeface="Tahoma"/>
              </a:rPr>
              <a:t>; Південь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=</a:t>
            </a:r>
            <a:r>
              <a:rPr b="0" lang="uk-UA" sz="800" spc="-1" strike="noStrike">
                <a:solidFill>
                  <a:srgbClr val="00334c"/>
                </a:solidFill>
                <a:latin typeface="Arial"/>
              </a:rPr>
              <a:t>64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; Схід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=</a:t>
            </a:r>
            <a:r>
              <a:rPr b="0" lang="uk-UA" sz="800" spc="-1" strike="noStrike">
                <a:solidFill>
                  <a:srgbClr val="00334c"/>
                </a:solidFill>
                <a:latin typeface="Arial"/>
              </a:rPr>
              <a:t>116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. 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58" name="Oval 23"/>
          <p:cNvSpPr/>
          <p:nvPr/>
        </p:nvSpPr>
        <p:spPr>
          <a:xfrm>
            <a:off x="7091280" y="314172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59" name="Oval 23"/>
          <p:cNvSpPr/>
          <p:nvPr/>
        </p:nvSpPr>
        <p:spPr>
          <a:xfrm>
            <a:off x="5351400" y="423216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60" name="Oval 23"/>
          <p:cNvSpPr/>
          <p:nvPr/>
        </p:nvSpPr>
        <p:spPr>
          <a:xfrm>
            <a:off x="3176640" y="423864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61" name="Oval 25"/>
          <p:cNvSpPr/>
          <p:nvPr/>
        </p:nvSpPr>
        <p:spPr>
          <a:xfrm>
            <a:off x="1293840" y="6103800"/>
            <a:ext cx="146160" cy="142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62" name="Text Box 26"/>
          <p:cNvSpPr/>
          <p:nvPr/>
        </p:nvSpPr>
        <p:spPr>
          <a:xfrm>
            <a:off x="1411200" y="6093000"/>
            <a:ext cx="2303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1287360" y="6291360"/>
            <a:ext cx="146160" cy="14292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64" name="Text Box 240"/>
          <p:cNvSpPr/>
          <p:nvPr/>
        </p:nvSpPr>
        <p:spPr>
          <a:xfrm>
            <a:off x="1476360" y="6093000"/>
            <a:ext cx="4103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біль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мен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Номер слайда 5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847A-61D7-43F2-87F1-9140FDD808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566" name="Object 2"/>
          <p:cNvGraphicFramePr/>
          <p:nvPr/>
        </p:nvGraphicFramePr>
        <p:xfrm>
          <a:off x="247680" y="1876320"/>
          <a:ext cx="26272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876320"/>
                    <a:ext cx="26272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3"/>
          <p:cNvGraphicFramePr/>
          <p:nvPr/>
        </p:nvGraphicFramePr>
        <p:xfrm>
          <a:off x="3184560" y="1906560"/>
          <a:ext cx="3133800" cy="32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1906560"/>
                    <a:ext cx="31338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Text Box 5"/>
          <p:cNvSpPr/>
          <p:nvPr/>
        </p:nvSpPr>
        <p:spPr>
          <a:xfrm>
            <a:off x="6745320" y="514368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4c"/>
                </a:solidFill>
                <a:latin typeface="Tahoma"/>
              </a:rPr>
              <a:t>Я завжди знаходжу те, що шукаю</a:t>
            </a:r>
            <a:endParaRPr b="0" lang="en-US" sz="9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3419640" y="5429160"/>
            <a:ext cx="21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4c"/>
                </a:solidFill>
                <a:latin typeface="Tahoma"/>
              </a:rPr>
              <a:t>Я часто знаходжу те, що шукаю</a:t>
            </a:r>
            <a:endParaRPr b="0" lang="en-US" sz="9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6745320" y="535788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4c"/>
                </a:solidFill>
                <a:latin typeface="Tahoma"/>
              </a:rPr>
              <a:t>Я ніколи не заходжу до книжкового магазину, щоб купити певну книжку</a:t>
            </a:r>
            <a:endParaRPr b="0" lang="en-US" sz="9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3289320" y="5504040"/>
            <a:ext cx="122040" cy="115560"/>
          </a:xfrm>
          <a:prstGeom prst="rect">
            <a:avLst/>
          </a:prstGeom>
          <a:solidFill>
            <a:srgbClr val="8aa1ab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74" name="Rectangle 9"/>
          <p:cNvSpPr/>
          <p:nvPr/>
        </p:nvSpPr>
        <p:spPr>
          <a:xfrm>
            <a:off x="6624720" y="5221440"/>
            <a:ext cx="106200" cy="115560"/>
          </a:xfrm>
          <a:prstGeom prst="rect">
            <a:avLst/>
          </a:prstGeom>
          <a:solidFill>
            <a:srgbClr val="ff9442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6624720" y="5502240"/>
            <a:ext cx="106200" cy="115920"/>
          </a:xfrm>
          <a:prstGeom prst="rect">
            <a:avLst/>
          </a:prstGeom>
          <a:solidFill>
            <a:srgbClr val="d9e1e1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611280" y="5429160"/>
            <a:ext cx="208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4c"/>
                </a:solidFill>
                <a:latin typeface="Tahoma"/>
              </a:rPr>
              <a:t>Я рідко знаходжу те, що шукаю</a:t>
            </a:r>
            <a:endParaRPr b="0" lang="en-US" sz="9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22440" y="5072040"/>
            <a:ext cx="204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4c"/>
                </a:solidFill>
                <a:latin typeface="Tahoma"/>
              </a:rPr>
              <a:t>Я ніколи не знаходжу книжок / змісту книжок, які шукаю</a:t>
            </a:r>
            <a:endParaRPr b="0" lang="en-US" sz="9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3414600" y="5143680"/>
            <a:ext cx="223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4c"/>
                </a:solidFill>
                <a:latin typeface="Tahoma"/>
              </a:rPr>
              <a:t>Я інколи знаходжу те, що шукаю</a:t>
            </a:r>
            <a:endParaRPr b="0" lang="en-US" sz="9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79" name="Rectangle 14"/>
          <p:cNvSpPr/>
          <p:nvPr/>
        </p:nvSpPr>
        <p:spPr>
          <a:xfrm>
            <a:off x="485640" y="5130720"/>
            <a:ext cx="117720" cy="123840"/>
          </a:xfrm>
          <a:prstGeom prst="rect">
            <a:avLst/>
          </a:prstGeom>
          <a:solidFill>
            <a:srgbClr val="59808c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80" name="Rectangle 15"/>
          <p:cNvSpPr/>
          <p:nvPr/>
        </p:nvSpPr>
        <p:spPr>
          <a:xfrm>
            <a:off x="480960" y="5464080"/>
            <a:ext cx="115920" cy="115920"/>
          </a:xfrm>
          <a:prstGeom prst="rect">
            <a:avLst/>
          </a:prstGeom>
          <a:solidFill>
            <a:srgbClr val="ffcca8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81" name="Rectangle 16"/>
          <p:cNvSpPr/>
          <p:nvPr/>
        </p:nvSpPr>
        <p:spPr>
          <a:xfrm>
            <a:off x="3294000" y="5186520"/>
            <a:ext cx="114480" cy="115560"/>
          </a:xfrm>
          <a:prstGeom prst="rect">
            <a:avLst/>
          </a:prstGeom>
          <a:solidFill>
            <a:srgbClr val="ff660c"/>
          </a:solidFill>
          <a:ln w="936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236520" y="164160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Динаміка між хвилями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649680" y="148428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Розподіл за віком (Березень 08)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584" name="Object 19"/>
          <p:cNvGraphicFramePr/>
          <p:nvPr/>
        </p:nvGraphicFramePr>
        <p:xfrm>
          <a:off x="6572160" y="1895400"/>
          <a:ext cx="2036880" cy="314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72160" y="1895400"/>
                    <a:ext cx="203688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Text Box 20"/>
          <p:cNvSpPr/>
          <p:nvPr/>
        </p:nvSpPr>
        <p:spPr>
          <a:xfrm>
            <a:off x="6299280" y="1484280"/>
            <a:ext cx="26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Розподіл за статтю           (Березень 08)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587" name="Picture 21" descr=""/>
          <p:cNvPicPr/>
          <p:nvPr/>
        </p:nvPicPr>
        <p:blipFill>
          <a:blip r:embed="rId7"/>
          <a:stretch/>
        </p:blipFill>
        <p:spPr>
          <a:xfrm>
            <a:off x="6012000" y="6094440"/>
            <a:ext cx="2171520" cy="7192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2" descr=""/>
          <p:cNvPicPr/>
          <p:nvPr/>
        </p:nvPicPr>
        <p:blipFill>
          <a:blip r:embed="rId8"/>
          <a:stretch/>
        </p:blipFill>
        <p:spPr>
          <a:xfrm>
            <a:off x="179280" y="6526080"/>
            <a:ext cx="5591160" cy="27648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23"/>
          <p:cNvSpPr/>
          <p:nvPr/>
        </p:nvSpPr>
        <p:spPr>
          <a:xfrm>
            <a:off x="228600" y="49860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Чи завжди Ви можете знайти потрібну Вам книгу?</a:t>
            </a:r>
            <a:br>
              <a:rPr sz="2200"/>
            </a:br>
            <a:br>
              <a:rPr sz="2200"/>
            </a:b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від усіх опитаних та опитаних у певній категорії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90" name="Text Box 24"/>
          <p:cNvSpPr/>
          <p:nvPr/>
        </p:nvSpPr>
        <p:spPr>
          <a:xfrm>
            <a:off x="3357720" y="5786280"/>
            <a:ext cx="235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15-1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11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6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,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20-2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2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37,  30-3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2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14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,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40-4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2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34, 50-5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19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9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91" name="Text Box 25"/>
          <p:cNvSpPr/>
          <p:nvPr/>
        </p:nvSpPr>
        <p:spPr>
          <a:xfrm>
            <a:off x="6929280" y="5786280"/>
            <a:ext cx="1714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Чоловіки N=484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,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                                                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 Жінки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51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6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92" name="Text Box 26"/>
          <p:cNvSpPr/>
          <p:nvPr/>
        </p:nvSpPr>
        <p:spPr>
          <a:xfrm>
            <a:off x="480960" y="5786280"/>
            <a:ext cx="1584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Загалом 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1000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1459080" y="275904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94" name="Oval 30"/>
          <p:cNvSpPr/>
          <p:nvPr/>
        </p:nvSpPr>
        <p:spPr>
          <a:xfrm>
            <a:off x="2309760" y="198900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95" name="Oval 33"/>
          <p:cNvSpPr/>
          <p:nvPr/>
        </p:nvSpPr>
        <p:spPr>
          <a:xfrm>
            <a:off x="250920" y="6048360"/>
            <a:ext cx="145800" cy="142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96" name="Oval 35"/>
          <p:cNvSpPr/>
          <p:nvPr/>
        </p:nvSpPr>
        <p:spPr>
          <a:xfrm>
            <a:off x="250920" y="6237360"/>
            <a:ext cx="145800" cy="14292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97" name="Text Box 240"/>
          <p:cNvSpPr/>
          <p:nvPr/>
        </p:nvSpPr>
        <p:spPr>
          <a:xfrm>
            <a:off x="395280" y="6021360"/>
            <a:ext cx="403236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біль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мен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2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599" name="Line 3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1907640" y="2351160"/>
            <a:ext cx="720108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a8"/>
                </a:solidFill>
                <a:latin typeface="Tahoma"/>
              </a:rPr>
              <a:t>Мотивація до купівлі і не купівлі  книжок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grpSp>
        <p:nvGrpSpPr>
          <p:cNvPr id="601" name="Group 5"/>
          <p:cNvGrpSpPr/>
          <p:nvPr/>
        </p:nvGrpSpPr>
        <p:grpSpPr>
          <a:xfrm>
            <a:off x="324000" y="2060640"/>
            <a:ext cx="1439640" cy="1439640"/>
            <a:chOff x="324000" y="2060640"/>
            <a:chExt cx="1439640" cy="1439640"/>
          </a:xfrm>
        </p:grpSpPr>
        <p:sp>
          <p:nvSpPr>
            <p:cNvPr id="602" name="AutoShape 6"/>
            <p:cNvSpPr/>
            <p:nvPr/>
          </p:nvSpPr>
          <p:spPr>
            <a:xfrm>
              <a:off x="324000" y="2060640"/>
              <a:ext cx="1439640" cy="1439640"/>
            </a:xfrm>
            <a:prstGeom prst="pie">
              <a:avLst/>
            </a:prstGeom>
            <a:solidFill>
              <a:srgbClr val="ff9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603" name="Rectangle 7"/>
            <p:cNvSpPr/>
            <p:nvPr/>
          </p:nvSpPr>
          <p:spPr>
            <a:xfrm>
              <a:off x="789120" y="2346120"/>
              <a:ext cx="6141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600" spc="-1" strike="noStrike">
                  <a:solidFill>
                    <a:srgbClr val="ffe1cd"/>
                  </a:solidFill>
                  <a:latin typeface="Tahoma"/>
                </a:rPr>
                <a:t>5</a:t>
              </a:r>
              <a:endParaRPr b="0" lang="en-US" sz="56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Основні причини купівлі і не купівлі книжок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56944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4c"/>
                </a:solidFill>
                <a:latin typeface="Tahoma"/>
              </a:rPr>
              <a:t>Причини купівлі книжок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Основною причиною купівлі книг залишається </a:t>
            </a:r>
            <a:r>
              <a:rPr b="1" lang="uk-UA" sz="1200" spc="-1" strike="noStrike">
                <a:solidFill>
                  <a:srgbClr val="ff9442"/>
                </a:solidFill>
                <a:latin typeface="Tahoma"/>
              </a:rPr>
              <a:t>цікавість її змісту для читача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(42% покупців книжок обрали цю причину)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Частіше стали купувати книги через те, що </a:t>
            </a:r>
            <a:r>
              <a:rPr b="1" lang="uk-UA" sz="1200" spc="-1" strike="noStrike">
                <a:solidFill>
                  <a:srgbClr val="ff9442"/>
                </a:solidFill>
                <a:latin typeface="Tahoma"/>
              </a:rPr>
              <a:t>сподобалася назва книги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(на 6-8% частіше),</a:t>
            </a:r>
            <a:r>
              <a:rPr b="1" lang="uk-UA" sz="1200" spc="-1" strike="noStrike">
                <a:solidFill>
                  <a:srgbClr val="ff9442"/>
                </a:solidFill>
                <a:latin typeface="Tahoma"/>
              </a:rPr>
              <a:t> серія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(на 7% порівняно з минулим роком) або </a:t>
            </a:r>
            <a:r>
              <a:rPr b="1" lang="uk-UA" sz="1200" spc="-1" strike="noStrike">
                <a:solidFill>
                  <a:srgbClr val="ff9442"/>
                </a:solidFill>
                <a:latin typeface="Tahoma"/>
              </a:rPr>
              <a:t>автор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(на 5-6% частіше). </a:t>
            </a:r>
            <a:r>
              <a:rPr b="1" lang="uk-UA" sz="1200" spc="-1" strike="noStrike">
                <a:solidFill>
                  <a:srgbClr val="ff9442"/>
                </a:solidFill>
                <a:latin typeface="Tahoma"/>
              </a:rPr>
              <a:t>Для навчання, роботи або ж в цьому з</a:t>
            </a:r>
            <a:r>
              <a:rPr b="1" lang="en-US" sz="1200" spc="-1" strike="noStrike">
                <a:solidFill>
                  <a:srgbClr val="ff9442"/>
                </a:solidFill>
                <a:latin typeface="Tahoma"/>
              </a:rPr>
              <a:t>’</a:t>
            </a:r>
            <a:r>
              <a:rPr b="1" lang="uk-UA" sz="1200" spc="-1" strike="noStrike">
                <a:solidFill>
                  <a:srgbClr val="ff9442"/>
                </a:solidFill>
                <a:latin typeface="Tahoma"/>
              </a:rPr>
              <a:t>явилася практична потреба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купували на 5-8% менше опитаних. </a:t>
            </a:r>
            <a:r>
              <a:rPr b="1" lang="uk-UA" sz="1200" spc="-1" strike="noStrike">
                <a:solidFill>
                  <a:srgbClr val="ff9442"/>
                </a:solidFill>
                <a:latin typeface="Tahoma"/>
              </a:rPr>
              <a:t>Реклама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стала причиною покупки лише для 1%  покупців, порівняно з 4% у червні 2007 року. 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Решта змін є не значущими: 15% покупців привернуло увагу оформлення книги, 12% </a:t>
            </a:r>
            <a:r>
              <a:rPr b="1" lang="uk-UA" sz="1200" spc="-1" strike="noStrike">
                <a:solidFill>
                  <a:srgbClr val="ff9442"/>
                </a:solidFill>
                <a:latin typeface="Tahoma"/>
              </a:rPr>
              <a:t>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керувалися рекомендаціями друзів та знайомих при купівлі книжок, 10% громадян виконували прохання членів родини або друзів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Найменш поширеними (4% і менше) причинами купівлі книжок є довіра певному видавництву (4%), рекомендації персоналу в магазині (3%), посилання в іншій книзі (1%), дешевизна або акція (1%). 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Причини не купівлі книжок: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Найбільш часто згадуваною причиною продовжує залишатись </a:t>
            </a:r>
            <a:r>
              <a:rPr b="1" lang="uk-UA" sz="1200" spc="-1" strike="noStrike">
                <a:solidFill>
                  <a:srgbClr val="ff9442"/>
                </a:solidFill>
                <a:latin typeface="Tahoma"/>
              </a:rPr>
              <a:t>відсутність потреби у книжках/цікавості до книжок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— цю причину в усіх хвилях опитування вказувало близько половина громадян, які не купували книжки протягом останніх 3 місяців. При чому, ця причина стає дедалі популярнішою серед тих, хто не купує книги, зокрема, у порівнянні з березнем 2007 її назвало на 7% більше опитаних (49% проти 56%). Чоловіки дану причину продовжували згадувати значно частіше (65%), ніж жінки (45%)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9442"/>
                </a:solidFill>
                <a:latin typeface="Tahoma"/>
              </a:rPr>
              <a:t>Брак грошей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став менш популярною, але все ж другою за частотою згадування причиною не купівлі книг. У порівнянні з березнем минулого року цю причину назвали на 6% менше людей (14% цього року порівняно з 20% минулого). 9% опитаних незмінно говорять, що та книга, яку вони хотіли купити була занадто дорогою. В усіх хвилях жінки значно частіше за чоловіків стверджують, що не можуть дозволити собі купити книжку (у березні 2008 цю причину обрали 19% жінок проти 9% чоловіків). 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Третьою причиною відмови від покупки книжок є їх </a:t>
            </a:r>
            <a:r>
              <a:rPr b="1" lang="uk-UA" sz="1200" spc="-1" strike="noStrike">
                <a:solidFill>
                  <a:srgbClr val="ff9442"/>
                </a:solidFill>
                <a:latin typeface="Tahoma"/>
              </a:rPr>
              <a:t>позичання у друзів і в бібліотеці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(12%). В усіх хвилях опитування не покупці книжок у віці 15-19 вдвічі частіше беруть книги у друзів чи у бібліотеці, ніж респонденти решти категорії 20-39 років.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084720" y="6138720"/>
            <a:ext cx="2171880" cy="7192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0" y="6581880"/>
            <a:ext cx="5591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Номер слайда 3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D4A2-1843-4140-8641-030B340961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61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Причини купівлі останньої придбаної книги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graphicFrame>
        <p:nvGraphicFramePr>
          <p:cNvPr id="610" name="Object 3"/>
          <p:cNvGraphicFramePr/>
          <p:nvPr/>
        </p:nvGraphicFramePr>
        <p:xfrm>
          <a:off x="1332000" y="1484280"/>
          <a:ext cx="715320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484280"/>
                    <a:ext cx="715320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2" name="Picture 6" descr=""/>
          <p:cNvPicPr/>
          <p:nvPr/>
        </p:nvPicPr>
        <p:blipFill>
          <a:blip r:embed="rId3"/>
          <a:stretch/>
        </p:blipFill>
        <p:spPr>
          <a:xfrm>
            <a:off x="6012000" y="6094440"/>
            <a:ext cx="2171520" cy="719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"/>
          <p:cNvPicPr/>
          <p:nvPr/>
        </p:nvPicPr>
        <p:blipFill>
          <a:blip r:embed="rId4"/>
          <a:stretch/>
        </p:blipFill>
        <p:spPr>
          <a:xfrm>
            <a:off x="179280" y="6526080"/>
            <a:ext cx="5591160" cy="27648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8"/>
          <p:cNvSpPr/>
          <p:nvPr/>
        </p:nvSpPr>
        <p:spPr>
          <a:xfrm>
            <a:off x="-77760" y="1197000"/>
            <a:ext cx="83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тих, хто купував книжки протягом останніх 3-ох місяців, необмежена к-сть відповідей, </a:t>
            </a:r>
            <a:r>
              <a:rPr b="0" lang="en-US" sz="12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(Березень 08)=356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395280" y="6381720"/>
            <a:ext cx="511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У червні 2007 було змінено перелік альтернатив в анкет, тому дані подаються за ОСТАННІ</a:t>
            </a:r>
            <a:r>
              <a:rPr b="0" lang="uk-UA" sz="800" spc="-1" strike="noStrike">
                <a:solidFill>
                  <a:srgbClr val="00334c"/>
                </a:solidFill>
                <a:latin typeface="Arial"/>
              </a:rPr>
              <a:t> три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хвилі 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366840" y="5886360"/>
            <a:ext cx="129672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5324400" y="1844640"/>
            <a:ext cx="3272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173160" y="5951520"/>
            <a:ext cx="145800" cy="142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290520" y="5940360"/>
            <a:ext cx="230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166680" y="6138720"/>
            <a:ext cx="146160" cy="14292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21" name="Oval 16"/>
          <p:cNvSpPr/>
          <p:nvPr/>
        </p:nvSpPr>
        <p:spPr>
          <a:xfrm>
            <a:off x="5362560" y="3213000"/>
            <a:ext cx="43344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22" name="Text Box 240"/>
          <p:cNvSpPr/>
          <p:nvPr/>
        </p:nvSpPr>
        <p:spPr>
          <a:xfrm>
            <a:off x="395280" y="5950080"/>
            <a:ext cx="4105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біль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мен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4610160" y="2681280"/>
            <a:ext cx="32688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24" name="Oval 23"/>
          <p:cNvSpPr/>
          <p:nvPr/>
        </p:nvSpPr>
        <p:spPr>
          <a:xfrm>
            <a:off x="4614840" y="5167440"/>
            <a:ext cx="168120" cy="1666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Номер слайда 5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37A1-DB3F-4F22-9B73-988ED1BD39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Чому Ви не купували книжок протягом останніх 3 місяців?</a:t>
            </a:r>
            <a:br>
              <a:rPr sz="2200"/>
            </a:b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graphicFrame>
        <p:nvGraphicFramePr>
          <p:cNvPr id="627" name="Object 3"/>
          <p:cNvGraphicFramePr/>
          <p:nvPr/>
        </p:nvGraphicFramePr>
        <p:xfrm>
          <a:off x="252360" y="1919160"/>
          <a:ext cx="427212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919160"/>
                    <a:ext cx="427212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4"/>
          <p:cNvGraphicFramePr/>
          <p:nvPr/>
        </p:nvGraphicFramePr>
        <p:xfrm>
          <a:off x="4645080" y="2060640"/>
          <a:ext cx="4182840" cy="19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5080" y="2060640"/>
                    <a:ext cx="418284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Text Box 5"/>
          <p:cNvSpPr/>
          <p:nvPr/>
        </p:nvSpPr>
        <p:spPr>
          <a:xfrm>
            <a:off x="5003640" y="1484280"/>
            <a:ext cx="38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ОСНОВНІ ПРИЧИНИ ВІДМОВИ ВІД КУПІВЛІ КНИЖОК: ЗА ВІКОМ (Березень 08)                                                     </a:t>
            </a: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% до респондентів у кожній віковій та статевій групі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141120" y="1484280"/>
            <a:ext cx="453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ЗМІНИ ПРИЧИН ВІДМОВИ КУПУВАТИ КНИЖКИ             (ДИНАМІКА МІЖ ХВИЛЯМИ)                                                                </a:t>
            </a:r>
            <a:r>
              <a:rPr b="0" lang="uk-UA" sz="1000" spc="-1" strike="noStrike">
                <a:solidFill>
                  <a:srgbClr val="00334c"/>
                </a:solidFill>
                <a:latin typeface="Tahoma"/>
              </a:rPr>
              <a:t>% до респондентів, </a:t>
            </a:r>
            <a:r>
              <a:rPr b="0" lang="ru-RU" sz="1000" spc="-1" strike="noStrike">
                <a:solidFill>
                  <a:srgbClr val="00334c"/>
                </a:solidFill>
                <a:latin typeface="Tahoma"/>
              </a:rPr>
              <a:t>що не купували книжок протягом минулих 3 місяців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633" name="Object 10"/>
          <p:cNvGraphicFramePr/>
          <p:nvPr/>
        </p:nvGraphicFramePr>
        <p:xfrm>
          <a:off x="4645080" y="4118040"/>
          <a:ext cx="4182840" cy="190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4118040"/>
                    <a:ext cx="418284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Rectangle 11"/>
          <p:cNvSpPr/>
          <p:nvPr/>
        </p:nvSpPr>
        <p:spPr>
          <a:xfrm>
            <a:off x="5909400" y="3933720"/>
            <a:ext cx="181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ЗА СТАТТЮ (Березень 08)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36" name="Line 12"/>
          <p:cNvSpPr/>
          <p:nvPr/>
        </p:nvSpPr>
        <p:spPr>
          <a:xfrm>
            <a:off x="4605480" y="3948120"/>
            <a:ext cx="4105080" cy="0"/>
          </a:xfrm>
          <a:prstGeom prst="line">
            <a:avLst/>
          </a:prstGeom>
          <a:ln w="324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37" name="Line 13"/>
          <p:cNvSpPr/>
          <p:nvPr/>
        </p:nvSpPr>
        <p:spPr>
          <a:xfrm>
            <a:off x="4605480" y="1531800"/>
            <a:ext cx="0" cy="482472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638" name="Picture 14" descr=""/>
          <p:cNvPicPr/>
          <p:nvPr/>
        </p:nvPicPr>
        <p:blipFill>
          <a:blip r:embed="rId7"/>
          <a:stretch/>
        </p:blipFill>
        <p:spPr>
          <a:xfrm>
            <a:off x="6012000" y="6094440"/>
            <a:ext cx="2171520" cy="7192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5" descr=""/>
          <p:cNvPicPr/>
          <p:nvPr/>
        </p:nvPicPr>
        <p:blipFill>
          <a:blip r:embed="rId8"/>
          <a:stretch/>
        </p:blipFill>
        <p:spPr>
          <a:xfrm>
            <a:off x="214200" y="6581880"/>
            <a:ext cx="5591160" cy="27612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16"/>
          <p:cNvSpPr/>
          <p:nvPr/>
        </p:nvSpPr>
        <p:spPr>
          <a:xfrm>
            <a:off x="7308720" y="5157720"/>
            <a:ext cx="165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Чоловіки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35</a:t>
            </a:r>
            <a:r>
              <a:rPr b="0" lang="uk-UA" sz="800" spc="-1" strike="noStrike">
                <a:solidFill>
                  <a:srgbClr val="00334c"/>
                </a:solidFill>
                <a:latin typeface="Arial"/>
              </a:rPr>
              <a:t>0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,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Жінки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uk-UA" sz="800" spc="-1" strike="noStrike">
                <a:solidFill>
                  <a:srgbClr val="00334c"/>
                </a:solidFill>
                <a:latin typeface="Arial"/>
              </a:rPr>
              <a:t>294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41" name="Text Box 17"/>
          <p:cNvSpPr/>
          <p:nvPr/>
        </p:nvSpPr>
        <p:spPr>
          <a:xfrm>
            <a:off x="3348000" y="4941720"/>
            <a:ext cx="1008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</a:t>
            </a:r>
            <a:r>
              <a:rPr b="0" lang="uk-UA" sz="800" spc="-1" strike="noStrike">
                <a:solidFill>
                  <a:srgbClr val="00334c"/>
                </a:solidFill>
                <a:latin typeface="Arial"/>
              </a:rPr>
              <a:t>644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7738920" y="2637000"/>
            <a:ext cx="129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Березень 08: 15-1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77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,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20-2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156, 30-3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131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,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40-4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149, 50-59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=131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43" name="Text Box 19"/>
          <p:cNvSpPr/>
          <p:nvPr/>
        </p:nvSpPr>
        <p:spPr>
          <a:xfrm>
            <a:off x="179280" y="112536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до всіх респондентів, що не купували книжок, в кожній хвилі опитування та категорії.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44" name="Oval 20"/>
          <p:cNvSpPr/>
          <p:nvPr/>
        </p:nvSpPr>
        <p:spPr>
          <a:xfrm>
            <a:off x="196920" y="6165720"/>
            <a:ext cx="146160" cy="142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45" name="Text Box 21"/>
          <p:cNvSpPr/>
          <p:nvPr/>
        </p:nvSpPr>
        <p:spPr>
          <a:xfrm>
            <a:off x="314280" y="6154560"/>
            <a:ext cx="230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46" name="Oval 22"/>
          <p:cNvSpPr/>
          <p:nvPr/>
        </p:nvSpPr>
        <p:spPr>
          <a:xfrm>
            <a:off x="200160" y="6353280"/>
            <a:ext cx="145800" cy="14292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47" name="Oval 23"/>
          <p:cNvSpPr/>
          <p:nvPr/>
        </p:nvSpPr>
        <p:spPr>
          <a:xfrm>
            <a:off x="3119400" y="2552760"/>
            <a:ext cx="168480" cy="1666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48" name="Oval 24"/>
          <p:cNvSpPr/>
          <p:nvPr/>
        </p:nvSpPr>
        <p:spPr>
          <a:xfrm>
            <a:off x="4089240" y="2119320"/>
            <a:ext cx="168480" cy="16668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49" name="Text Box 240"/>
          <p:cNvSpPr/>
          <p:nvPr/>
        </p:nvSpPr>
        <p:spPr>
          <a:xfrm>
            <a:off x="351000" y="6132600"/>
            <a:ext cx="40320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біль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мен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Line 2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51" name="Line 3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907640" y="2351160"/>
            <a:ext cx="720108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a8"/>
                </a:solidFill>
                <a:latin typeface="Tahoma"/>
              </a:rPr>
              <a:t>Місця купівлі книжок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grpSp>
        <p:nvGrpSpPr>
          <p:cNvPr id="653" name="Group 5"/>
          <p:cNvGrpSpPr/>
          <p:nvPr/>
        </p:nvGrpSpPr>
        <p:grpSpPr>
          <a:xfrm>
            <a:off x="324000" y="2060640"/>
            <a:ext cx="1439640" cy="1439640"/>
            <a:chOff x="324000" y="2060640"/>
            <a:chExt cx="1439640" cy="1439640"/>
          </a:xfrm>
        </p:grpSpPr>
        <p:sp>
          <p:nvSpPr>
            <p:cNvPr id="654" name="AutoShape 6"/>
            <p:cNvSpPr/>
            <p:nvPr/>
          </p:nvSpPr>
          <p:spPr>
            <a:xfrm>
              <a:off x="324000" y="2060640"/>
              <a:ext cx="1439640" cy="1439640"/>
            </a:xfrm>
            <a:prstGeom prst="pie">
              <a:avLst/>
            </a:prstGeom>
            <a:solidFill>
              <a:srgbClr val="ff9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655" name="Rectangle 7"/>
            <p:cNvSpPr/>
            <p:nvPr/>
          </p:nvSpPr>
          <p:spPr>
            <a:xfrm>
              <a:off x="789120" y="2346120"/>
              <a:ext cx="6141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600" spc="-1" strike="noStrike">
                  <a:solidFill>
                    <a:srgbClr val="ffe1cd"/>
                  </a:solidFill>
                  <a:latin typeface="Tahoma"/>
                </a:rPr>
                <a:t>6</a:t>
              </a:r>
              <a:endParaRPr b="0" lang="en-US" sz="56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Місця купівлі книжок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У грудні 2007 значно збільшилась частка громадян, які купують книги у </a:t>
            </a:r>
            <a:r>
              <a:rPr b="1" lang="uk-UA" sz="1200" spc="-1" strike="noStrike">
                <a:solidFill>
                  <a:srgbClr val="ff913a"/>
                </a:solidFill>
                <a:latin typeface="Tahoma"/>
              </a:rPr>
              <a:t>книжкових магазинах та супермаркетах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, проте, вже в березні 2008 року вона повернулася до минулорічного рівня – близько 53% купували книги там. Стрибок популярності магазинів та супермаркетів у грудні пов’язаний, ймовірно, з холодною порою року. В березні знизилась частка художньої літератури, купленої в магазинах, частіше там купують навчальну та наукову і дитячу літературу,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На другому за популярністю місці залишається </a:t>
            </a:r>
            <a:r>
              <a:rPr b="1" lang="uk-UA" sz="1200" spc="-1" strike="noStrike">
                <a:solidFill>
                  <a:srgbClr val="ff913a"/>
                </a:solidFill>
                <a:latin typeface="Tahoma"/>
              </a:rPr>
              <a:t> книжковий ринок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,</a:t>
            </a:r>
            <a:r>
              <a:rPr b="1" lang="uk-UA" sz="1200" spc="-1" strike="noStrike">
                <a:solidFill>
                  <a:srgbClr val="ff913a"/>
                </a:solidFill>
                <a:latin typeface="Tahoma"/>
              </a:rPr>
              <a:t>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де купували книжки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31%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респондентів. На книжкових ринках однаково часто купували усі види літератури, а кількість опитаних, які придбали там дитячі книги зменшилася з 33% до 21% протягом року. Респонденти з низьким рівнем життя родини частіше купують книги на книжкових ринках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На третьому</a:t>
            </a:r>
            <a:r>
              <a:rPr b="1" lang="uk-UA" sz="1200" spc="-1" strike="noStrike">
                <a:solidFill>
                  <a:srgbClr val="ff913a"/>
                </a:solidFill>
                <a:latin typeface="Tahoma"/>
              </a:rPr>
              <a:t>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місці</a:t>
            </a:r>
            <a:r>
              <a:rPr b="1" lang="uk-UA" sz="1200" spc="-1" strike="noStrike">
                <a:solidFill>
                  <a:srgbClr val="ff913a"/>
                </a:solidFill>
                <a:latin typeface="Tahoma"/>
              </a:rPr>
              <a:t> книжковий клуб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(23%). У книжковому клубі в березні, як і раніше, переважно купували художню літературу та навчальну/наукову. Як і раніше, ним переважно користуються жителі сіл і міст з населенням до 50 тис. та жінки. Проте фінансовий статус користувачів клубу зрівнявся з середнім за вибіркою: 47% назвали свій рівень життя середнім, а 33% - вище середнього. Збільшилася частка тих, хто купував книги безпосередньо у видавця з 1% до 3%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Решта змін є не значущими: частка покупців книжок на вуличних розкладках становить близько 16%, близько 2% респондентів зазначили, що купували книжки у продавця, що подорожує</a:t>
            </a:r>
            <a:r>
              <a:rPr b="0" lang="en-US" sz="1200" spc="-1" strike="noStrike">
                <a:solidFill>
                  <a:srgbClr val="00334c"/>
                </a:solidFill>
                <a:latin typeface="Tahoma"/>
              </a:rPr>
              <a:t>,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1% - у букініста, менше 1% замовляли книги в Інтернет-магазині.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012000" y="5950080"/>
            <a:ext cx="2171520" cy="71892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5591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907640" y="2351160"/>
            <a:ext cx="720108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a8"/>
                </a:solidFill>
                <a:latin typeface="Tahoma"/>
              </a:rPr>
              <a:t>Метод та вибірка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324000" y="2060640"/>
            <a:ext cx="1439640" cy="1439640"/>
            <a:chOff x="324000" y="2060640"/>
            <a:chExt cx="1439640" cy="1439640"/>
          </a:xfrm>
        </p:grpSpPr>
        <p:sp>
          <p:nvSpPr>
            <p:cNvPr id="201" name="AutoShape 6"/>
            <p:cNvSpPr/>
            <p:nvPr/>
          </p:nvSpPr>
          <p:spPr>
            <a:xfrm>
              <a:off x="324000" y="2060640"/>
              <a:ext cx="1439640" cy="1439640"/>
            </a:xfrm>
            <a:prstGeom prst="pie">
              <a:avLst/>
            </a:prstGeom>
            <a:solidFill>
              <a:srgbClr val="ff9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789120" y="2346120"/>
              <a:ext cx="6141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600" spc="-1" strike="noStrike">
                  <a:solidFill>
                    <a:srgbClr val="ffe1cd"/>
                  </a:solidFill>
                  <a:latin typeface="Tahoma"/>
                </a:rPr>
                <a:t>1</a:t>
              </a:r>
              <a:endParaRPr b="0" lang="en-US" sz="56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Номер слайда 3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64F4-F055-42D2-A903-C40B943176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Де саме ви купували книги протягом останніх 3 місяців?</a:t>
            </a:r>
            <a:br>
              <a:rPr sz="2200"/>
            </a:br>
            <a:br>
              <a:rPr sz="2000"/>
            </a:b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graphicFrame>
        <p:nvGraphicFramePr>
          <p:cNvPr id="662" name="Object 3"/>
          <p:cNvGraphicFramePr/>
          <p:nvPr/>
        </p:nvGraphicFramePr>
        <p:xfrm>
          <a:off x="1403280" y="1628640"/>
          <a:ext cx="6375600" cy="39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628640"/>
                    <a:ext cx="6375600" cy="39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Text Box 4"/>
          <p:cNvSpPr/>
          <p:nvPr/>
        </p:nvSpPr>
        <p:spPr>
          <a:xfrm>
            <a:off x="0" y="5805360"/>
            <a:ext cx="35654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Примітка</a:t>
            </a:r>
            <a:r>
              <a:rPr b="0" lang="de-DE" sz="800" spc="-1" strike="noStrike">
                <a:solidFill>
                  <a:srgbClr val="00334c"/>
                </a:solidFill>
                <a:latin typeface="Tahoma"/>
              </a:rPr>
              <a:t>: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  ** На розкладці на вулиці, на залізниці, у лікарні, тощо 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               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*** На ярмарку, замовили безпосередньо у видавця тощо</a:t>
            </a:r>
            <a:r>
              <a:rPr b="0" lang="de-DE" sz="800" spc="-1" strike="noStrike">
                <a:solidFill>
                  <a:srgbClr val="00334c"/>
                </a:solidFill>
                <a:latin typeface="Tahoma"/>
              </a:rPr>
              <a:t>.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665" name="Picture 6" descr=""/>
          <p:cNvPicPr/>
          <p:nvPr/>
        </p:nvPicPr>
        <p:blipFill>
          <a:blip r:embed="rId3"/>
          <a:stretch/>
        </p:blipFill>
        <p:spPr>
          <a:xfrm>
            <a:off x="6012000" y="6138720"/>
            <a:ext cx="2171520" cy="719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7" descr=""/>
          <p:cNvPicPr/>
          <p:nvPr/>
        </p:nvPicPr>
        <p:blipFill>
          <a:blip r:embed="rId4"/>
          <a:stretch/>
        </p:blipFill>
        <p:spPr>
          <a:xfrm>
            <a:off x="179280" y="6526080"/>
            <a:ext cx="5591160" cy="27648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10"/>
          <p:cNvSpPr/>
          <p:nvPr/>
        </p:nvSpPr>
        <p:spPr>
          <a:xfrm>
            <a:off x="-199080" y="1125360"/>
            <a:ext cx="872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тих, хто купував книжки протягом останніх 3-ох місяців, необмежена кількість відповідей, </a:t>
            </a:r>
            <a:r>
              <a:rPr b="0" lang="en-US" sz="1200" spc="-1" strike="noStrike">
                <a:solidFill>
                  <a:srgbClr val="00334c"/>
                </a:solidFill>
                <a:latin typeface="Tahoma"/>
              </a:rPr>
              <a:t>N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(Березень 08)=356.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68" name="Oval 13"/>
          <p:cNvSpPr/>
          <p:nvPr/>
        </p:nvSpPr>
        <p:spPr>
          <a:xfrm>
            <a:off x="6370560" y="204948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69" name="Oval 17"/>
          <p:cNvSpPr/>
          <p:nvPr/>
        </p:nvSpPr>
        <p:spPr>
          <a:xfrm>
            <a:off x="4040280" y="3551400"/>
            <a:ext cx="182520" cy="24912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3635280" y="5734080"/>
            <a:ext cx="146160" cy="142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708360" y="5954760"/>
            <a:ext cx="2303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3635280" y="5950080"/>
            <a:ext cx="146160" cy="14292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73" name="Text Box 240"/>
          <p:cNvSpPr/>
          <p:nvPr/>
        </p:nvSpPr>
        <p:spPr>
          <a:xfrm>
            <a:off x="3784680" y="5711760"/>
            <a:ext cx="40338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біль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мен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Номер слайда 3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96CF-3653-4E8F-920C-423F42B99F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Місця покупки: розподіл за категоріями книжок</a:t>
            </a:r>
            <a:br>
              <a:rPr sz="2200"/>
            </a:br>
            <a:br>
              <a:rPr sz="1800"/>
            </a:b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graphicFrame>
        <p:nvGraphicFramePr>
          <p:cNvPr id="676" name="Object 3"/>
          <p:cNvGraphicFramePr/>
          <p:nvPr/>
        </p:nvGraphicFramePr>
        <p:xfrm>
          <a:off x="324000" y="1916280"/>
          <a:ext cx="8307360" cy="36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8307360" cy="36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Text Box 4"/>
          <p:cNvSpPr/>
          <p:nvPr/>
        </p:nvSpPr>
        <p:spPr>
          <a:xfrm>
            <a:off x="612720" y="1557360"/>
            <a:ext cx="59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Де саме Ви останній раз купували книжку?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679" name="Picture 5" descr=""/>
          <p:cNvPicPr/>
          <p:nvPr/>
        </p:nvPicPr>
        <p:blipFill>
          <a:blip r:embed="rId3"/>
          <a:stretch/>
        </p:blipFill>
        <p:spPr>
          <a:xfrm>
            <a:off x="6012000" y="5950080"/>
            <a:ext cx="2171520" cy="71892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6"/>
          <p:cNvSpPr/>
          <p:nvPr/>
        </p:nvSpPr>
        <p:spPr>
          <a:xfrm>
            <a:off x="0" y="6165720"/>
            <a:ext cx="831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Примітка</a:t>
            </a:r>
            <a:r>
              <a:rPr b="0" lang="de-DE" sz="800" spc="-1" strike="noStrike">
                <a:solidFill>
                  <a:srgbClr val="00334c"/>
                </a:solidFill>
                <a:latin typeface="Tahoma"/>
              </a:rPr>
              <a:t>: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* На розкладці на вулиці, на залізниці, у лікарні, тощо ** На ярмарку, замовили безпосередньо у видавця тощо</a:t>
            </a:r>
            <a:r>
              <a:rPr b="0" lang="de-DE" sz="800" spc="-1" strike="noStrike">
                <a:solidFill>
                  <a:srgbClr val="00334c"/>
                </a:solidFill>
                <a:latin typeface="Tahoma"/>
              </a:rPr>
              <a:t>.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681" name="Picture 7" descr=""/>
          <p:cNvPicPr/>
          <p:nvPr/>
        </p:nvPicPr>
        <p:blipFill>
          <a:blip r:embed="rId4"/>
          <a:stretch/>
        </p:blipFill>
        <p:spPr>
          <a:xfrm>
            <a:off x="179280" y="6381720"/>
            <a:ext cx="5591160" cy="27612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8"/>
          <p:cNvSpPr/>
          <p:nvPr/>
        </p:nvSpPr>
        <p:spPr>
          <a:xfrm>
            <a:off x="684360" y="537372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ДИТЯЧІ КНИГИ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2557440" y="5373720"/>
            <a:ext cx="158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НАВЧАЛЬНІ / НАУКОВІ КНИГИ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4572000" y="53737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334c"/>
                </a:solidFill>
                <a:latin typeface="Tahoma"/>
              </a:rPr>
              <a:t>ХУДОЖНЯ ЛІТЕРАТУРА</a:t>
            </a: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85" name="Rectangle 22"/>
          <p:cNvSpPr/>
          <p:nvPr/>
        </p:nvSpPr>
        <p:spPr>
          <a:xfrm>
            <a:off x="0" y="112536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% до всіх, хто купував книжки протягом останніх 3-ох місяців, в кожній хвилі опитування та категорії.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86" name="Text Box 23"/>
          <p:cNvSpPr/>
          <p:nvPr/>
        </p:nvSpPr>
        <p:spPr>
          <a:xfrm>
            <a:off x="6300720" y="4653000"/>
            <a:ext cx="2016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4c"/>
                </a:solidFill>
                <a:latin typeface="Tahoma"/>
              </a:rPr>
              <a:t>Березень 08: Покупці д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итячої літератури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=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74; навчальної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334c"/>
                </a:solidFill>
                <a:latin typeface="Tahoma"/>
              </a:rPr>
              <a:t>та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 наукової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=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65;</a:t>
            </a:r>
            <a:r>
              <a:rPr b="0" lang="ru-RU" sz="800" spc="-1" strike="noStrike">
                <a:solidFill>
                  <a:srgbClr val="00334c"/>
                </a:solidFill>
                <a:latin typeface="Tahoma"/>
              </a:rPr>
              <a:t> художньо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ї</a:t>
            </a:r>
            <a:r>
              <a:rPr b="0" lang="ru-RU" sz="800" spc="-1" strike="noStrike">
                <a:solidFill>
                  <a:srgbClr val="00334c"/>
                </a:solidFill>
                <a:latin typeface="Tahoma"/>
              </a:rPr>
              <a:t> л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ітератури </a:t>
            </a:r>
            <a:r>
              <a:rPr b="0" lang="en-US" sz="800" spc="-1" strike="noStrike">
                <a:solidFill>
                  <a:srgbClr val="00334c"/>
                </a:solidFill>
                <a:latin typeface="Tahoma"/>
              </a:rPr>
              <a:t>N=</a:t>
            </a: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147.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87" name="Oval 26"/>
          <p:cNvSpPr/>
          <p:nvPr/>
        </p:nvSpPr>
        <p:spPr>
          <a:xfrm>
            <a:off x="733320" y="3860640"/>
            <a:ext cx="217440" cy="216000"/>
          </a:xfrm>
          <a:prstGeom prst="ellipse">
            <a:avLst/>
          </a:prstGeom>
          <a:noFill/>
          <a:ln w="1908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88" name="Oval 29"/>
          <p:cNvSpPr/>
          <p:nvPr/>
        </p:nvSpPr>
        <p:spPr>
          <a:xfrm>
            <a:off x="728640" y="2792520"/>
            <a:ext cx="2174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89" name="Oval 33"/>
          <p:cNvSpPr/>
          <p:nvPr/>
        </p:nvSpPr>
        <p:spPr>
          <a:xfrm>
            <a:off x="5084640" y="3684600"/>
            <a:ext cx="2174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90" name="Oval 34"/>
          <p:cNvSpPr/>
          <p:nvPr/>
        </p:nvSpPr>
        <p:spPr>
          <a:xfrm>
            <a:off x="2124000" y="5734080"/>
            <a:ext cx="146160" cy="142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91" name="Text Box 35"/>
          <p:cNvSpPr/>
          <p:nvPr/>
        </p:nvSpPr>
        <p:spPr>
          <a:xfrm>
            <a:off x="6416640" y="4743360"/>
            <a:ext cx="230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92" name="Oval 36"/>
          <p:cNvSpPr/>
          <p:nvPr/>
        </p:nvSpPr>
        <p:spPr>
          <a:xfrm>
            <a:off x="2124000" y="5950080"/>
            <a:ext cx="146160" cy="142920"/>
          </a:xfrm>
          <a:prstGeom prst="ellipse">
            <a:avLst/>
          </a:prstGeom>
          <a:noFill/>
          <a:ln w="22320">
            <a:solidFill>
              <a:srgbClr val="003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93" name="Text Box 240"/>
          <p:cNvSpPr/>
          <p:nvPr/>
        </p:nvSpPr>
        <p:spPr>
          <a:xfrm>
            <a:off x="2235240" y="5711760"/>
            <a:ext cx="4248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біль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334c"/>
                </a:solidFill>
                <a:latin typeface="Tahoma"/>
              </a:rPr>
              <a:t>Вказує, що дане значення значуще менше від відповідного йому у березні 08</a:t>
            </a:r>
            <a:endParaRPr b="0" lang="en-US" sz="800" spc="-1" strike="noStrike">
              <a:solidFill>
                <a:srgbClr val="0033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Line 2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95" name="Line 3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1907640" y="2351160"/>
            <a:ext cx="720108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a8"/>
                </a:solidFill>
                <a:latin typeface="Tahoma"/>
              </a:rPr>
              <a:t>Додаток І: Анкета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Номер слайда 4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4B09-CE7D-4E08-9580-AED9689F03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324000" y="1628640"/>
          <a:ext cx="8569080" cy="39610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419000">
                <a:tc>
                  <a:txBody>
                    <a:bodyPr lIns="72000" rIns="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1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    Скільки книжок Ви особисто купили для себе або для інших людей за останні три місяці?   Коли ми говоримо про книжки, ми маємо на увазі всі книги будь-якою мовою, включаючи книги для дітей та навчальну літературу, окрім підручників для початкової та середньої школи. </a:t>
                      </a: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2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    За останні три місяці ви купували книги для себе та вашої родини, чи як подарунок для інших? </a:t>
                      </a: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3 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  Серед тих книжок, які ви особисто купили за останні три місяці, скільки з них було російською, українською, іншими (іноземними) мовами? </a:t>
                      </a: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4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   Книгу якого жанру ви купили останнього разу? </a:t>
                      </a: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5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   Книгу якою мовою ви купили останнього разу? </a:t>
                      </a: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6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   Подивіться, будь ласка, на список і скажіть, де ви купували книги за останні три місяці? Згадайте, будь ласка, всі книги, які ви особисто купили за останні три місяці. </a:t>
                      </a: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7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   Де ви купили останню книгу? </a:t>
                      </a: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8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   Якою була приблизна вартість книги, яку ви купили останнього разу? </a:t>
                      </a: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9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  Назвіть, будь ласка, причину купівлі останньої книги; що спонукало вас її купити? </a:t>
                      </a: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10  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Скажіть, будь ласка, чи завжди ви можете знайти необхідну вам книгу? якщо ні, скажіть, як часто ви заходите до книжкового магазину, щоб знайти певну книгу чи її зміст і не можете її знайти? </a:t>
                      </a: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ff660c"/>
                      </a:solidFill>
                    </a:lnL>
                    <a:lnR w="5760">
                      <a:solidFill>
                        <a:srgbClr val="ff660c"/>
                      </a:solidFill>
                    </a:lnR>
                    <a:lnT w="5760">
                      <a:solidFill>
                        <a:srgbClr val="ff660c"/>
                      </a:solidFill>
                    </a:lnT>
                    <a:lnB w="5760">
                      <a:solidFill>
                        <a:srgbClr val="ff660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4c"/>
                </a:solidFill>
                <a:latin typeface="Tahoma"/>
              </a:rPr>
              <a:t>Анкета (1)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pic>
        <p:nvPicPr>
          <p:cNvPr id="700" name="Picture 9" descr=""/>
          <p:cNvPicPr/>
          <p:nvPr/>
        </p:nvPicPr>
        <p:blipFill>
          <a:blip r:embed="rId1"/>
          <a:stretch/>
        </p:blipFill>
        <p:spPr>
          <a:xfrm>
            <a:off x="6012000" y="5950080"/>
            <a:ext cx="2171520" cy="7189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1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5591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Номер слайда 4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5FD1-8077-42D2-A014-087540D99C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324000" y="1628640"/>
          <a:ext cx="8569080" cy="21272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367000">
                <a:tc>
                  <a:txBody>
                    <a:bodyPr lIns="72000" rIns="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Запитання для тих респондентів, хто не купував книжки протягом останніх трьох місяців:</a:t>
                      </a: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11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А чому ви не купували книжки за останні три місяці? назвіть, будь ласка, головну причину. Чи були які-небудь інші причини? 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Я</a:t>
                      </a:r>
                      <a:r>
                        <a:rPr b="0" lang="ru-RU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кщо так, то які саме? 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(відкрите запитання) </a:t>
                      </a: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12</a:t>
                      </a:r>
                      <a:r>
                        <a:rPr b="0" lang="uk-UA" sz="14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    Що могло б спонукати вас купувати книги взагалі, або купувати їх частіше? (відкрите запитання) </a:t>
                      </a: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ff660c"/>
                      </a:solidFill>
                    </a:lnL>
                    <a:lnR w="5760">
                      <a:solidFill>
                        <a:srgbClr val="ff660c"/>
                      </a:solidFill>
                    </a:lnR>
                    <a:lnT w="5760">
                      <a:solidFill>
                        <a:srgbClr val="ff660c"/>
                      </a:solidFill>
                    </a:lnT>
                    <a:lnB w="5760">
                      <a:solidFill>
                        <a:srgbClr val="ff660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4c"/>
                </a:solidFill>
                <a:latin typeface="Tahoma"/>
              </a:rPr>
              <a:t>Анкета (2)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pic>
        <p:nvPicPr>
          <p:cNvPr id="705" name="Picture 9" descr=""/>
          <p:cNvPicPr/>
          <p:nvPr/>
        </p:nvPicPr>
        <p:blipFill>
          <a:blip r:embed="rId1"/>
          <a:stretch/>
        </p:blipFill>
        <p:spPr>
          <a:xfrm>
            <a:off x="6012000" y="5950080"/>
            <a:ext cx="2171520" cy="7189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5591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3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C73D-BEE1-49CF-BFD0-3D988C87B5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Метод та вибірка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619280" y="1703520"/>
            <a:ext cx="7273800" cy="5290920"/>
          </a:xfrm>
          <a:prstGeom prst="rect">
            <a:avLst/>
          </a:prstGeom>
          <a:noFill/>
          <a:ln cap="rnd" w="9360">
            <a:solidFill>
              <a:srgbClr val="ff660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Тип дослідження:</a:t>
            </a: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Регулярне дослідження “Омнібус</a:t>
            </a:r>
            <a:r>
              <a:rPr b="0" lang="uk-UA" sz="1200" spc="-1" strike="noStrike">
                <a:solidFill>
                  <a:srgbClr val="4d4d4d"/>
                </a:solidFill>
                <a:latin typeface="Tahoma"/>
              </a:rPr>
              <a:t>”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Метод:</a:t>
            </a:r>
            <a:r>
              <a:rPr b="0" lang="uk-UA" sz="1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Особисті інтерв’ю вдома у респондента        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Розмір вибірки:</a:t>
            </a:r>
            <a:r>
              <a:rPr b="0" lang="uk-UA" sz="1200" spc="-1" strike="noStrike">
                <a:solidFill>
                  <a:srgbClr val="ff660c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1 000 інтерв’ю з респондентами і віці 15-59 років (населення у  віці 15-59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становить 62.1% від загального населення України і є найбільш активною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частиною споживачів)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Похибка вибірки:</a:t>
            </a:r>
            <a:r>
              <a:rPr b="1" lang="uk-UA" sz="1200" spc="-1" strike="noStrike">
                <a:solidFill>
                  <a:srgbClr val="ff9442"/>
                </a:solidFill>
                <a:latin typeface="Tahoma"/>
              </a:rPr>
              <a:t>         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Максимальна похибка вибірки у дослідженні (без врахування дизайн-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                                     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ефекту) складає 3,1%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Метод відбору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респондента:</a:t>
            </a: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Випадковий маршрутний відбір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	</a:t>
            </a: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 </a:t>
            </a: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Час проведення </a:t>
            </a:r>
            <a:br>
              <a:rPr sz="1200"/>
            </a:b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опитування:</a:t>
            </a:r>
            <a:r>
              <a:rPr b="0" lang="uk-UA" sz="1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0099"/>
                </a:solidFill>
                <a:latin typeface="Tahoma"/>
              </a:rPr>
              <a:t>П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ерша хвиля - з 12 по 27 </a:t>
            </a:r>
            <a:r>
              <a:rPr b="0" lang="ru-RU" sz="1200" spc="-1" strike="noStrike">
                <a:solidFill>
                  <a:srgbClr val="00334c"/>
                </a:solidFill>
                <a:latin typeface="Tahoma"/>
              </a:rPr>
              <a:t>в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ересня 2006 року;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                                    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Друга хвиля – з 08 по 22 грудня 2006 року;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                                    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Третя хвиля – з 10 по 24 березня 2006 року; 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4c"/>
                </a:solidFill>
                <a:latin typeface="Tahoma"/>
              </a:rPr>
              <a:t>                                     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Четверта хвиля – з 11 по 25 червня 2007 року;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                                    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П</a:t>
            </a:r>
            <a:r>
              <a:rPr b="0" lang="en-US" sz="1200" spc="-1" strike="noStrike">
                <a:solidFill>
                  <a:srgbClr val="00334c"/>
                </a:solidFill>
                <a:latin typeface="Tahoma"/>
              </a:rPr>
              <a:t>’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ята хвиля – з 10 по 22 грудня 2007 року</a:t>
            </a:r>
            <a:r>
              <a:rPr b="0" lang="uk-UA" sz="1200" spc="-1" strike="noStrike">
                <a:solidFill>
                  <a:srgbClr val="00334c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Arial"/>
              </a:rPr>
              <a:t>                                         </a:t>
            </a:r>
            <a:r>
              <a:rPr b="0" lang="en-US" sz="1200" spc="-1" strike="noStrike">
                <a:solidFill>
                  <a:srgbClr val="00334c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Шоста хвиля – з </a:t>
            </a:r>
            <a:r>
              <a:rPr b="0" lang="en-US" sz="1200" spc="-1" strike="noStrike">
                <a:solidFill>
                  <a:srgbClr val="00334c"/>
                </a:solidFill>
                <a:latin typeface="Tahoma"/>
              </a:rPr>
              <a:t>17 </a:t>
            </a:r>
            <a:r>
              <a:rPr b="0" lang="ru-RU" sz="1200" spc="-1" strike="noStrike">
                <a:solidFill>
                  <a:srgbClr val="00334c"/>
                </a:solidFill>
                <a:latin typeface="Tahoma"/>
              </a:rPr>
              <a:t>по 31 березня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4c"/>
                </a:solidFill>
                <a:latin typeface="Tahoma"/>
              </a:rPr>
              <a:t>2008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року.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Менеджер</a:t>
            </a:r>
            <a:r>
              <a:rPr b="1" lang="ru-RU" sz="1200" spc="-1" strike="noStrike">
                <a:solidFill>
                  <a:srgbClr val="ff660c"/>
                </a:solidFill>
                <a:latin typeface="Tahoma"/>
              </a:rPr>
              <a:t>и</a:t>
            </a:r>
            <a:r>
              <a:rPr b="1" lang="uk-UA" sz="1200" spc="-1" strike="noStrike">
                <a:solidFill>
                  <a:srgbClr val="ff660c"/>
                </a:solidFill>
                <a:latin typeface="Tahoma"/>
              </a:rPr>
              <a:t> проекту:</a:t>
            </a:r>
            <a:r>
              <a:rPr b="0" lang="uk-UA" sz="1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Інна Волосевич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Tel.: +230 02 60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	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E-mail: </a:t>
            </a:r>
            <a:r>
              <a:rPr b="0" lang="uk-UA" sz="1200" spc="-1" strike="noStrike" u="sng">
                <a:solidFill>
                  <a:srgbClr val="8aa1ab"/>
                </a:solidFill>
                <a:uFillTx/>
                <a:latin typeface="Tahoma"/>
                <a:hlinkClick r:id="rId1"/>
              </a:rPr>
              <a:t>Inna.Volosevych@gfk.ua</a:t>
            </a: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5867280" y="6138720"/>
            <a:ext cx="2171880" cy="719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3"/>
          <a:stretch/>
        </p:blipFill>
        <p:spPr>
          <a:xfrm>
            <a:off x="0" y="1695600"/>
            <a:ext cx="1547640" cy="1095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"/>
          <p:cNvPicPr/>
          <p:nvPr/>
        </p:nvPicPr>
        <p:blipFill>
          <a:blip r:embed="rId4"/>
          <a:stretch/>
        </p:blipFill>
        <p:spPr>
          <a:xfrm>
            <a:off x="179280" y="6581880"/>
            <a:ext cx="5591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3"/>
          <p:cNvSpPr/>
          <p:nvPr/>
        </p:nvSpPr>
        <p:spPr>
          <a:xfrm>
            <a:off x="8763120" y="1523880"/>
            <a:ext cx="380880" cy="228600"/>
          </a:xfrm>
          <a:prstGeom prst="rect">
            <a:avLst/>
          </a:prstGeom>
          <a:solidFill>
            <a:srgbClr val="ff6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360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4DD1-573D-4996-BCE4-1AB1859AD0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Примітки до дослідження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619280" y="1792440"/>
            <a:ext cx="7273800" cy="4486680"/>
          </a:xfrm>
          <a:prstGeom prst="rect">
            <a:avLst/>
          </a:prstGeom>
          <a:noFill/>
          <a:ln cap="rnd" w="9360">
            <a:solidFill>
              <a:srgbClr val="ff660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624"/>
              </a:spcBef>
              <a:buClr>
                <a:srgbClr val="4d4d4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334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334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334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334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334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334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334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334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334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334c"/>
                </a:solidFill>
                <a:latin typeface="Tahoma"/>
              </a:rPr>
              <a:t>Оскільки розмір соціальних та демографічних категорій (за статтю, віком, регіонами, часткою покупців книжок, жанрами куплених книжок тощо) респондентів приблизно однаковий в усіх хвилях опитування, наводиться кількість респондентів лише за останню хвилю. 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334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334c"/>
                </a:solidFill>
                <a:latin typeface="Tahoma"/>
              </a:rPr>
              <a:t>Статистична значущість відмінності між даними вираховується з ймовірністю не менше 90%. 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334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334c"/>
                </a:solidFill>
                <a:latin typeface="Tahoma"/>
              </a:rPr>
              <a:t>Регіон “Центр” об'єднує Центральний та Північний регіони (не враховуючи Києва). Така трансформація зумовлена надто низькою наповненістю покупців книжок з цих регіонів для статистичного аналізу їх окремо. 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334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334c"/>
                </a:solidFill>
                <a:latin typeface="Tahoma"/>
              </a:rPr>
              <a:t>“</a:t>
            </a:r>
            <a:r>
              <a:rPr b="0" lang="uk-UA" sz="1100" spc="-1" strike="noStrike">
                <a:solidFill>
                  <a:srgbClr val="00334c"/>
                </a:solidFill>
                <a:latin typeface="Tahoma"/>
              </a:rPr>
              <a:t>Покупцями книжок” у звіті названо тих респондентів, які купили хоча б 1 книжку протягом останніх трьох місяців. Таким чином, скажімо, “частка покупців книжок у березні 2007” позначає респондентів, які купили хоча б 1 книжку протягом січня-березня 2007. </a:t>
            </a:r>
            <a:endParaRPr b="0" lang="en-US" sz="1100" spc="-1" strike="noStrike">
              <a:solidFill>
                <a:srgbClr val="00334c"/>
              </a:solidFill>
              <a:latin typeface="Times New Roman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5940360" y="6138720"/>
            <a:ext cx="217188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0" y="1773360"/>
            <a:ext cx="1547640" cy="1095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3"/>
          <a:stretch/>
        </p:blipFill>
        <p:spPr>
          <a:xfrm>
            <a:off x="179280" y="6381720"/>
            <a:ext cx="5591160" cy="2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1763640" y="1916280"/>
          <a:ext cx="5688000" cy="2074680"/>
        </p:xfrm>
        <a:graphic>
          <a:graphicData uri="http://schemas.openxmlformats.org/drawingml/2006/table">
            <a:tbl>
              <a:tblPr/>
              <a:tblGrid>
                <a:gridCol w="1368360"/>
                <a:gridCol w="4319640"/>
              </a:tblGrid>
              <a:tr h="41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Регіон</a:t>
                      </a:r>
                      <a:endParaRPr b="0" lang="en-US" sz="11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Області</a:t>
                      </a:r>
                      <a:endParaRPr b="0" lang="en-US" sz="11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Північний</a:t>
                      </a:r>
                      <a:endParaRPr b="0" lang="en-US" sz="11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Житомирська, Київська, Сумська, Чернігівська </a:t>
                      </a:r>
                      <a:endParaRPr b="0" lang="en-US" sz="11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Західний</a:t>
                      </a:r>
                      <a:endParaRPr b="0" lang="en-US" sz="11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олинська, Закарпатська, Івано-Франківська, Львівська, </a:t>
                      </a:r>
                      <a:endParaRPr b="0" lang="en-US" sz="11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Рівненська, Тернопільська, Чернівецька</a:t>
                      </a:r>
                      <a:endParaRPr b="0" lang="en-US" sz="11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Центральний</a:t>
                      </a:r>
                      <a:endParaRPr b="0" lang="en-US" sz="11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Вінницька, Кіровоградська, Полтавська, Черкаська</a:t>
                      </a:r>
                      <a:endParaRPr b="0" lang="en-US" sz="11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Південний</a:t>
                      </a:r>
                      <a:endParaRPr b="0" lang="en-US" sz="11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АР Крим, Миколаївська, Одеська, Херсонська</a:t>
                      </a:r>
                      <a:endParaRPr b="0" lang="en-US" sz="11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Східний</a:t>
                      </a:r>
                      <a:endParaRPr b="0" lang="en-US" sz="11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4c"/>
                          </a:solidFill>
                          <a:latin typeface="Tahoma"/>
                        </a:rPr>
                        <a:t>Донецька, Запорізька, Луганська, Харківська</a:t>
                      </a:r>
                      <a:endParaRPr b="0" lang="en-US" sz="1100" spc="-1" strike="noStrike">
                        <a:solidFill>
                          <a:srgbClr val="0033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0" y="6781680"/>
            <a:ext cx="9144000" cy="0"/>
          </a:xfrm>
          <a:prstGeom prst="line">
            <a:avLst/>
          </a:prstGeom>
          <a:ln w="9360">
            <a:solidFill>
              <a:srgbClr val="ff6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4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43280" y="2349360"/>
            <a:ext cx="720072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a8"/>
                </a:solidFill>
                <a:latin typeface="Tahoma"/>
              </a:rPr>
              <a:t>Основн</a:t>
            </a:r>
            <a:r>
              <a:rPr b="1" lang="uk-UA" sz="3200" spc="-1" strike="noStrike">
                <a:solidFill>
                  <a:srgbClr val="ffcca8"/>
                </a:solidFill>
                <a:latin typeface="Tahoma"/>
              </a:rPr>
              <a:t>і висновки за рік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  <p:grpSp>
        <p:nvGrpSpPr>
          <p:cNvPr id="219" name="Group 5"/>
          <p:cNvGrpSpPr/>
          <p:nvPr/>
        </p:nvGrpSpPr>
        <p:grpSpPr>
          <a:xfrm>
            <a:off x="324000" y="2060640"/>
            <a:ext cx="1439640" cy="1439640"/>
            <a:chOff x="324000" y="2060640"/>
            <a:chExt cx="1439640" cy="1439640"/>
          </a:xfrm>
        </p:grpSpPr>
        <p:sp>
          <p:nvSpPr>
            <p:cNvPr id="220" name="AutoShape 6"/>
            <p:cNvSpPr/>
            <p:nvPr/>
          </p:nvSpPr>
          <p:spPr>
            <a:xfrm>
              <a:off x="324000" y="2060640"/>
              <a:ext cx="1439640" cy="1439640"/>
            </a:xfrm>
            <a:prstGeom prst="pie">
              <a:avLst/>
            </a:prstGeom>
            <a:solidFill>
              <a:srgbClr val="ff9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221" name="Rectangle 7"/>
            <p:cNvSpPr/>
            <p:nvPr/>
          </p:nvSpPr>
          <p:spPr>
            <a:xfrm>
              <a:off x="789120" y="2346120"/>
              <a:ext cx="6141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600" spc="-1" strike="noStrike">
                  <a:solidFill>
                    <a:srgbClr val="ffe1cd"/>
                  </a:solidFill>
                  <a:latin typeface="Tahoma"/>
                </a:rPr>
                <a:t>2</a:t>
              </a:r>
              <a:endParaRPr b="0" lang="en-US" sz="56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4c"/>
                </a:solidFill>
                <a:latin typeface="Tahoma"/>
              </a:rPr>
              <a:t>Основні тенденції на книжковому ринку за рік (березень 2007 – березень 2008)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82000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Частка респондентів (у віці 15-59 років), що особисто купували принаймні 1 книжку протягом останніх 3 місяців, зменшилась протягом року на 4% і становить 36% у березні 2008 року.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Тенденція до зниження </a:t>
            </a:r>
            <a:r>
              <a:rPr b="0" lang="ru-RU" sz="1200" spc="-1" strike="noStrike">
                <a:solidFill>
                  <a:srgbClr val="00334c"/>
                </a:solidFill>
                <a:latin typeface="Tahoma"/>
              </a:rPr>
              <a:t>частки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покупців книжок була зафіксована, починаючи з вересня 2006. Щокварталу спад становив близько 2-3%, поступово зменшивши частку покупців від 42% у вересні 2006 до 34% у грудні 2007. У березні 2008 зниження частки покупців книжок припинилося. 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     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Зниження </a:t>
            </a:r>
            <a:r>
              <a:rPr b="0" lang="ru-RU" sz="1200" spc="-1" strike="noStrike">
                <a:solidFill>
                  <a:srgbClr val="00334c"/>
                </a:solidFill>
                <a:latin typeface="Tahoma"/>
              </a:rPr>
              <a:t>частки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покупців книжок з вересня 2006 по червень 2007 скоріше за все пояснюється 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сезонністю,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а з червня 2007 по грудень 2007 - 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різким подорожчанням книжок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(середня вартість купленої книги у грудні 2006 становила 21 грн., у червні 2007 – 23,9 грн., а у грудні 2008 – вже 29,8 грн.). При цьому, у березні 2008 ціна придбаної художньої та навчальної літератури навіть зменшилася на 4-5 гривень – і, відповідно, припинилося скорочення частки покупців книжок. 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Зменшення частки покупців книжок переважно в основному відбулося за рахунок 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активної частини населення у віці 20-39 років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, що проживає в містах з населенням 50-500 тис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Однією з причин пояснення меншої купівлі книг може бути також зниження інтересу до книжок,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що в свою чергу також може пояснюватись економічними причинами.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Серед не покупців книжок з кожною хвилею дослідження збільшується кількість тих, хто зазначав відсутність потреби у книжках/цікавості до книжок (з 49% у березні 2007 до 56% у березні 2008). Опитані рідше, ніж у червні 2007, називали рекламу як одну з причин купівлі книги, що може свідчити про меншу увагу до книг в публічному просторі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За рік відбулося також статистично значуще зниження середньої кількості придбаних книжок: з 3,1 у березні 2007 до 2,7 у березні 2008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Поступово з</a:t>
            </a:r>
            <a:r>
              <a:rPr b="1" lang="ru-RU" sz="1200" spc="-1" strike="noStrike">
                <a:solidFill>
                  <a:srgbClr val="00334c"/>
                </a:solidFill>
                <a:latin typeface="Tahoma"/>
              </a:rPr>
              <a:t>б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ільшується кількість книжок, придбаних українською мовою: порівнюючи з минулим роком їх кількість зросла з 35% до 40%. Однак у березні 2008 частка придбаних україномовних книжок зменшилась порівняно з груднем 2007 з 46% до 40%. </a:t>
            </a: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Це може пояснюватися необхідністю купувати навчальні книги українською мовою восени, а разом зі спадом попиту на навчальні книжки знижується частка куплених       україномовних книг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</p:txBody>
      </p:sp>
      <p:pic>
        <p:nvPicPr>
          <p:cNvPr id="224" name="Rectangle 6" descr=""/>
          <p:cNvPicPr/>
          <p:nvPr/>
        </p:nvPicPr>
        <p:blipFill>
          <a:blip r:embed="rId1"/>
          <a:stretch/>
        </p:blipFill>
        <p:spPr>
          <a:xfrm>
            <a:off x="5651640" y="6067440"/>
            <a:ext cx="2171520" cy="79056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6" descr=""/>
          <p:cNvPicPr/>
          <p:nvPr/>
        </p:nvPicPr>
        <p:blipFill>
          <a:blip r:embed="rId2"/>
          <a:stretch/>
        </p:blipFill>
        <p:spPr>
          <a:xfrm>
            <a:off x="900000" y="6524640"/>
            <a:ext cx="422928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5"/>
          <p:cNvGrpSpPr/>
          <p:nvPr/>
        </p:nvGrpSpPr>
        <p:grpSpPr>
          <a:xfrm>
            <a:off x="324000" y="2060640"/>
            <a:ext cx="1439640" cy="1439640"/>
            <a:chOff x="324000" y="2060640"/>
            <a:chExt cx="1439640" cy="1439640"/>
          </a:xfrm>
        </p:grpSpPr>
        <p:sp>
          <p:nvSpPr>
            <p:cNvPr id="227" name="AutoShape 6"/>
            <p:cNvSpPr/>
            <p:nvPr/>
          </p:nvSpPr>
          <p:spPr>
            <a:xfrm>
              <a:off x="324000" y="2060640"/>
              <a:ext cx="1439640" cy="1439640"/>
            </a:xfrm>
            <a:prstGeom prst="pie">
              <a:avLst/>
            </a:prstGeom>
            <a:solidFill>
              <a:srgbClr val="ff9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>
              <a:off x="789120" y="2346120"/>
              <a:ext cx="6141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600" spc="-1" strike="noStrike">
                  <a:solidFill>
                    <a:srgbClr val="ffe1cd"/>
                  </a:solidFill>
                  <a:latin typeface="Tahoma"/>
                </a:rPr>
                <a:t>3</a:t>
              </a:r>
              <a:endParaRPr b="0" lang="en-US" sz="5600" spc="-1" strike="noStrike">
                <a:solidFill>
                  <a:srgbClr val="00334c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763280" y="2421000"/>
            <a:ext cx="8610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a8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cca8"/>
                </a:solidFill>
                <a:latin typeface="Tahoma"/>
              </a:rPr>
              <a:t>Характеристики покупців книжок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a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334c"/>
                </a:solidFill>
                <a:latin typeface="Tahoma"/>
              </a:rPr>
              <a:t>Характеристики покупців книжок (1)</a:t>
            </a:r>
            <a:endParaRPr b="0" lang="en-US" sz="2200" spc="-1" strike="noStrike">
              <a:solidFill>
                <a:srgbClr val="00334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058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aa1ab"/>
                </a:solidFill>
                <a:latin typeface="Tahoma"/>
              </a:rPr>
              <a:t>      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Річна динаміка:</a:t>
            </a:r>
            <a:r>
              <a:rPr b="1" lang="uk-UA" sz="1200" spc="-1" strike="noStrike">
                <a:solidFill>
                  <a:srgbClr val="8aa1ab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aa1ab"/>
                </a:solidFill>
                <a:latin typeface="Tahoma"/>
              </a:rPr>
              <a:t>       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Зменшення частки покупців книжок у березні 2008 року у порівнянні із березнем 2008 року з 40% до 36% відбулося за рахунок наступних соціо-демографічних категорій: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Опитаних з середнім та вище рівнем добробуту;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Респондентів 20-39 років;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Працюючих респондентів та студентів;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Респондентів із Західного та Східного регіонів;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Респондентів, в сім</a:t>
            </a:r>
            <a:r>
              <a:rPr b="0" lang="en-US" sz="1200" spc="-1" strike="noStrike">
                <a:solidFill>
                  <a:srgbClr val="00334c"/>
                </a:solidFill>
                <a:latin typeface="Tahoma"/>
              </a:rPr>
              <a:t>’</a:t>
            </a:r>
            <a:r>
              <a:rPr b="0" lang="ru-RU" sz="1200" spc="-1" strike="noStrike">
                <a:solidFill>
                  <a:srgbClr val="00334c"/>
                </a:solidFill>
                <a:latin typeface="Tahoma"/>
              </a:rPr>
              <a:t>ях яких є діти до 16 років;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4c"/>
                </a:solidFill>
                <a:latin typeface="Tahoma"/>
              </a:rPr>
              <a:t>Жителів міст з населенням 51-500 тисяч людей.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       </a:t>
            </a:r>
            <a:r>
              <a:rPr b="1" lang="uk-UA" sz="1200" spc="-1" strike="noStrike">
                <a:solidFill>
                  <a:srgbClr val="00334c"/>
                </a:solidFill>
                <a:latin typeface="Tahoma"/>
              </a:rPr>
              <a:t>Зменшення середньої кількості придбаних книжок у березні 2008 року у порівнянні із березнем 2007 року з 3,1 до 2,7 відбулося за  рахунок наступних соціо-демографічних категорій: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Чоловіків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33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Респондентів до 29 років і респондентів 50-59 років.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4c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4c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940360" y="6138720"/>
            <a:ext cx="2171880" cy="719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79280" y="6453360"/>
            <a:ext cx="5591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6:15:36Z</dcterms:created>
  <dc:creator>teti</dc:creator>
  <dc:description/>
  <dc:language>en-US</dc:language>
  <cp:lastModifiedBy>inna_v</cp:lastModifiedBy>
  <cp:lastPrinted>2002-07-10T14:22:10Z</cp:lastPrinted>
  <dcterms:modified xsi:type="dcterms:W3CDTF">2008-05-08T14:49:42Z</dcterms:modified>
  <cp:revision>570</cp:revision>
  <dc:subject/>
  <dc:title>Topic</dc:title>
</cp:coreProperties>
</file>